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DDFD-3E36-47DD-B9C1-246E7D68E6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7C0E-CFF9-47FA-A2B9-C158626023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D18C-60DF-4814-A4F8-3723587234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5D7B-F37A-4C96-BABA-A93E1E086B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DA66-267E-49F2-A48F-538A9F2C28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8A62-2F3A-4F48-8D3A-D39DF089EF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F561-A3FE-4AAF-9880-DC0424DA04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8AAB-DBB0-4C01-A6F4-04361C0B25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B14-EC44-4386-BF4C-62F870E7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0E3-2C84-4F44-BB61-445FFBF4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F47-9186-4871-8B51-518693EB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CB3-3A63-484D-B8C3-10A92340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EABC-17AF-4C9F-8483-45071620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A71B-FC51-4120-935F-78EB16B1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D6FD-2AE1-406C-8E15-80E30898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1BE8-03E3-4F82-AAE7-080219FA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B63E-18AC-4C8D-BFB5-D4F7257C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3088-716A-4EDF-AED3-7BAF847E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F6D7-9D04-4E6B-9414-1961CA6E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7B0-ADC0-45F1-8ED2-1B5A0ACE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B232-D591-4977-966C-7547A95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44D6-1CCF-4FCE-BEF0-BBAFA117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FBA6-C107-4298-8689-64B3522B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89CA-A7B6-488A-9569-CC100F19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88D9-8D8E-45BA-B717-B04D748F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53810-151F-4C15-BB6F-6CA2AD16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2684-0720-4379-B692-080D0B5E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563D3-A855-4D8A-A359-4E5704D6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E60C7-5788-4F39-A45C-0FB2001D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12F88-F898-400F-83E2-8D0E1F76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52B-C573-4208-B565-DA9BF038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6912E-FE56-4ABD-B62C-D3CCFC8B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00D8-2124-4C6F-86C5-C1BE1B65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EFC6-41A8-4EEF-84AE-2E2F6EE3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7D7B-193A-45CD-9967-D546FC8C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B358-BBF8-4EAA-99FB-9CE4F473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B6FF8-43FA-4FBC-AF3E-7039247A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B8FC-7983-463C-8409-F6DFF178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940C4-BBC3-431B-ADBA-3B19E71E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95E56-621C-4E61-83E0-A8BF563E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F2516-EA27-4E97-994A-3EB3778B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0BA-9125-41C7-AF1A-E41C584E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6D672-4974-4395-86B2-4D136109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7F224-367F-41B7-A88E-86442334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12D4-9F05-42F8-8CDD-C6F91BDF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03F26-207B-4187-8981-313D433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F45AF-735A-40F3-A524-033EE5A3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8542-C341-497B-9C24-EF972E83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0C428-DC5F-4D13-A73F-B1AD429F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9473C-3268-4E02-AA1F-4758CF2F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625E8-1C52-4053-B01A-4ECEF62A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339-3721-4094-BD54-AFEDFDA8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54B-B29A-4627-A6FA-61015615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7C4-E8F0-45ED-AC67-360FABCD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B19-46B3-41A6-96A7-0D0213E4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E7C-A66F-40CC-9D7D-FCE2A39B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8585-CD69-4BB9-A3EE-4E47DF7A8D78}" type="datetime">
              <a:rPr b="0" lang="nl-NL" sz="9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AF6A-A91D-405D-B5B9-A741D0C13455}" type="slidenum">
              <a:rPr b="0" lang="nl-NL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4C3A-1B16-4107-8813-98675412F6B3}" type="datetime">
              <a:rPr b="0" lang="nl-NL" sz="9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4A52-0E4B-4352-B306-093548184F32}" type="slidenum">
              <a:rPr b="0" lang="nl-NL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7D39-DE45-4C45-9BA5-14F56AEE50CB}" type="datetime">
              <a:rPr b="0" lang="nl-NL" sz="9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AFB6-8164-43B4-91E5-3A8F8B631321}" type="slidenum">
              <a:rPr b="0" lang="nl-NL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44B5-1BFB-4DCB-ABCB-882C47E5CF84}" type="datetime">
              <a:rPr b="0" lang="nl-NL" sz="9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D53E-D6B3-4B0C-BD6E-E604C8A4F3B1}" type="slidenum">
              <a:rPr b="0" lang="nl-NL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lans.nl/" TargetMode="External"/><Relationship Id="rId2" Type="http://schemas.openxmlformats.org/officeDocument/2006/relationships/hyperlink" Target="https://www.youtube.com/watch?v=GnVJx2QKWkE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  <a:ea typeface="Calibri"/>
              </a:rPr>
              <a:t>Eten en drinken met dem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gency FB"/>
                <a:ea typeface="Calibri"/>
              </a:rPr>
              <a:t>In deze les leer j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gency FB"/>
                <a:ea typeface="Calibri"/>
              </a:rPr>
              <a:t>Herkennen van probleemgedrag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gency FB"/>
                <a:ea typeface="Calibri"/>
              </a:rPr>
              <a:t>Stappenplan t.b.v. bevorderen en verbeteren eetgedrag bij ouderen met dem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5364000" y="4292640"/>
            <a:ext cx="3319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Oorzaken niet kunnen e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Afbeelding 1" descr=""/>
          <p:cNvPicPr/>
          <p:nvPr/>
        </p:nvPicPr>
        <p:blipFill>
          <a:blip r:embed="rId1"/>
          <a:stretch/>
        </p:blipFill>
        <p:spPr>
          <a:xfrm>
            <a:off x="887400" y="1484280"/>
            <a:ext cx="5791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120" y="4042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Oorzaken niet kunnen e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7640" y="2060280"/>
            <a:ext cx="4040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De verzorgen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1200" y="2517840"/>
            <a:ext cx="385272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andelt niet adequaat: loopt weg tijdens het hel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Verliest de aandacht tijdens het hel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aalt het eten (voortijdig) we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Biedt te volle lepels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De consistentie van het eten is niet geschik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Er is te veel ke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Afbeelding 1" descr=""/>
          <p:cNvPicPr/>
          <p:nvPr/>
        </p:nvPicPr>
        <p:blipFill>
          <a:blip r:embed="rId1"/>
          <a:stretch/>
        </p:blipFill>
        <p:spPr>
          <a:xfrm>
            <a:off x="4354560" y="2997360"/>
            <a:ext cx="44467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64680" y="279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Oorzaken niet willen e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65040" y="1413000"/>
            <a:ext cx="3919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Depressieve klachten, somber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bijwerking van medicijn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De zorgvrager wil niet geholpen worden met eten of drin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uit schaam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wens om aan de eigen zelfstandigheid vast te houd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Het eten bevalt ni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de zorgvrager heeft liever iets ander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het eten ziet er niet lekker ui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de zorgvrager vindt het eten niet lekk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het eten is te warm of te kou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De zorgvrager heeft een doodswe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Afbeelding 5" descr=""/>
          <p:cNvPicPr/>
          <p:nvPr/>
        </p:nvPicPr>
        <p:blipFill>
          <a:blip r:embed="rId1"/>
          <a:stretch/>
        </p:blipFill>
        <p:spPr>
          <a:xfrm>
            <a:off x="4457880" y="2313000"/>
            <a:ext cx="4510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09120" y="1484280"/>
            <a:ext cx="6348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herkent het eten ni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herkent gevoelens van honger of dorst ni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ziet de verzorgende als een vreem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begrijpt de aanwijzingen van de verzorgende ni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Het is mogelijk dat de zorgvrager de prikkels die te maken hebben met eten of drinken niet waarneemt, bijvoorbeeld omdat hij slecht ziet of ruikt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Het is ook mogelijk dat de zorgvrager geuren, voorwerpen of personen wel waarneemt, maar niet herkent. (agnosie)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begrijpt niet wat er van hem wordt verwa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Afbeelding 2" descr=""/>
          <p:cNvPicPr/>
          <p:nvPr/>
        </p:nvPicPr>
        <p:blipFill>
          <a:blip r:embed="rId1"/>
          <a:stretch/>
        </p:blipFill>
        <p:spPr>
          <a:xfrm>
            <a:off x="2916360" y="4437000"/>
            <a:ext cx="23907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Vijf stappenpla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Probleem vaststellen </a:t>
            </a: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(signaleren, benoemen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Gegevens verzamelen </a:t>
            </a: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(inventariseren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Nader onderzoek </a:t>
            </a: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(observeren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Plan van aanpak  </a:t>
            </a: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(beschrijven)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Evaluatie en nieuwe acties beschrijven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Vanaf stap 5 gaat stap 1 weer in werking…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alibri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Agency FB"/>
              </a:rPr>
              <a:t>Stap 1 Probleem vaststelle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Probeer de bewoner toch iets te laten eten, maar dring niet onnodig aan. Stel in overleg met je collega’s vast of er sprake is van structureel afweergedrag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Geen resultaat?  Stap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01400" y="1341360"/>
            <a:ext cx="40417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Structureel afweergedrag?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Meer dan 24 uur niets drin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Meer dan 48 uur niets e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Meerdere keren per week afweergedrag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doe 2/3 pogin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Bied opnieuw aan na 5/10 minu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Bied iets anders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08000" y="3384720"/>
            <a:ext cx="760680" cy="720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2"/>
          <a:stretch/>
        </p:blipFill>
        <p:spPr>
          <a:xfrm>
            <a:off x="3987720" y="450864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-23004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Stap 2 Gegevens verzam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981000"/>
            <a:ext cx="308772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Overleg met de bewoner, collega-verzorgenden, de familie en de arts, en probeer erachter te komen wat de oorzaak van het afweergedrag kan zij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oud minimaal twee dagen een voedings- en vochtlijst bij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Oorzaak onbekend? STAP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148000" y="977400"/>
            <a:ext cx="33843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Overleg met and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Start voeding en vochtlijs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Vastleggen in zorgdossier (bijv. afspraken met arts en familie  over niet ingrijpen comfortbehandel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3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773360" y="2971800"/>
            <a:ext cx="760320" cy="647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773360" y="4626000"/>
            <a:ext cx="760320" cy="647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4067280" y="4554360"/>
            <a:ext cx="86508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Stap 3 Nader onderzoe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1413000"/>
            <a:ext cx="308772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Als de oorzaak van het afweergedrag niet (meteen) duidelijk is, observeer en beschrijf dan het afweergedrag bij eten en drinken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Bespreek je bevindingen in een MDO/bewonersbespreking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Oorzaak bekend: stap 4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13200" y="2168280"/>
            <a:ext cx="30895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Observeren en beschrijven van het gedrag (wat zie je, wanneer, andere verschijnsele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Overleg tijdens MDO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Bevindingen en afspraken noteren in zorgdossie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    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692360" y="2492280"/>
            <a:ext cx="758880" cy="684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692360" y="3973680"/>
            <a:ext cx="758880" cy="823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3622680" y="2243160"/>
            <a:ext cx="855720" cy="592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3639960" y="4834080"/>
            <a:ext cx="8557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Stap 4 Plan van aanpa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5000" y="1341360"/>
            <a:ext cx="430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Oorzaak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olg  adviezen /voorschriften op zoals die zijn vastgelegd in het zorgdoss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Niet ingrijpen:                           Wel ingrijp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Comfortbeleid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aanpas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inte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communic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oeding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1560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maaltijdambiance     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146200" y="990720"/>
            <a:ext cx="3837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Oorzaak on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olg  adviezen /voorschriften op zoals die zijn vastgelegd in het zorgdoss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Niet ingrijpen: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Wel ingrijp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Comfortbeleid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Gerichte inter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6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38240" y="1811160"/>
            <a:ext cx="863640" cy="721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689040" y="38894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2627280" y="3905280"/>
            <a:ext cx="720720" cy="476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Users\adkro\Pictures\pijl_onder.gif"/>
          <p:cNvPicPr/>
          <p:nvPr/>
        </p:nvPicPr>
        <p:blipFill>
          <a:blip r:embed="rId4"/>
          <a:stretch/>
        </p:blipFill>
        <p:spPr>
          <a:xfrm>
            <a:off x="6588000" y="161280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Users\adkro\Pictures\pijl_onder.gif"/>
          <p:cNvPicPr/>
          <p:nvPr/>
        </p:nvPicPr>
        <p:blipFill>
          <a:blip r:embed="rId5"/>
          <a:stretch/>
        </p:blipFill>
        <p:spPr>
          <a:xfrm>
            <a:off x="5508720" y="388944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C:\Users\adkro\Pictures\pijl_onder.gif"/>
          <p:cNvPicPr/>
          <p:nvPr/>
        </p:nvPicPr>
        <p:blipFill>
          <a:blip r:embed="rId6"/>
          <a:stretch/>
        </p:blipFill>
        <p:spPr>
          <a:xfrm>
            <a:off x="7596360" y="3905280"/>
            <a:ext cx="64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Stap 5 Evalu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95280" y="1864800"/>
            <a:ext cx="41720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astleggen in zorgdoss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Nee       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terug naar stap 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comfortbeleid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4000" y="1670040"/>
            <a:ext cx="3087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astleggen in zorgdoss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Ja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: stop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5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523880" y="3057480"/>
            <a:ext cx="758880" cy="719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5508720" y="3975120"/>
            <a:ext cx="758880" cy="719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5508720" y="2697120"/>
            <a:ext cx="758880" cy="720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5599080" y="5253120"/>
            <a:ext cx="576360" cy="298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5"/>
          <a:stretch/>
        </p:blipFill>
        <p:spPr>
          <a:xfrm>
            <a:off x="5599080" y="5683320"/>
            <a:ext cx="576360" cy="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1246320"/>
            <a:ext cx="317808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gency FB"/>
                <a:ea typeface="Calibri"/>
              </a:rPr>
              <a:t>Wat betekent eten voor jou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Picture 6" descr="Afbeeldingsresultaat voor gezamenlijk eten culturen"/>
          <p:cNvPicPr/>
          <p:nvPr/>
        </p:nvPicPr>
        <p:blipFill>
          <a:blip r:embed="rId1"/>
          <a:srcRect l="0" t="9515" r="0" b="0"/>
          <a:stretch/>
        </p:blipFill>
        <p:spPr>
          <a:xfrm>
            <a:off x="3780000" y="189000"/>
            <a:ext cx="479088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Opdracht 1: Kookclub Beukenr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480" y="5400720"/>
            <a:ext cx="3818160" cy="11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gency FB"/>
              </a:rPr>
              <a:t>http://www.youtube.com/watch?v=V6YBAbNr4Q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480" y="1716120"/>
            <a:ext cx="72518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Welke interventies worden toegepast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Hoe beleven de leden van de kookclub de activiteit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Hoe vind je dat de bewoners begeleid worden bij deze activiteit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Wat is het effect van deze activiteit op de bewoners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3" name="Picture 3" descr="C:\Users\adkro\Desktop\untitled.bmp"/>
          <p:cNvPicPr/>
          <p:nvPr/>
        </p:nvPicPr>
        <p:blipFill>
          <a:blip r:embed="rId1"/>
          <a:stretch/>
        </p:blipFill>
        <p:spPr>
          <a:xfrm>
            <a:off x="4627440" y="3975120"/>
            <a:ext cx="32115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Agency FB"/>
              </a:rPr>
              <a:t>Opdracht 2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gency FB"/>
              </a:rPr>
              <a:t>werk het vijfstappenplan uit met een casu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5" name="Diagram 4" descr=""/>
          <p:cNvPicPr/>
          <p:nvPr/>
        </p:nvPicPr>
        <p:blipFill>
          <a:blip r:embed="rId1"/>
          <a:stretch/>
        </p:blipFill>
        <p:spPr>
          <a:xfrm>
            <a:off x="1262160" y="2341440"/>
            <a:ext cx="580392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gency FB"/>
                <a:ea typeface="Calibri"/>
              </a:rPr>
              <a:t>Gezond oud wor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Belang van goede voedin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Voeding als basisbehoeft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Geven van eten en drinken is een teken van liefde”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Ambianc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2" descr="C:\Users\adkro\Desktop\images.jpg"/>
          <p:cNvPicPr/>
          <p:nvPr/>
        </p:nvPicPr>
        <p:blipFill>
          <a:blip r:embed="rId1"/>
          <a:stretch/>
        </p:blipFill>
        <p:spPr>
          <a:xfrm>
            <a:off x="4500720" y="4292640"/>
            <a:ext cx="35985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Ondervoed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Een verstoring van de balans </a:t>
            </a: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tussen opname en behoefte aan voedingsstoff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Oorzak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Verstoorde inname van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Onvoldoende beschikbaarheid van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Afname van spiermass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Titel 3"/>
          <p:cNvSpPr/>
          <p:nvPr/>
        </p:nvSpPr>
        <p:spPr>
          <a:xfrm>
            <a:off x="0" y="136044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  <a:ea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gency FB"/>
                <a:ea typeface="Arial"/>
              </a:rPr>
              <a:t>Laat uw voeding uw medicijn zijn en uw medicijn uw voeding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Afbeelding 1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34005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Cijfers ondervoed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Van de thuiszorgcliënten ouder dan 81 jaar is meer dan 30% ondervo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Slechts een deel van de thuiszorgorganisaties screent alle cliënten op ondervoeding, terwijl screenen juist belangrijk is voor de preventie en behandeling van ondervoed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Ondervoeding komt het meest voor op psycho-geriatrische afdelingen van verpleeghuiz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gency FB"/>
              </a:rPr>
              <a:t>Bron: </a:t>
            </a:r>
            <a:r>
              <a:rPr b="0" lang="en-US" sz="1900" spc="-1" strike="noStrike" u="sng">
                <a:solidFill>
                  <a:srgbClr val="99ca3c"/>
                </a:solidFill>
                <a:uFillTx/>
                <a:latin typeface="Agency FB"/>
                <a:hlinkClick r:id="rId1"/>
              </a:rPr>
              <a:t>www.vilans.n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 u="sng">
                <a:solidFill>
                  <a:srgbClr val="99ca3c"/>
                </a:solidFill>
                <a:uFillTx/>
                <a:latin typeface="Agency FB"/>
                <a:hlinkClick r:id="rId2"/>
              </a:rPr>
              <a:t>Ondervoe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gency FB"/>
              </a:rPr>
              <a:t>Eten en drinken in het zorgpla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65040" y="1600200"/>
            <a:ext cx="737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Zorgleefplan domein:</a:t>
            </a:r>
            <a:r>
              <a:rPr b="1" lang="nl-NL" sz="2600" spc="-1" strike="noStrike">
                <a:solidFill>
                  <a:srgbClr val="000000"/>
                </a:solidFill>
                <a:latin typeface="Agency FB"/>
              </a:rPr>
              <a:t> </a:t>
            </a:r>
            <a:r>
              <a:rPr b="0" i="1" lang="nl-NL" sz="2600" spc="-1" strike="noStrike">
                <a:solidFill>
                  <a:srgbClr val="000000"/>
                </a:solidFill>
                <a:latin typeface="Agency FB"/>
              </a:rPr>
              <a:t>lichamelijk welbevinden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De bewoner mag rekenen op smakelijke hapjes en drankje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Wensen en gewoonten inventariseren en opnemen in het zorgleefpla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Eet- en drinkgewoonten observeren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512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Afweergedra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640" y="1412640"/>
            <a:ext cx="634680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Elk gedrag van de zorgvrager dat eten en drinken bemoeilijkt of onmogelijk maak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4" descr=""/>
          <p:cNvPicPr/>
          <p:nvPr/>
        </p:nvPicPr>
        <p:blipFill>
          <a:blip r:embed="rId1"/>
          <a:stretch/>
        </p:blipFill>
        <p:spPr>
          <a:xfrm>
            <a:off x="2090880" y="2779560"/>
            <a:ext cx="53211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gency FB"/>
              </a:rPr>
              <a:t>Verschijnselen afweergedrag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000" y="1508040"/>
            <a:ext cx="734364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gency FB"/>
              </a:rPr>
              <a:t>De zorgvrager komt niet aan tafel zit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weigert om naar de ruimte te gaan waar gegeten word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loopt weg van taf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weigert verbaal (‘Ik wil niet’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gency FB"/>
              </a:rPr>
              <a:t>De zorgvrager neemt helemaal geen hap of slo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raakt het eten niet a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duwt zijn bord of lepel weg, of (de hand van) de verzorge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bijt op de lep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wendt zijn hoofd a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houdt zijn mond d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houdt zijn kiezen op elk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gency FB"/>
              </a:rPr>
              <a:t>Verschijnselen afweergedrag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000" y="1699920"/>
            <a:ext cx="7272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gency FB"/>
              </a:rPr>
              <a:t>De zorgvrager neemt wel een hap of slok, maar slikt het eten of drinken uiteindelijk niet doo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kokhal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spuugt het eten of drinken 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haalt het eten met zijn handen uit de 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slikt het eten of drinken niet do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06:23Z</dcterms:created>
  <dc:creator>Corien de Gier</dc:creator>
  <dc:description/>
  <dc:language>en-US</dc:language>
  <cp:lastModifiedBy>Charlotte Verhagen</cp:lastModifiedBy>
  <cp:lastPrinted>2016-09-21T11:35:51Z</cp:lastPrinted>
  <dcterms:modified xsi:type="dcterms:W3CDTF">2016-09-21T14:22:54Z</dcterms:modified>
  <cp:revision>121</cp:revision>
  <dc:subject/>
  <dc:title>Eten en drinken</dc:title>
</cp:coreProperties>
</file>