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AE22-A432-41CD-A1C8-55692A9529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664C-76DC-4EF5-9520-630E065065B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EEB5-E950-4DFE-A361-2F1D1EC731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91C5-0DA0-427A-A5F6-09CDC241F0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5498-4D6B-4759-A12D-66B179528A9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DDC0-4B10-4616-A90E-54088DA80A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313F-E8FC-41DC-AA96-80AC5BAE88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ijdelijke aanduiding voor dianummer 3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3EFC-2FA5-4C32-8E34-A779D7A62C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473A-4631-423C-A5FC-647A3762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6AD-A9F2-443B-8815-8D4CEE19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080-A32D-40D1-9622-8872EC207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734-49EE-48BA-9928-BC847766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1244-474B-4869-B6B0-4E8C2F21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46A3-14B1-4B87-9BF0-460D86C2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CD65-A40C-4818-B418-0DAFF444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F6D2-68E4-4AE9-8D9B-327E3ABE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E97B-D49A-4042-903B-FBB54C1F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242A-31B1-4068-8C71-6B259AB0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2B9E-1737-4BAF-B966-BB772F45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73C-C62F-4AD3-A6A7-0B73F80B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7ADA6-AE45-43CD-BF1A-CE6741F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0ABE-C9F9-456C-9962-5E0D35BE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8794-C606-403B-BDB9-365B6426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9510-886B-40DE-B3FD-0A8DB4A7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FCF1-6458-43D4-8266-72B1BCB9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68DE3-F964-42DB-BA14-A5A53050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FCDFC-4574-4354-B84E-DDF1F834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D6A42-D595-4AEA-8D9D-8FF924EF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6F72-2803-40E3-824B-836CB9B9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165FD-9CBA-46D9-8688-525ED1F3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08E-FA48-406F-91BE-2260BDEA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B2BC2-D0E9-430A-9A71-5CB2A083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99336-6D42-4970-ABAD-3927CEF5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365D3-FE53-4260-B141-5C12CB4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8229C-8733-4AB4-8537-F98A959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6A55-7362-4BE3-AEF7-5527185E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C270E-2B27-4F6C-A0E0-E72685A2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DE70-DE4F-43F6-9365-206CD09E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39CC4-20CB-4385-AD5F-F6C78027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DE983-E6A1-441D-97C1-A631C477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CBCCD-D840-47FA-9406-F123BD48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8D73-B0A2-49C9-8A19-D8C3A832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BE2C3-1FA5-4AB6-BCFF-D4E69181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7C7C9-B2D0-4FC0-9CE9-48E09067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02043-797D-4504-B25C-02CEAE44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58B7-09D7-4FFC-8668-C5F97DD9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6AF39-1E66-46A5-BA56-0C1549BF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E458-2887-4325-A0E8-89145ADA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EE1E-1313-4899-A7D3-6773021A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9FE4-464E-4C86-A7EE-6F231542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CAAC-AE87-4159-A0CC-4F7B55DF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413F-10C1-4F83-B4F1-15CB0D78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09D-A011-4676-A240-7290B158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FA5-9AC2-4748-9657-88FE2BF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D40-337D-4F83-A86B-8DC2CDBD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E0F7-0DB9-457A-8874-A826F635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7553-413B-4D4E-8A34-6AC44F9326FF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4B28-E051-40E1-9F6C-BA3E2D68742E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3518-82D2-4C50-8A2C-75E74716817F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0B10-086A-4AAC-A84F-F3A341B0078C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0E5B-D2E9-4142-B9E1-88B334671EB4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F176-6CD4-44C8-853E-D6774C60641A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1510-330B-4C31-BB7B-3A538B9F069D}" type="datetime">
              <a:rPr b="0" lang="nl-NL" sz="9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90c226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C2BB-6B07-480C-A166-4D9EBE068CE0}" type="slidenum">
              <a:rPr b="0" lang="nl-NL" sz="900" spc="-1" strike="noStrike">
                <a:solidFill>
                  <a:srgbClr val="90c226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lans.nl/" TargetMode="External"/><Relationship Id="rId2" Type="http://schemas.openxmlformats.org/officeDocument/2006/relationships/hyperlink" Target="https://www.youtube.com/watch?v=GnVJx2QKWk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  <a:ea typeface="Calibri"/>
              </a:rPr>
              <a:t>Eten en drinken met demen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gency FB"/>
                <a:ea typeface="Calibri"/>
              </a:rPr>
              <a:t>In deze les leer je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gency FB"/>
                <a:ea typeface="Calibri"/>
              </a:rPr>
              <a:t>Herkennen van probleemgedrag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gency FB"/>
                <a:ea typeface="Calibri"/>
              </a:rPr>
              <a:t>Stappenplan t.b.v. bevorderen en verbeteren eetgedrag bij ouderen met dementi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5364000" y="4292640"/>
            <a:ext cx="331956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orzaken niet kunnen e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Afbeelding 1" descr=""/>
          <p:cNvPicPr/>
          <p:nvPr/>
        </p:nvPicPr>
        <p:blipFill>
          <a:blip r:embed="rId1"/>
          <a:stretch/>
        </p:blipFill>
        <p:spPr>
          <a:xfrm>
            <a:off x="887400" y="1484280"/>
            <a:ext cx="5791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120" y="40428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orzaken niet kunnen e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7640" y="206028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De verzorgend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11200" y="2517840"/>
            <a:ext cx="385272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andelt niet adequaat: loopt weg tijdens het hel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Verliest de aandacht tijdens het help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aalt het eten (voortijdig) we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Biedt te volle lepels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De consistentie van het eten is niet geschik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Er is te veel keu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Afbeelding 1" descr=""/>
          <p:cNvPicPr/>
          <p:nvPr/>
        </p:nvPicPr>
        <p:blipFill>
          <a:blip r:embed="rId1"/>
          <a:stretch/>
        </p:blipFill>
        <p:spPr>
          <a:xfrm>
            <a:off x="4354560" y="2997360"/>
            <a:ext cx="444672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4680" y="279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orzaken niet willen e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65040" y="1413000"/>
            <a:ext cx="3919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epressieve klachten, somber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bijwerking van medicijn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e zorgvrager wil niet geholpen worden met eten of drin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uit schaamt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wens om aan de eigen zelfstandigheid vast te houd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et eten bevalt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de zorgvrager heeft liever iets anders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het eten ziet er niet lekker ui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de zorgvrager vindt het eten niet lekker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gency FB"/>
              </a:rPr>
              <a:t>het eten is te warm of te kou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e zorgvrager heeft een doodsw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0" name="Afbeelding 5" descr=""/>
          <p:cNvPicPr/>
          <p:nvPr/>
        </p:nvPicPr>
        <p:blipFill>
          <a:blip r:embed="rId1"/>
          <a:stretch/>
        </p:blipFill>
        <p:spPr>
          <a:xfrm>
            <a:off x="4457880" y="2313000"/>
            <a:ext cx="4510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09120" y="1484280"/>
            <a:ext cx="6348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herkent het eten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herkent gevoelens van honger of dorst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ziet de verzorgende als een vreem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begrijpt de aanwijzingen van de verzorgende ni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Het is mogelijk dat de zorgvrager de prikkels die te maken hebben met eten of drinken niet waarneemt, bijvoorbeeld omdat hij slecht ziet of ruikt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Het is ook mogelijk dat de zorgvrager geuren, voorwerpen of personen wel waarneemt, maar niet herkent. (agnosie)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  <a:ea typeface="Arial"/>
              </a:rPr>
              <a:t>De zorgvrager begrijpt niet wat er van hem wordt verwa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Afbeelding 2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23907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Vijf stappenpl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Probleem vaststellen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signaleren, benoemen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Gegevens verzamelen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inventariseren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Nader onderzoek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observeren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Plan van aanpak  </a:t>
            </a: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(beschrijven)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Evaluatie en nieuwe acties beschrijven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gency FB"/>
              </a:rPr>
              <a:t>Vanaf stap 5 gaat stap 1 weer in werking…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83760" indent="-383760"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Calibri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Agency FB"/>
              </a:rPr>
              <a:t>Stap 1 Probleem vaststellen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Probeer de bewoner toch iets te laten eten, maar dring niet onnodig aan. Stel in overleg met je collega’s vast of er sprake is van structureel afweergedrag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Geen resultaat?  Stap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01400" y="1341360"/>
            <a:ext cx="40417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Structureel afweergedrag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Meer dan 24 uur niets drin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Meer dan 48 uur niets e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Meerdere keren per week afweergedrag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doe 2/3 poging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Bied opnieuw aan na 5/10 minu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Bied iets anders aa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08000" y="3384720"/>
            <a:ext cx="760680" cy="7207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2"/>
          <a:stretch/>
        </p:blipFill>
        <p:spPr>
          <a:xfrm>
            <a:off x="3987720" y="450864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-23004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2 Gegevens verzam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981000"/>
            <a:ext cx="308772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Overleg met de bewoner, collega-verzorgenden, de familie en de arts, en probeer erachter te komen wat de oorzaak van het afweergedrag kan zijn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oud minimaal twee dagen een voedings- en vochtlijst bij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Oorzaak onbekend? STAP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148000" y="977400"/>
            <a:ext cx="33843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Overleg met and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Start voeding en vochtlij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Vastleggen in zorgdossier (bijv. afspraken met arts en familie  over niet ingrijpen comfortbehandel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3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773360" y="297180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773360" y="4626000"/>
            <a:ext cx="760320" cy="647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4067280" y="4554360"/>
            <a:ext cx="86508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3 Nader onderzoe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1413000"/>
            <a:ext cx="308772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Als de oorzaak van het afweergedrag niet (meteen) duidelijk is, observeer en beschrijf dan het afweergedrag bij eten en drinken.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Bespreek je bevindingen in een MDO/bewonersbespreking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Oorzaak bekend: stap 4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813200" y="2168280"/>
            <a:ext cx="30895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Observeren en beschrijven van het gedrag (wat zie je, wanneer, andere verschijnselen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Overleg tijdens MDO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Bevindingen en afspraken noteren in zorgdossie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gency FB"/>
              </a:rPr>
              <a:t>      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692360" y="2492280"/>
            <a:ext cx="758880" cy="6843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1692360" y="3973680"/>
            <a:ext cx="758880" cy="823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3"/>
          <a:stretch/>
        </p:blipFill>
        <p:spPr>
          <a:xfrm>
            <a:off x="3622680" y="2243160"/>
            <a:ext cx="855720" cy="592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3639960" y="4834080"/>
            <a:ext cx="8557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4 Plan van aanpak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25000" y="1341360"/>
            <a:ext cx="4302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Oorzaak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Niet ingrijpen:                           Wel ingrijp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fortbeleid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aanpas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interac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munic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oeding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15602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maaltijdambiance     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146200" y="990720"/>
            <a:ext cx="383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Oorzaak on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olg  adviezen /voorschriften op zoals die zijn vastgelegd in het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Niet ingrijpen: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l ingrijp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fortbeleid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Gerichte inter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6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938240" y="1811160"/>
            <a:ext cx="863640" cy="72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689040" y="388944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2627280" y="3905280"/>
            <a:ext cx="720720" cy="476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Users\adkro\Pictures\pijl_onder.gif"/>
          <p:cNvPicPr/>
          <p:nvPr/>
        </p:nvPicPr>
        <p:blipFill>
          <a:blip r:embed="rId4"/>
          <a:stretch/>
        </p:blipFill>
        <p:spPr>
          <a:xfrm>
            <a:off x="6588000" y="1612800"/>
            <a:ext cx="863640" cy="7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2" descr="C:\Users\adkro\Pictures\pijl_onder.gif"/>
          <p:cNvPicPr/>
          <p:nvPr/>
        </p:nvPicPr>
        <p:blipFill>
          <a:blip r:embed="rId5"/>
          <a:stretch/>
        </p:blipFill>
        <p:spPr>
          <a:xfrm>
            <a:off x="5508720" y="3889440"/>
            <a:ext cx="718920" cy="476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C:\Users\adkro\Pictures\pijl_onder.gif"/>
          <p:cNvPicPr/>
          <p:nvPr/>
        </p:nvPicPr>
        <p:blipFill>
          <a:blip r:embed="rId6"/>
          <a:stretch/>
        </p:blipFill>
        <p:spPr>
          <a:xfrm>
            <a:off x="7596360" y="3905280"/>
            <a:ext cx="6490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Stap 5 Evalu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995280" y="1864800"/>
            <a:ext cx="41720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astleggen in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Nee       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terug naar stap 3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               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comfortbeleid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84000" y="1670040"/>
            <a:ext cx="3087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gency FB"/>
              </a:rPr>
              <a:t>Hebben de gekozen behandeling of interventies ertoe geleid dat de bewoner weer eet of drinkt?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Vastleggen in zorgdoss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gency FB"/>
              </a:rPr>
              <a:t>Ja</a:t>
            </a: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 : stop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5" name="Picture 2" descr="C:\Users\adkro\Pictures\pijl_onder.gif"/>
          <p:cNvPicPr/>
          <p:nvPr/>
        </p:nvPicPr>
        <p:blipFill>
          <a:blip r:embed="rId1"/>
          <a:stretch/>
        </p:blipFill>
        <p:spPr>
          <a:xfrm>
            <a:off x="1523880" y="305748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adkro\Pictures\pijl_onder.gif"/>
          <p:cNvPicPr/>
          <p:nvPr/>
        </p:nvPicPr>
        <p:blipFill>
          <a:blip r:embed="rId2"/>
          <a:stretch/>
        </p:blipFill>
        <p:spPr>
          <a:xfrm>
            <a:off x="5508720" y="3975120"/>
            <a:ext cx="758880" cy="719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Users\adkro\Pictures\pijl_onder.gif"/>
          <p:cNvPicPr/>
          <p:nvPr/>
        </p:nvPicPr>
        <p:blipFill>
          <a:blip r:embed="rId3"/>
          <a:stretch/>
        </p:blipFill>
        <p:spPr>
          <a:xfrm>
            <a:off x="5508720" y="2697120"/>
            <a:ext cx="758880" cy="7207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4"/>
          <a:stretch/>
        </p:blipFill>
        <p:spPr>
          <a:xfrm>
            <a:off x="5599080" y="5253120"/>
            <a:ext cx="576360" cy="2984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C:\Users\adkro\Pictures\7VFZ24CAP3FX83CAX9BC49CAC89XKMCALLHC3KCA1KMPWJCAOJO68PCAG6HY4BCAWCXL80CAUCU43HCAORJCX6CALXWHJHCACC4MAUCA4SF5IXCAV0ZN12CAP2RTZDCA400DSPCAL2AXP8CAZT0LP0CAMMKX14.jpg"/>
          <p:cNvPicPr/>
          <p:nvPr/>
        </p:nvPicPr>
        <p:blipFill>
          <a:blip r:embed="rId5"/>
          <a:stretch/>
        </p:blipFill>
        <p:spPr>
          <a:xfrm>
            <a:off x="5599080" y="5683320"/>
            <a:ext cx="576360" cy="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1246320"/>
            <a:ext cx="3178080" cy="42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gency FB"/>
                <a:ea typeface="Calibri"/>
              </a:rPr>
              <a:t>Wat betekent eten voor jou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3" name="Picture 6" descr="Afbeeldingsresultaat voor gezamenlijk eten culturen"/>
          <p:cNvPicPr/>
          <p:nvPr/>
        </p:nvPicPr>
        <p:blipFill>
          <a:blip r:embed="rId1"/>
          <a:srcRect l="0" t="9515" r="0" b="0"/>
          <a:stretch/>
        </p:blipFill>
        <p:spPr>
          <a:xfrm>
            <a:off x="3780000" y="189000"/>
            <a:ext cx="479088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562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90c226"/>
                </a:solidFill>
                <a:latin typeface="Agency FB"/>
              </a:rPr>
              <a:t>Opdracht 1: Kookclub Beukenro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480" y="5400720"/>
            <a:ext cx="381816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Agency FB"/>
              </a:rPr>
              <a:t>http://www.youtube.com/watch?v=V6YBAbNr4Q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09480" y="1716120"/>
            <a:ext cx="72518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Welke interventies worden toegepas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Hoe beleven de leden van de kookclub de activitei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Hoe vind je dat de bewoners begeleid worden bij deze activitei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Wat is het effect van deze activiteit op de bewoners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3" name="Picture 3" descr="C:\Users\adkro\Desktop\untitled.bmp"/>
          <p:cNvPicPr/>
          <p:nvPr/>
        </p:nvPicPr>
        <p:blipFill>
          <a:blip r:embed="rId1"/>
          <a:stretch/>
        </p:blipFill>
        <p:spPr>
          <a:xfrm>
            <a:off x="4627440" y="3975120"/>
            <a:ext cx="321156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200" spc="-1" strike="noStrike">
                <a:solidFill>
                  <a:srgbClr val="90c226"/>
                </a:solidFill>
                <a:latin typeface="Agency FB"/>
              </a:rPr>
              <a:t>Opdracht 2:</a:t>
            </a:r>
            <a:br>
              <a:rPr sz="3200"/>
            </a:b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gency FB"/>
              </a:rPr>
              <a:t>werk het vijfstappenplan uit met een casus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5" name="Diagram 4" descr=""/>
          <p:cNvPicPr/>
          <p:nvPr/>
        </p:nvPicPr>
        <p:blipFill>
          <a:blip r:embed="rId1"/>
          <a:stretch/>
        </p:blipFill>
        <p:spPr>
          <a:xfrm>
            <a:off x="1262160" y="2341440"/>
            <a:ext cx="58039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  <a:ea typeface="Calibri"/>
              </a:rPr>
              <a:t>Gezond oud word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Belang van goede voeding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Voeding als basisbehoeft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Geven van eten en drinken is een teken van liefde”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  <a:ea typeface="Calibri"/>
              </a:rPr>
              <a:t>Ambianc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Picture 2" descr="C:\Users\adkro\Desktop\images.jpg"/>
          <p:cNvPicPr/>
          <p:nvPr/>
        </p:nvPicPr>
        <p:blipFill>
          <a:blip r:embed="rId1"/>
          <a:stretch/>
        </p:blipFill>
        <p:spPr>
          <a:xfrm>
            <a:off x="4500720" y="4292640"/>
            <a:ext cx="3598560" cy="22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Ondervoed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Een verstoring van de balans </a:t>
            </a: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tussen opname en behoefte aan voedingsstoff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Oorzak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Verstoorde inname van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Onvoldoende beschikbaarheid van voedse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ency FB"/>
              </a:rPr>
              <a:t>Afname van spiermass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Titel 3"/>
          <p:cNvSpPr/>
          <p:nvPr/>
        </p:nvSpPr>
        <p:spPr>
          <a:xfrm>
            <a:off x="0" y="136044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5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  <a:ea typeface="Arial"/>
              </a:rPr>
              <a:t>‘</a:t>
            </a:r>
            <a:r>
              <a:rPr b="0" lang="nl-NL" sz="2400" spc="-1" strike="noStrike">
                <a:solidFill>
                  <a:srgbClr val="000000"/>
                </a:solidFill>
                <a:latin typeface="Agency FB"/>
                <a:ea typeface="Arial"/>
              </a:rPr>
              <a:t>Laat uw voeding uw medicijn zijn en uw medicijn uw voeding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Afbeelding 1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34005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Cijfers ondervoed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Van de thuiszorgcliënten ouder dan 81 jaar is meer dan 30% ondervoe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Slechts een deel van de thuiszorgorganisaties screent alle cliënten op ondervoeding, terwijl screenen juist belangrijk is voor de preventie en behandeling van ondervoeding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gency FB"/>
              </a:rPr>
              <a:t>Ondervoeding komt het meest voor op psycho-geriatrische afdelingen van verpleeghuiz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gency FB"/>
              </a:rPr>
              <a:t>Bron: </a:t>
            </a:r>
            <a:r>
              <a:rPr b="0" lang="en-US" sz="1900" spc="-1" strike="noStrike" u="sng">
                <a:solidFill>
                  <a:srgbClr val="99ca3c"/>
                </a:solidFill>
                <a:uFillTx/>
                <a:latin typeface="Agency FB"/>
                <a:hlinkClick r:id="rId1"/>
              </a:rPr>
              <a:t>www.vilans.nl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94840" indent="-2948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 u="sng">
                <a:solidFill>
                  <a:srgbClr val="99ca3c"/>
                </a:solidFill>
                <a:uFillTx/>
                <a:latin typeface="Agency FB"/>
                <a:hlinkClick r:id="rId2"/>
              </a:rPr>
              <a:t>Ondervoe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</a:rPr>
              <a:t>Eten en drinken in het zorgpla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65040" y="1600200"/>
            <a:ext cx="737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Zorgleefplan domein:</a:t>
            </a:r>
            <a:r>
              <a:rPr b="1" lang="nl-NL" sz="2600" spc="-1" strike="noStrike">
                <a:solidFill>
                  <a:srgbClr val="000000"/>
                </a:solidFill>
                <a:latin typeface="Agency FB"/>
              </a:rPr>
              <a:t> </a:t>
            </a:r>
            <a:r>
              <a:rPr b="0" i="1" lang="nl-NL" sz="2600" spc="-1" strike="noStrike">
                <a:solidFill>
                  <a:srgbClr val="000000"/>
                </a:solidFill>
                <a:latin typeface="Agency FB"/>
              </a:rPr>
              <a:t>lichamelijk welbevinde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De bewoner mag rekenen op smakelijke hapjes en drankjes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Wensen en gewoonten inventariseren en opnemen in het zorgleefpla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gency FB"/>
              </a:rPr>
              <a:t>Eet- en drinkgewoonten observeren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Agency FB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512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gency FB"/>
              </a:rPr>
              <a:t>Afweergedra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9640" y="1412640"/>
            <a:ext cx="634680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ency FB"/>
              </a:rPr>
              <a:t>Elk gedrag van de zorgvrager dat eten en drinken bemoeilijkt of onmogelijk maakt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4" descr=""/>
          <p:cNvPicPr/>
          <p:nvPr/>
        </p:nvPicPr>
        <p:blipFill>
          <a:blip r:embed="rId1"/>
          <a:stretch/>
        </p:blipFill>
        <p:spPr>
          <a:xfrm>
            <a:off x="2090880" y="2779560"/>
            <a:ext cx="532116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</a:rPr>
              <a:t>Verschijnselen afweergedra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000" y="1508040"/>
            <a:ext cx="73436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gency FB"/>
              </a:rPr>
              <a:t>De zorgvrager komt niet aan tafel zitten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igert om naar de ruimte te gaan waar gegeten word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loopt weg van taf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igert verbaal (‘Ik wil niet’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gency FB"/>
              </a:rPr>
              <a:t>De zorgvrager neemt helemaal geen hap of slok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raakt het eten niet 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duwt zijn bord of lepel weg, of (de hand van) de verzorge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bijt op de l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wendt zijn hoofd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oudt zijn mond d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35480" indent="-28296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oudt zijn kiezen op elk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34680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gency FB"/>
              </a:rPr>
              <a:t>Verschijnselen afweergedrag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000" y="1699920"/>
            <a:ext cx="7272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gency FB"/>
              </a:rPr>
              <a:t>De zorgvrager neemt wel een hap of slok, maar slikt het eten of drinken uiteindelijk niet door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kokhal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spuugt het eten of drinke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haalt het eten met zijn handen uit de 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gency FB"/>
              </a:rPr>
              <a:t>slikt het eten of drinken niet doo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2:06:23Z</dcterms:created>
  <dc:creator>Corien de Gier</dc:creator>
  <dc:description/>
  <dc:language>en-US</dc:language>
  <cp:lastModifiedBy>Charlotte Verhagen</cp:lastModifiedBy>
  <cp:lastPrinted>2016-09-21T11:35:51Z</cp:lastPrinted>
  <dcterms:modified xsi:type="dcterms:W3CDTF">2016-09-21T14:22:54Z</dcterms:modified>
  <cp:revision>121</cp:revision>
  <dc:subject/>
  <dc:title>Eten en drinken</dc:title>
</cp:coreProperties>
</file>