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4.png" ContentType="image/png"/>
  <Override PartName="/ppt/media/image9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2.jpeg" ContentType="image/jpeg"/>
  <Override PartName="/ppt/media/image13.png" ContentType="image/png"/>
  <Override PartName="/ppt/media/image10.jpeg" ContentType="image/jpe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</p:sldIdLst>
  <p:sldSz cx="9144000" cy="6858000"/>
  <p:notesSz cx="9925050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99252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13"/>
          </p:nvPr>
        </p:nvSpPr>
        <p:spPr>
          <a:xfrm>
            <a:off x="5622480" y="0"/>
            <a:ext cx="430236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14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15"/>
          </p:nvPr>
        </p:nvSpPr>
        <p:spPr>
          <a:xfrm>
            <a:off x="5622480" y="6456240"/>
            <a:ext cx="430236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7B529-05F5-420D-848D-E5A564825D7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Tijdelijke aanduiding voor dianummer 3"/>
          <p:cNvSpPr/>
          <p:nvPr/>
        </p:nvSpPr>
        <p:spPr>
          <a:xfrm>
            <a:off x="5622840" y="6456240"/>
            <a:ext cx="43023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8397D-8094-4A38-9BDC-EFFB9FEE38B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Tijdelijke aanduiding voor dianummer 3"/>
          <p:cNvSpPr/>
          <p:nvPr/>
        </p:nvSpPr>
        <p:spPr>
          <a:xfrm>
            <a:off x="5622840" y="6456240"/>
            <a:ext cx="43023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D58BE-D6E1-4DB6-A704-C091AFED40F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Tijdelijke aanduiding voor dianummer 3"/>
          <p:cNvSpPr/>
          <p:nvPr/>
        </p:nvSpPr>
        <p:spPr>
          <a:xfrm>
            <a:off x="5622840" y="6456240"/>
            <a:ext cx="43023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5C03A-2815-4091-BAA7-C63DA0761A1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Tijdelijke aanduiding voor dianummer 3"/>
          <p:cNvSpPr/>
          <p:nvPr/>
        </p:nvSpPr>
        <p:spPr>
          <a:xfrm>
            <a:off x="5622840" y="6456240"/>
            <a:ext cx="43023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B50AD-EB67-4FC9-B472-F605BD99402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Tijdelijke aanduiding voor dianummer 3"/>
          <p:cNvSpPr/>
          <p:nvPr/>
        </p:nvSpPr>
        <p:spPr>
          <a:xfrm>
            <a:off x="5622840" y="6456240"/>
            <a:ext cx="43023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227D0-58AD-4D28-960D-CDFC1D8F4BB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Tijdelijke aanduiding voor dianummer 3"/>
          <p:cNvSpPr/>
          <p:nvPr/>
        </p:nvSpPr>
        <p:spPr>
          <a:xfrm>
            <a:off x="5622840" y="6456240"/>
            <a:ext cx="43023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28C6B-1C5D-4E39-B7C4-22EC189DC10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Tijdelijke aanduiding voor dianummer 3"/>
          <p:cNvSpPr/>
          <p:nvPr/>
        </p:nvSpPr>
        <p:spPr>
          <a:xfrm>
            <a:off x="5622840" y="6456240"/>
            <a:ext cx="43023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6EA70-6932-436C-B846-3F8AD649749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E827-B718-42A8-908E-16263E237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9CD8-079F-41EF-917F-39BEAAC3C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98A6-2AA7-438F-8603-2A4E97DCA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CE0B-85F1-4A2E-9930-040F28787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A3F6D-EF6A-4BC6-8A33-BB3C55AFC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CFF17-1815-4DD6-87F4-05413C2B4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0CC04-589E-4474-B5B1-4DAD150DB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F345A-85BA-4DB6-AB29-6776CD41C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A9694-A6EE-4513-915B-708C65D2C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80026-89D4-49F9-A3C1-61ADAF47B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DF0B0-4805-49A1-A2D1-28E68D9D5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C479-2348-428A-A4E4-CB6403D3B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36BBE-A57D-4FD3-87B9-1371D5380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77CD0-6D19-4B20-937B-0FAE19482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11AAD-C863-4B28-B6BF-F9FC9F5B9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97825-E62B-4B25-B392-15EAFAB04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9A813-D05C-4C0E-88D0-1D6EDD63E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8C8521-836A-463D-86AC-B85A57738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EDB181-CFCC-4825-8DFF-FBE7A0000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21C93F-D9E5-49C2-BDA9-1771A39F0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483B1C-D8EA-4311-9932-DB65110F0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AFD12B-5168-4794-852F-AFEF0549E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7E86-81FA-4D34-9428-B72F55CB4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E43409-1038-4CD6-9ED0-322DB2321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A7E95C-8702-425A-A8FB-495FF0B62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2BD659-6DD0-4F03-AA93-93722571A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11710A-F577-4DAF-8A2B-B2A5120D7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5A5E7C-CF4B-4A24-A4D0-1665D2BD1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329A6C-065B-4874-9605-F059E1E69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004982-4808-4D8C-AC44-EC1533F34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237ABA-FFFA-4F94-97B7-3CF32D666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33B12A-5813-4FA2-B869-D7213BB4A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75688E-06F7-4FEB-9CD3-0485D955A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A680-2B5D-4325-B013-65E22BC40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BB851D-4888-462C-9C49-7C0206BA7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036473-ACC1-484C-B254-F34EE86CE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E2B12A-4914-4D10-A55D-D86F985DB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73613D-4373-4D4B-BA5E-CAFE36C51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EBEA08-3B22-4660-8AA7-B42126826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0D20B6-8E16-46E3-AD65-A64551409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12E72C-451D-4F64-8578-AB201A795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BDC9AC-EC30-461A-BFCD-F47E3106B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123B53-83A0-4913-8B9B-087470CFF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2074-C88B-437B-AF5F-8516F843C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311E-07C8-45D3-A777-4AEF4058E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C3C7-CC47-487B-9BED-44D1C4BCF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0AE5-8055-4CF7-9DA6-D6B50720E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562A-B833-4F9E-AC14-614C4CC42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7649F-CCCA-40AD-844E-98A38274BDBC}" type="datetime">
              <a:rPr b="0" lang="nl-NL" sz="900" spc="-1" strike="noStrike">
                <a:solidFill>
                  <a:srgbClr val="898989"/>
                </a:solidFill>
                <a:latin typeface="Calibri"/>
              </a:rPr>
              <a:t>29-07-26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90c226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1838A-8101-4476-8AC9-7BA192CAFDA8}" type="slidenum">
              <a:rPr b="0" lang="nl-NL" sz="900" spc="-1" strike="noStrike">
                <a:solidFill>
                  <a:srgbClr val="90c226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640C3-865C-4797-8B70-C1F232CA8653}" type="datetime">
              <a:rPr b="0" lang="nl-NL" sz="900" spc="-1" strike="noStrike">
                <a:solidFill>
                  <a:srgbClr val="898989"/>
                </a:solidFill>
                <a:latin typeface="Calibri"/>
              </a:rPr>
              <a:t>29-07-26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90c226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5244B-1358-4CB9-AE6F-3B4531BE2ECE}" type="slidenum">
              <a:rPr b="0" lang="nl-NL" sz="900" spc="-1" strike="noStrike">
                <a:solidFill>
                  <a:srgbClr val="90c226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5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DE6D3-30F6-4B56-9AAA-94A6518DBECF}" type="datetime">
              <a:rPr b="0" lang="nl-NL" sz="900" spc="-1" strike="noStrike">
                <a:solidFill>
                  <a:srgbClr val="898989"/>
                </a:solidFill>
                <a:latin typeface="Calibri"/>
              </a:rPr>
              <a:t>29-07-26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90c226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C49AD-BB1E-4293-B1A4-73F78117FC98}" type="slidenum">
              <a:rPr b="0" lang="nl-NL" sz="900" spc="-1" strike="noStrike">
                <a:solidFill>
                  <a:srgbClr val="90c226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9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F6567-D5D0-4F68-8A8D-EEB69C4AECAD}" type="datetime">
              <a:rPr b="0" lang="nl-NL" sz="900" spc="-1" strike="noStrike">
                <a:solidFill>
                  <a:srgbClr val="898989"/>
                </a:solidFill>
                <a:latin typeface="Calibri"/>
              </a:rPr>
              <a:t>29-07-26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90c226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5C990-B37A-44B5-B0C2-1B5EFFDDCB8C}" type="slidenum">
              <a:rPr b="0" lang="nl-NL" sz="900" spc="-1" strike="noStrike">
                <a:solidFill>
                  <a:srgbClr val="90c226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1.png"/><Relationship Id="rId4" Type="http://schemas.openxmlformats.org/officeDocument/2006/relationships/image" Target="../media/image9.png"/><Relationship Id="rId5" Type="http://schemas.openxmlformats.org/officeDocument/2006/relationships/image" Target="../media/image11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vilans.nl/" TargetMode="External"/><Relationship Id="rId2" Type="http://schemas.openxmlformats.org/officeDocument/2006/relationships/hyperlink" Target="https://www.youtube.com/watch?v=GnVJx2QKWkE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gency FB"/>
                <a:ea typeface="Calibri"/>
              </a:rPr>
              <a:t>Eten en drinken met dementi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gency FB"/>
                <a:ea typeface="Calibri"/>
              </a:rPr>
              <a:t>In deze les leer je: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gency FB"/>
                <a:ea typeface="Calibri"/>
              </a:rPr>
              <a:t>Herkennen van probleemgedrag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gency FB"/>
                <a:ea typeface="Calibri"/>
              </a:rPr>
              <a:t>Stappenplan t.b.v. bevorderen en verbeteren eetgedrag bij ouderen met dementie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1" name="Picture 4" descr=""/>
          <p:cNvPicPr/>
          <p:nvPr/>
        </p:nvPicPr>
        <p:blipFill>
          <a:blip r:embed="rId1"/>
          <a:stretch/>
        </p:blipFill>
        <p:spPr>
          <a:xfrm>
            <a:off x="5364000" y="4292640"/>
            <a:ext cx="3319560" cy="24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gency FB"/>
              </a:rPr>
              <a:t>Oorzaken niet kunnen et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43" name="Afbeelding 1" descr=""/>
          <p:cNvPicPr/>
          <p:nvPr/>
        </p:nvPicPr>
        <p:blipFill>
          <a:blip r:embed="rId1"/>
          <a:stretch/>
        </p:blipFill>
        <p:spPr>
          <a:xfrm>
            <a:off x="887400" y="1484280"/>
            <a:ext cx="57913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01120" y="40428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gency FB"/>
              </a:rPr>
              <a:t>Oorzaken niet kunnen et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7640" y="2060280"/>
            <a:ext cx="40402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lvl="1" marL="4572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gency FB"/>
              </a:rPr>
              <a:t>De verzorgend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11200" y="2517840"/>
            <a:ext cx="3852720" cy="39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18960" indent="-31896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gency FB"/>
              </a:rPr>
              <a:t>Handelt niet adequaat: loopt weg tijdens het help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18960" indent="-31896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gency FB"/>
              </a:rPr>
              <a:t>Verliest de aandacht tijdens het help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18960" indent="-31896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gency FB"/>
              </a:rPr>
              <a:t>Haalt het eten (voortijdig) weg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18960" indent="-31896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gency FB"/>
              </a:rPr>
              <a:t>Biedt te volle lepels aa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18960" indent="-31896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gency FB"/>
              </a:rPr>
              <a:t>De consistentie van het eten is niet geschikt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18960" indent="-31896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gency FB"/>
              </a:rPr>
              <a:t>Er is te veel keus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7" name="Afbeelding 1" descr=""/>
          <p:cNvPicPr/>
          <p:nvPr/>
        </p:nvPicPr>
        <p:blipFill>
          <a:blip r:embed="rId1"/>
          <a:stretch/>
        </p:blipFill>
        <p:spPr>
          <a:xfrm>
            <a:off x="4354560" y="2997360"/>
            <a:ext cx="444672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64680" y="27900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gency FB"/>
              </a:rPr>
              <a:t>Oorzaken niet willen et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365040" y="1413000"/>
            <a:ext cx="39196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gency FB"/>
              </a:rPr>
              <a:t>Depressieve klachten, somberhei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gency FB"/>
              </a:rPr>
              <a:t>bijwerking van medicijnen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404040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gency FB"/>
              </a:rPr>
              <a:t>De zorgvrager wil niet geholpen worden met eten of drink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gency FB"/>
              </a:rPr>
              <a:t>uit schaamte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gency FB"/>
              </a:rPr>
              <a:t>wens om aan de eigen zelfstandigheid vast te houden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gency FB"/>
              </a:rPr>
              <a:t>Het eten bevalt nie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gency FB"/>
              </a:rPr>
              <a:t>de zorgvrager heeft liever iets anders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gency FB"/>
              </a:rPr>
              <a:t>het eten ziet er niet lekker uit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gency FB"/>
              </a:rPr>
              <a:t>de zorgvrager vindt het eten niet lekker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gency FB"/>
              </a:rPr>
              <a:t>het eten is te warm of te koud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404040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gency FB"/>
              </a:rPr>
              <a:t>De zorgvrager heeft een doodswen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0" name="Afbeelding 5" descr=""/>
          <p:cNvPicPr/>
          <p:nvPr/>
        </p:nvPicPr>
        <p:blipFill>
          <a:blip r:embed="rId1"/>
          <a:stretch/>
        </p:blipFill>
        <p:spPr>
          <a:xfrm>
            <a:off x="4457880" y="2313000"/>
            <a:ext cx="451008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2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2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2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2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09120" y="1484280"/>
            <a:ext cx="6348600" cy="28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gency FB"/>
                <a:ea typeface="Arial"/>
              </a:rPr>
              <a:t>De zorgvrager herkent het eten nie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01680" indent="-3016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gency FB"/>
                <a:ea typeface="Arial"/>
              </a:rPr>
              <a:t>De zorgvrager herkent gevoelens van honger of dorst nie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01680" indent="-3016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gency FB"/>
                <a:ea typeface="Arial"/>
              </a:rPr>
              <a:t>De zorgvrager ziet de verzorgende als een vreemd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01680" indent="-3016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gency FB"/>
                <a:ea typeface="Arial"/>
              </a:rPr>
              <a:t>De zorgvrager begrijpt de aanwijzingen van de verzorgende nie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01680" indent="-3016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gency FB"/>
                <a:ea typeface="Arial"/>
              </a:rPr>
              <a:t>Het is mogelijk dat de zorgvrager de prikkels die te maken hebben met eten of drinken niet waarneemt, bijvoorbeeld omdat hij slecht ziet of ruikt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01680" indent="-3016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gency FB"/>
                <a:ea typeface="Arial"/>
              </a:rPr>
              <a:t>Het is ook mogelijk dat de zorgvrager geuren, voorwerpen of personen wel waarneemt, maar niet herkent. (agnosie) 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01680" indent="-3016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gency FB"/>
                <a:ea typeface="Arial"/>
              </a:rPr>
              <a:t>De zorgvrager begrijpt niet wat er van hem wordt verwacht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01680" indent="-3016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2" name="Afbeelding 2" descr=""/>
          <p:cNvPicPr/>
          <p:nvPr/>
        </p:nvPicPr>
        <p:blipFill>
          <a:blip r:embed="rId1"/>
          <a:stretch/>
        </p:blipFill>
        <p:spPr>
          <a:xfrm>
            <a:off x="2916360" y="4437000"/>
            <a:ext cx="2390760" cy="21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gency FB"/>
              </a:rPr>
              <a:t>Vijf stappenpla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383760" indent="-38376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Agency FB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gency FB"/>
              </a:rPr>
              <a:t>Probleem vaststellen </a:t>
            </a:r>
            <a:r>
              <a:rPr b="0" lang="nl-NL" sz="2600" spc="-1" strike="noStrike">
                <a:solidFill>
                  <a:srgbClr val="000000"/>
                </a:solidFill>
                <a:latin typeface="Agency FB"/>
              </a:rPr>
              <a:t>(signaleren, benoemen)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83760" indent="-38376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Agency FB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gency FB"/>
              </a:rPr>
              <a:t>Gegevens verzamelen </a:t>
            </a:r>
            <a:r>
              <a:rPr b="0" lang="nl-NL" sz="2600" spc="-1" strike="noStrike">
                <a:solidFill>
                  <a:srgbClr val="000000"/>
                </a:solidFill>
                <a:latin typeface="Agency FB"/>
              </a:rPr>
              <a:t>(inventariseren)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83760" indent="-38376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Agency FB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gency FB"/>
              </a:rPr>
              <a:t>Nader onderzoek </a:t>
            </a:r>
            <a:r>
              <a:rPr b="0" lang="nl-NL" sz="2600" spc="-1" strike="noStrike">
                <a:solidFill>
                  <a:srgbClr val="000000"/>
                </a:solidFill>
                <a:latin typeface="Agency FB"/>
              </a:rPr>
              <a:t>(observeren)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83760" indent="-38376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Agency FB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gency FB"/>
              </a:rPr>
              <a:t>Plan van aanpak  </a:t>
            </a:r>
            <a:r>
              <a:rPr b="0" lang="nl-NL" sz="2600" spc="-1" strike="noStrike">
                <a:solidFill>
                  <a:srgbClr val="000000"/>
                </a:solidFill>
                <a:latin typeface="Agency FB"/>
              </a:rPr>
              <a:t>(beschrijven)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83760" indent="-38376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Agency FB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gency FB"/>
              </a:rPr>
              <a:t>Evaluatie en nieuwe acties beschrijven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383760" indent="-38376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Agency FB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383760" indent="-38376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Agency FB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383760" indent="-38376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gency FB"/>
              </a:rPr>
              <a:t>Vanaf stap 5 gaat stap 1 weer in werking…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383760" indent="-38376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Calibri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90c226"/>
                </a:solidFill>
                <a:latin typeface="Agency FB"/>
              </a:rPr>
              <a:t>Stap 1 Probleem vaststellen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648320" y="1125000"/>
            <a:ext cx="40384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gency FB"/>
              </a:rPr>
              <a:t>Probeer de bewoner toch iets te laten eten, maar dring niet onnodig aan. Stel in overleg met je collega’s vast of er sprake is van structureel afweergedrag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gency FB"/>
              </a:rPr>
              <a:t>           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gency FB"/>
              </a:rPr>
              <a:t>Geen resultaat?  Stap 2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01400" y="1341360"/>
            <a:ext cx="4041720" cy="50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gency FB"/>
              </a:rPr>
              <a:t>Structureel afweergedrag?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gency FB"/>
              </a:rPr>
              <a:t>Meer dan 24 uur niets drink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gency FB"/>
              </a:rPr>
              <a:t>Meer dan 48 uur niets et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gency FB"/>
              </a:rPr>
              <a:t>Meerdere keren per week afweergedrag 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gency FB"/>
              </a:rPr>
              <a:t>doe 2/3 poging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gency FB"/>
              </a:rPr>
              <a:t>Bied opnieuw aan na 5/10 minut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gency FB"/>
              </a:rPr>
              <a:t>Bied iets anders aa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gency FB"/>
              </a:rPr>
              <a:t>                   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8" name="Picture 2" descr="C:\Users\adkro\Pictures\pijl_onder.gif"/>
          <p:cNvPicPr/>
          <p:nvPr/>
        </p:nvPicPr>
        <p:blipFill>
          <a:blip r:embed="rId1"/>
          <a:stretch/>
        </p:blipFill>
        <p:spPr>
          <a:xfrm>
            <a:off x="1908000" y="3384720"/>
            <a:ext cx="760680" cy="72072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3" descr="C:\Users\adkro\Pictures\7VFZ24CAP3FX83CAX9BC49CAC89XKMCALLHC3KCA1KMPWJCAOJO68PCAG6HY4BCAWCXL80CAUCU43HCAORJCX6CALXWHJHCACC4MAUCA4SF5IXCAV0ZN12CAP2RTZDCA400DSPCAL2AXP8CAZT0LP0CAMMKX14.jpg"/>
          <p:cNvPicPr/>
          <p:nvPr/>
        </p:nvPicPr>
        <p:blipFill>
          <a:blip r:embed="rId2"/>
          <a:stretch/>
        </p:blipFill>
        <p:spPr>
          <a:xfrm>
            <a:off x="3987720" y="4508640"/>
            <a:ext cx="107964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68360" y="-230040"/>
            <a:ext cx="8229600" cy="142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90c226"/>
                </a:solidFill>
                <a:latin typeface="Agency FB"/>
              </a:rPr>
              <a:t>Stap 2 Gegevens verzamel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120" y="981000"/>
            <a:ext cx="3087720" cy="50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gency FB"/>
              </a:rPr>
              <a:t>Overleg met de bewoner, collega-verzorgenden, de familie en de arts, en probeer erachter te komen wat de oorzaak van het afweergedrag kan zijn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98440" indent="-2984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98440" indent="-2984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98440" indent="-2984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gency FB"/>
              </a:rPr>
              <a:t>Houd minimaal twee dagen een voedings- en vochtlijst bij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98440" indent="-2984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98440" indent="-2984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98440" indent="-2984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gency FB"/>
              </a:rPr>
              <a:t>Oorzaak onbekend? STAP 3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5148000" y="977400"/>
            <a:ext cx="3384360" cy="511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gency FB"/>
              </a:rPr>
              <a:t>Overleg met ander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15360" indent="-31536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15360" indent="-31536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15360" indent="-31536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gency FB"/>
              </a:rPr>
              <a:t>Start voeding en vochtlijst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15360" indent="-31536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15360" indent="-31536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15360" indent="-31536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15360" indent="-31536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15360" indent="-31536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gency FB"/>
              </a:rPr>
              <a:t>Vastleggen in zorgdossier (bijv. afspraken met arts en familie  over niet ingrijpen comfortbehandeling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15360" indent="-3153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63" name="Picture 2" descr="C:\Users\adkro\Pictures\pijl_onder.gif"/>
          <p:cNvPicPr/>
          <p:nvPr/>
        </p:nvPicPr>
        <p:blipFill>
          <a:blip r:embed="rId1"/>
          <a:stretch/>
        </p:blipFill>
        <p:spPr>
          <a:xfrm>
            <a:off x="1773360" y="2971800"/>
            <a:ext cx="760320" cy="6476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" descr="C:\Users\adkro\Pictures\pijl_onder.gif"/>
          <p:cNvPicPr/>
          <p:nvPr/>
        </p:nvPicPr>
        <p:blipFill>
          <a:blip r:embed="rId2"/>
          <a:stretch/>
        </p:blipFill>
        <p:spPr>
          <a:xfrm>
            <a:off x="1773360" y="4626000"/>
            <a:ext cx="760320" cy="6476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3" descr="C:\Users\adkro\Pictures\7VFZ24CAP3FX83CAX9BC49CAC89XKMCALLHC3KCA1KMPWJCAOJO68PCAG6HY4BCAWCXL80CAUCU43HCAORJCX6CALXWHJHCACC4MAUCA4SF5IXCAV0ZN12CAP2RTZDCA400DSPCAL2AXP8CAZT0LP0CAMMKX14.jpg"/>
          <p:cNvPicPr/>
          <p:nvPr/>
        </p:nvPicPr>
        <p:blipFill>
          <a:blip r:embed="rId3"/>
          <a:stretch/>
        </p:blipFill>
        <p:spPr>
          <a:xfrm>
            <a:off x="4067280" y="4554360"/>
            <a:ext cx="865080" cy="7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90c226"/>
                </a:solidFill>
                <a:latin typeface="Agency FB"/>
              </a:rPr>
              <a:t>Stap 3 Nader onderzoek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09120" y="1413000"/>
            <a:ext cx="3087720" cy="46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Agency FB"/>
              </a:rPr>
              <a:t>Als de oorzaak van het afweergedrag niet (meteen) duidelijk is, observeer en beschrijf dan het afweergedrag bij eten en drinken.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Agency FB"/>
              </a:rPr>
              <a:t>Bespreek je bevindingen in een MDO/bewonersbespreking.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Agency FB"/>
              </a:rPr>
              <a:t>Oorzaak bekend: stap 4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813200" y="2168280"/>
            <a:ext cx="3089520" cy="38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Agency FB"/>
              </a:rPr>
              <a:t>Observeren en beschrijven van het gedrag (wat zie je, wanneer, andere verschijnselen)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25800" indent="-32580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25800" indent="-32580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25800" indent="-32580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Agency FB"/>
              </a:rPr>
              <a:t>Overleg tijdens MDO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25800" indent="-32580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25800" indent="-32580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25800" indent="-32580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25800" indent="-32580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Agency FB"/>
              </a:rPr>
              <a:t>Bevindingen en afspraken noteren in zorgdossier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25800" indent="-3258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Agency FB"/>
              </a:rPr>
              <a:t>          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69" name="Picture 2" descr="C:\Users\adkro\Pictures\pijl_onder.gif"/>
          <p:cNvPicPr/>
          <p:nvPr/>
        </p:nvPicPr>
        <p:blipFill>
          <a:blip r:embed="rId1"/>
          <a:stretch/>
        </p:blipFill>
        <p:spPr>
          <a:xfrm>
            <a:off x="1692360" y="2492280"/>
            <a:ext cx="758880" cy="68436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2" descr="C:\Users\adkro\Pictures\pijl_onder.gif"/>
          <p:cNvPicPr/>
          <p:nvPr/>
        </p:nvPicPr>
        <p:blipFill>
          <a:blip r:embed="rId2"/>
          <a:stretch/>
        </p:blipFill>
        <p:spPr>
          <a:xfrm>
            <a:off x="1692360" y="3973680"/>
            <a:ext cx="758880" cy="82368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3" descr="C:\Users\adkro\Pictures\7VFZ24CAP3FX83CAX9BC49CAC89XKMCALLHC3KCA1KMPWJCAOJO68PCAG6HY4BCAWCXL80CAUCU43HCAORJCX6CALXWHJHCACC4MAUCA4SF5IXCAV0ZN12CAP2RTZDCA400DSPCAL2AXP8CAZT0LP0CAMMKX14.jpg"/>
          <p:cNvPicPr/>
          <p:nvPr/>
        </p:nvPicPr>
        <p:blipFill>
          <a:blip r:embed="rId3"/>
          <a:stretch/>
        </p:blipFill>
        <p:spPr>
          <a:xfrm>
            <a:off x="3622680" y="2243160"/>
            <a:ext cx="855720" cy="5922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3" descr="C:\Users\adkro\Pictures\7VFZ24CAP3FX83CAX9BC49CAC89XKMCALLHC3KCA1KMPWJCAOJO68PCAG6HY4BCAWCXL80CAUCU43HCAORJCX6CALXWHJHCACC4MAUCA4SF5IXCAV0ZN12CAP2RTZDCA400DSPCAL2AXP8CAZT0LP0CAMMKX14.jpg"/>
          <p:cNvPicPr/>
          <p:nvPr/>
        </p:nvPicPr>
        <p:blipFill>
          <a:blip r:embed="rId4"/>
          <a:stretch/>
        </p:blipFill>
        <p:spPr>
          <a:xfrm>
            <a:off x="3639960" y="4834080"/>
            <a:ext cx="855720" cy="59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90c226"/>
                </a:solidFill>
                <a:latin typeface="Agency FB"/>
              </a:rPr>
              <a:t>Stap 4 Plan van aanpak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225000" y="1341360"/>
            <a:ext cx="43023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gency FB"/>
              </a:rPr>
              <a:t>Oorzaak beken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gency FB"/>
              </a:rPr>
              <a:t>volg  adviezen /voorschriften op zoals die zijn vastgelegd in het zorgdossie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gency FB"/>
              </a:rPr>
              <a:t>  </a:t>
            </a:r>
            <a:r>
              <a:rPr b="0" lang="nl-NL" sz="1800" spc="-1" strike="noStrike">
                <a:solidFill>
                  <a:srgbClr val="000000"/>
                </a:solidFill>
                <a:latin typeface="Agency FB"/>
              </a:rPr>
              <a:t>Niet ingrijpen:                           Wel ingrijpen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gency FB"/>
              </a:rPr>
              <a:t>  </a:t>
            </a:r>
            <a:r>
              <a:rPr b="0" lang="nl-NL" sz="1800" spc="-1" strike="noStrike">
                <a:solidFill>
                  <a:srgbClr val="000000"/>
                </a:solidFill>
                <a:latin typeface="Agency FB"/>
              </a:rPr>
              <a:t>Comfortbeleid</a:t>
            </a:r>
            <a:r>
              <a:rPr b="0" lang="nl-NL" sz="1800" spc="-1" strike="noStrike">
                <a:solidFill>
                  <a:srgbClr val="000000"/>
                </a:solidFill>
                <a:latin typeface="Agency FB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gency FB"/>
              </a:rPr>
              <a:t>                     aanpass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gency FB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gency FB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gency FB"/>
              </a:rPr>
              <a:t>                               </a:t>
            </a:r>
            <a:r>
              <a:rPr b="0" lang="nl-NL" sz="1800" spc="-1" strike="noStrike">
                <a:solidFill>
                  <a:srgbClr val="000000"/>
                </a:solidFill>
                <a:latin typeface="Agency FB"/>
              </a:rPr>
              <a:t>interacti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gency FB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gency FB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gency FB"/>
              </a:rPr>
              <a:t>                               </a:t>
            </a:r>
            <a:r>
              <a:rPr b="0" lang="nl-NL" sz="1800" spc="-1" strike="noStrike">
                <a:solidFill>
                  <a:srgbClr val="000000"/>
                </a:solidFill>
                <a:latin typeface="Agency FB"/>
              </a:rPr>
              <a:t>communicati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gency FB"/>
              </a:rPr>
              <a:t>                                     </a:t>
            </a:r>
            <a:r>
              <a:rPr b="0" lang="nl-NL" sz="1800" spc="-1" strike="noStrike">
                <a:solidFill>
                  <a:srgbClr val="000000"/>
                </a:solidFill>
                <a:latin typeface="Agency FB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gency FB"/>
              </a:rPr>
              <a:t>           </a:t>
            </a:r>
            <a:r>
              <a:rPr b="0" lang="nl-NL" sz="1800" spc="-1" strike="noStrike">
                <a:solidFill>
                  <a:srgbClr val="000000"/>
                </a:solidFill>
                <a:latin typeface="Agency FB"/>
              </a:rPr>
              <a:t>voeding,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15602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gency FB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gency FB"/>
              </a:rPr>
              <a:t>           </a:t>
            </a:r>
            <a:r>
              <a:rPr b="0" lang="nl-NL" sz="1800" spc="-1" strike="noStrike">
                <a:solidFill>
                  <a:srgbClr val="000000"/>
                </a:solidFill>
                <a:latin typeface="Agency FB"/>
              </a:rPr>
              <a:t>maaltijdambiance     </a:t>
            </a:r>
            <a:r>
              <a:rPr b="1" lang="nl-NL" sz="1800" spc="-1" strike="noStrike">
                <a:solidFill>
                  <a:srgbClr val="000000"/>
                </a:solidFill>
                <a:latin typeface="Agency FB"/>
              </a:rPr>
              <a:t>    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146200" y="990720"/>
            <a:ext cx="38372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gency FB"/>
              </a:rPr>
              <a:t>                          </a:t>
            </a:r>
            <a:r>
              <a:rPr b="0" lang="nl-NL" sz="1800" spc="-1" strike="noStrike">
                <a:solidFill>
                  <a:srgbClr val="000000"/>
                </a:solidFill>
                <a:latin typeface="Agency FB"/>
              </a:rPr>
              <a:t>Oorzaak onbeken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gency FB"/>
              </a:rPr>
              <a:t>  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gency FB"/>
              </a:rPr>
              <a:t>volg  adviezen /voorschriften op zoals die zijn vastgelegd in het zorgdossie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gency FB"/>
              </a:rPr>
              <a:t>Niet ingrijpen:                 </a:t>
            </a:r>
            <a:r>
              <a:rPr b="0" lang="nl-NL" sz="1800" spc="-1" strike="noStrike">
                <a:solidFill>
                  <a:srgbClr val="000000"/>
                </a:solidFill>
                <a:latin typeface="Agency FB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gency FB"/>
              </a:rPr>
              <a:t>Wel ingrijpen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gency FB"/>
              </a:rPr>
              <a:t>Comfortbeleid </a:t>
            </a:r>
            <a:r>
              <a:rPr b="0" lang="nl-NL" sz="1800" spc="-1" strike="noStrike">
                <a:solidFill>
                  <a:srgbClr val="000000"/>
                </a:solidFill>
                <a:latin typeface="Agency FB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gency FB"/>
              </a:rPr>
              <a:t>           Gerichte interventi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76" name="Picture 2" descr="C:\Users\adkro\Pictures\pijl_onder.gif"/>
          <p:cNvPicPr/>
          <p:nvPr/>
        </p:nvPicPr>
        <p:blipFill>
          <a:blip r:embed="rId1"/>
          <a:stretch/>
        </p:blipFill>
        <p:spPr>
          <a:xfrm>
            <a:off x="1938240" y="1811160"/>
            <a:ext cx="863640" cy="72108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2" descr="C:\Users\adkro\Pictures\pijl_onder.gif"/>
          <p:cNvPicPr/>
          <p:nvPr/>
        </p:nvPicPr>
        <p:blipFill>
          <a:blip r:embed="rId2"/>
          <a:stretch/>
        </p:blipFill>
        <p:spPr>
          <a:xfrm>
            <a:off x="689040" y="3889440"/>
            <a:ext cx="647640" cy="47628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2" descr="C:\Users\adkro\Pictures\pijl_onder.gif"/>
          <p:cNvPicPr/>
          <p:nvPr/>
        </p:nvPicPr>
        <p:blipFill>
          <a:blip r:embed="rId3"/>
          <a:stretch/>
        </p:blipFill>
        <p:spPr>
          <a:xfrm>
            <a:off x="2627280" y="3905280"/>
            <a:ext cx="720720" cy="47628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2" descr="C:\Users\adkro\Pictures\pijl_onder.gif"/>
          <p:cNvPicPr/>
          <p:nvPr/>
        </p:nvPicPr>
        <p:blipFill>
          <a:blip r:embed="rId4"/>
          <a:stretch/>
        </p:blipFill>
        <p:spPr>
          <a:xfrm>
            <a:off x="6588000" y="1612800"/>
            <a:ext cx="863640" cy="71928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2" descr="C:\Users\adkro\Pictures\pijl_onder.gif"/>
          <p:cNvPicPr/>
          <p:nvPr/>
        </p:nvPicPr>
        <p:blipFill>
          <a:blip r:embed="rId5"/>
          <a:stretch/>
        </p:blipFill>
        <p:spPr>
          <a:xfrm>
            <a:off x="5508720" y="3889440"/>
            <a:ext cx="718920" cy="47628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2" descr="C:\Users\adkro\Pictures\pijl_onder.gif"/>
          <p:cNvPicPr/>
          <p:nvPr/>
        </p:nvPicPr>
        <p:blipFill>
          <a:blip r:embed="rId6"/>
          <a:stretch/>
        </p:blipFill>
        <p:spPr>
          <a:xfrm>
            <a:off x="7596360" y="3905280"/>
            <a:ext cx="64908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90c226"/>
                </a:solidFill>
                <a:latin typeface="Agency FB"/>
              </a:rPr>
              <a:t>Stap 5 Evaluati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3995280" y="1864800"/>
            <a:ext cx="417204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gency FB"/>
              </a:rPr>
              <a:t>Hebben de gekozen behandeling of interventies ertoe geleid dat de bewoner weer eet of drinkt?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gency FB"/>
              </a:rPr>
              <a:t>                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gency FB"/>
              </a:rPr>
              <a:t>Vastleggen in zorgdossie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gency FB"/>
              </a:rPr>
              <a:t>Nee       </a:t>
            </a:r>
            <a:r>
              <a:rPr b="1" lang="nl-NL" sz="1800" spc="-1" strike="noStrike">
                <a:solidFill>
                  <a:srgbClr val="000000"/>
                </a:solidFill>
                <a:latin typeface="Agency FB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Agency FB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Agency FB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Agency FB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gency FB"/>
              </a:rPr>
              <a:t>terug naar stap 3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gency FB"/>
              </a:rPr>
              <a:t>                </a:t>
            </a:r>
            <a:r>
              <a:rPr b="0" lang="nl-NL" sz="1800" spc="-1" strike="noStrike">
                <a:solidFill>
                  <a:srgbClr val="000000"/>
                </a:solidFill>
                <a:latin typeface="Agency FB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gency FB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gency FB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gency FB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gency FB"/>
              </a:rPr>
              <a:t>comfortbeleid   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684000" y="1670040"/>
            <a:ext cx="308772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gency FB"/>
              </a:rPr>
              <a:t>Hebben de gekozen behandeling of interventies ertoe geleid dat de bewoner weer eet of drinkt?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gency FB"/>
              </a:rPr>
              <a:t>Vastleggen in zorgdossie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gency FB"/>
              </a:rPr>
              <a:t>Ja</a:t>
            </a:r>
            <a:r>
              <a:rPr b="0" lang="nl-NL" sz="1800" spc="-1" strike="noStrike">
                <a:solidFill>
                  <a:srgbClr val="000000"/>
                </a:solidFill>
                <a:latin typeface="Agency FB"/>
              </a:rPr>
              <a:t> : stop              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85" name="Picture 2" descr="C:\Users\adkro\Pictures\pijl_onder.gif"/>
          <p:cNvPicPr/>
          <p:nvPr/>
        </p:nvPicPr>
        <p:blipFill>
          <a:blip r:embed="rId1"/>
          <a:stretch/>
        </p:blipFill>
        <p:spPr>
          <a:xfrm>
            <a:off x="1523880" y="3057480"/>
            <a:ext cx="758880" cy="71928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2" descr="C:\Users\adkro\Pictures\pijl_onder.gif"/>
          <p:cNvPicPr/>
          <p:nvPr/>
        </p:nvPicPr>
        <p:blipFill>
          <a:blip r:embed="rId2"/>
          <a:stretch/>
        </p:blipFill>
        <p:spPr>
          <a:xfrm>
            <a:off x="5508720" y="3975120"/>
            <a:ext cx="758880" cy="71928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2" descr="C:\Users\adkro\Pictures\pijl_onder.gif"/>
          <p:cNvPicPr/>
          <p:nvPr/>
        </p:nvPicPr>
        <p:blipFill>
          <a:blip r:embed="rId3"/>
          <a:stretch/>
        </p:blipFill>
        <p:spPr>
          <a:xfrm>
            <a:off x="5508720" y="2697120"/>
            <a:ext cx="758880" cy="72072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3" descr="C:\Users\adkro\Pictures\7VFZ24CAP3FX83CAX9BC49CAC89XKMCALLHC3KCA1KMPWJCAOJO68PCAG6HY4BCAWCXL80CAUCU43HCAORJCX6CALXWHJHCACC4MAUCA4SF5IXCAV0ZN12CAP2RTZDCA400DSPCAL2AXP8CAZT0LP0CAMMKX14.jpg"/>
          <p:cNvPicPr/>
          <p:nvPr/>
        </p:nvPicPr>
        <p:blipFill>
          <a:blip r:embed="rId4"/>
          <a:stretch/>
        </p:blipFill>
        <p:spPr>
          <a:xfrm>
            <a:off x="5599080" y="5253120"/>
            <a:ext cx="576360" cy="29844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3" descr="C:\Users\adkro\Pictures\7VFZ24CAP3FX83CAX9BC49CAC89XKMCALLHC3KCA1KMPWJCAOJO68PCAG6HY4BCAWCXL80CAUCU43HCAORJCX6CALXWHJHCACC4MAUCA4SF5IXCAV0ZN12CAP2RTZDCA400DSPCAL2AXP8CAZT0LP0CAMMKX14.jpg"/>
          <p:cNvPicPr/>
          <p:nvPr/>
        </p:nvPicPr>
        <p:blipFill>
          <a:blip r:embed="rId5"/>
          <a:stretch/>
        </p:blipFill>
        <p:spPr>
          <a:xfrm>
            <a:off x="5599080" y="5683320"/>
            <a:ext cx="576360" cy="29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55640" y="1246320"/>
            <a:ext cx="3178080" cy="42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gency FB"/>
                <a:ea typeface="Calibri"/>
              </a:rPr>
              <a:t>Wat betekent eten voor jou?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23" name="Picture 6" descr="Afbeeldingsresultaat voor gezamenlijk eten culturen"/>
          <p:cNvPicPr/>
          <p:nvPr/>
        </p:nvPicPr>
        <p:blipFill>
          <a:blip r:embed="rId1"/>
          <a:srcRect l="0" t="9515" r="0" b="0"/>
          <a:stretch/>
        </p:blipFill>
        <p:spPr>
          <a:xfrm>
            <a:off x="3780000" y="189000"/>
            <a:ext cx="4790880" cy="614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56288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90c226"/>
                </a:solidFill>
                <a:latin typeface="Agency FB"/>
              </a:rPr>
              <a:t>Opdracht 1: Kookclub Beukenrod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09480" y="5400720"/>
            <a:ext cx="3818160" cy="117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Agency FB"/>
              </a:rPr>
              <a:t>http://www.youtube.com/watch?v=V6YBAbNr4Qk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09480" y="1716120"/>
            <a:ext cx="725184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gency FB"/>
              </a:rPr>
              <a:t>Welke interventies worden toegepast?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08520" indent="-30852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gency FB"/>
              </a:rPr>
              <a:t>Hoe beleven de leden van de kookclub de activiteit?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08520" indent="-30852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gency FB"/>
              </a:rPr>
              <a:t>Hoe vind je dat de bewoners begeleid worden bij deze activiteit?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08520" indent="-30852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gency FB"/>
              </a:rPr>
              <a:t>Wat is het effect van deze activiteit op de bewoners?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08520" indent="-30852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93" name="Picture 3" descr="C:\Users\adkro\Desktop\untitled.bmp"/>
          <p:cNvPicPr/>
          <p:nvPr/>
        </p:nvPicPr>
        <p:blipFill>
          <a:blip r:embed="rId1"/>
          <a:stretch/>
        </p:blipFill>
        <p:spPr>
          <a:xfrm>
            <a:off x="4627440" y="3975120"/>
            <a:ext cx="3211560" cy="24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9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90c226"/>
                </a:solidFill>
                <a:latin typeface="Agency FB"/>
              </a:rPr>
              <a:t>Opdracht 2:</a:t>
            </a:r>
            <a:br>
              <a:rPr sz="3200"/>
            </a:b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Agency FB"/>
              </a:rPr>
              <a:t>werk het vijfstappenplan uit met een casus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95" name="Diagram 4" descr=""/>
          <p:cNvPicPr/>
          <p:nvPr/>
        </p:nvPicPr>
        <p:blipFill>
          <a:blip r:embed="rId1"/>
          <a:stretch/>
        </p:blipFill>
        <p:spPr>
          <a:xfrm>
            <a:off x="1262160" y="2341440"/>
            <a:ext cx="5803920" cy="369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gency FB"/>
                <a:ea typeface="Calibri"/>
              </a:rPr>
              <a:t>Gezond oud word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gency FB"/>
                <a:ea typeface="Calibri"/>
              </a:rPr>
              <a:t>Belang van goede voeding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gency FB"/>
                <a:ea typeface="Calibri"/>
              </a:rPr>
              <a:t>Voeding als basisbehoefte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gency FB"/>
                <a:ea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gency FB"/>
                <a:ea typeface="Calibri"/>
              </a:rPr>
              <a:t>Geven van eten en drinken is een teken van liefde”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gency FB"/>
                <a:ea typeface="Calibri"/>
              </a:rPr>
              <a:t>Ambiance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6" name="Picture 2" descr="C:\Users\adkro\Desktop\images.jpg"/>
          <p:cNvPicPr/>
          <p:nvPr/>
        </p:nvPicPr>
        <p:blipFill>
          <a:blip r:embed="rId1"/>
          <a:stretch/>
        </p:blipFill>
        <p:spPr>
          <a:xfrm>
            <a:off x="4500720" y="4292640"/>
            <a:ext cx="3598560" cy="22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gency FB"/>
              </a:rPr>
              <a:t>Ondervoeding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gency FB"/>
              </a:rPr>
              <a:t>Een verstoring van de balans </a:t>
            </a:r>
            <a:r>
              <a:rPr b="0" lang="nl-NL" sz="2400" spc="-1" strike="noStrike">
                <a:solidFill>
                  <a:srgbClr val="000000"/>
                </a:solidFill>
                <a:latin typeface="Agency FB"/>
              </a:rPr>
              <a:t>tussen opname en behoefte aan voedingsstoffen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gency FB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gency FB"/>
              </a:rPr>
              <a:t>Oorzaken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gency FB"/>
              </a:rPr>
              <a:t>Verstoorde inname van voedse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gency FB"/>
              </a:rPr>
              <a:t>Onvoldoende beschikbaarheid van voedse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gency FB"/>
              </a:rPr>
              <a:t>Afname van spiermassa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9" name="Titel 3"/>
          <p:cNvSpPr/>
          <p:nvPr/>
        </p:nvSpPr>
        <p:spPr>
          <a:xfrm>
            <a:off x="0" y="1360440"/>
            <a:ext cx="8229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ts val="5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gency FB"/>
                <a:ea typeface="Arial"/>
              </a:rPr>
              <a:t>‘</a:t>
            </a:r>
            <a:r>
              <a:rPr b="0" lang="nl-NL" sz="2400" spc="-1" strike="noStrike">
                <a:solidFill>
                  <a:srgbClr val="000000"/>
                </a:solidFill>
                <a:latin typeface="Agency FB"/>
                <a:ea typeface="Arial"/>
              </a:rPr>
              <a:t>Laat uw voeding uw medicijn zijn en uw medicijn uw voeding’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0" name="Afbeelding 1" descr=""/>
          <p:cNvPicPr/>
          <p:nvPr/>
        </p:nvPicPr>
        <p:blipFill>
          <a:blip r:embed="rId1"/>
          <a:stretch/>
        </p:blipFill>
        <p:spPr>
          <a:xfrm>
            <a:off x="5364000" y="3429000"/>
            <a:ext cx="3400560" cy="30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gency FB"/>
              </a:rPr>
              <a:t>Cijfers ondervoeding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gency FB"/>
              </a:rPr>
              <a:t>Van de thuiszorgcliënten ouder dan 81 jaar is meer dan 30% ondervoed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94840" indent="-2948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gency FB"/>
              </a:rPr>
              <a:t>Slechts een deel van de thuiszorgorganisaties screent alle cliënten op ondervoeding, terwijl screenen juist belangrijk is voor de preventie en behandeling van ondervoeding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94840" indent="-2948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gency FB"/>
              </a:rPr>
              <a:t>Ondervoeding komt het meest voor op psycho-geriatrische afdelingen van verpleeghuizen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94840" indent="-294840"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gency FB"/>
              </a:rPr>
              <a:t>Bron: </a:t>
            </a:r>
            <a:r>
              <a:rPr b="0" lang="en-US" sz="1900" spc="-1" strike="noStrike" u="sng">
                <a:solidFill>
                  <a:srgbClr val="99ca3c"/>
                </a:solidFill>
                <a:uFillTx/>
                <a:latin typeface="Agency FB"/>
                <a:hlinkClick r:id="rId1"/>
              </a:rPr>
              <a:t>www.vilans.nl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294840" indent="-2948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94840" indent="-2948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 u="sng">
                <a:solidFill>
                  <a:srgbClr val="99ca3c"/>
                </a:solidFill>
                <a:uFillTx/>
                <a:latin typeface="Agency FB"/>
                <a:hlinkClick r:id="rId2"/>
              </a:rPr>
              <a:t>Ondervoeding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gency FB"/>
              </a:rPr>
              <a:t>Eten en drinken in het zorgpla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365040" y="1600200"/>
            <a:ext cx="737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gency FB"/>
              </a:rPr>
              <a:t>Zorgleefplan domein:</a:t>
            </a:r>
            <a:r>
              <a:rPr b="1" lang="nl-NL" sz="2600" spc="-1" strike="noStrike">
                <a:solidFill>
                  <a:srgbClr val="000000"/>
                </a:solidFill>
                <a:latin typeface="Agency FB"/>
              </a:rPr>
              <a:t> </a:t>
            </a:r>
            <a:r>
              <a:rPr b="0" i="1" lang="nl-NL" sz="2600" spc="-1" strike="noStrike">
                <a:solidFill>
                  <a:srgbClr val="000000"/>
                </a:solidFill>
                <a:latin typeface="Agency FB"/>
              </a:rPr>
              <a:t>lichamelijk welbevinden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Agency FB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Agency FB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gency FB"/>
              </a:rPr>
              <a:t>De bewoner mag rekenen op smakelijke hapjes en drankjes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Agency FB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gency FB"/>
              </a:rPr>
              <a:t>Wensen en gewoonten inventariseren en opnemen in het zorgleefplan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Agency FB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gency FB"/>
              </a:rPr>
              <a:t>Eet- en drinkgewoonten observeren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Agency FB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Agency FB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6512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gency FB"/>
              </a:rPr>
              <a:t>Afweergedrag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9640" y="1412640"/>
            <a:ext cx="6346800" cy="105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gency FB"/>
              </a:rPr>
              <a:t>Elk gedrag van de zorgvrager dat eten en drinken bemoeilijkt of onmogelijk maakt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7" name="Afbeelding 4" descr=""/>
          <p:cNvPicPr/>
          <p:nvPr/>
        </p:nvPicPr>
        <p:blipFill>
          <a:blip r:embed="rId1"/>
          <a:stretch/>
        </p:blipFill>
        <p:spPr>
          <a:xfrm>
            <a:off x="2090880" y="2779560"/>
            <a:ext cx="5321160" cy="35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6346800" cy="132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gency FB"/>
              </a:rPr>
              <a:t>Verschijnselen afweergedrag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68000" y="1508040"/>
            <a:ext cx="7343640" cy="515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gency FB"/>
              </a:rPr>
              <a:t>De zorgvrager komt niet aan tafel zitt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35480" indent="-28296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gency FB"/>
              </a:rPr>
              <a:t>weigert om naar de ruimte te gaan waar gegeten word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35480" indent="-28296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gency FB"/>
              </a:rPr>
              <a:t>loopt weg van taf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35480" indent="-28296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gency FB"/>
              </a:rPr>
              <a:t>weigert verbaal (‘Ik wil niet’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gency FB"/>
              </a:rPr>
              <a:t>De zorgvrager neemt helemaal geen hap of slok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35480" indent="-28296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gency FB"/>
              </a:rPr>
              <a:t>raakt het eten niet aa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35480" indent="-28296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gency FB"/>
              </a:rPr>
              <a:t>duwt zijn bord of lepel weg, of (de hand van) de verzorgend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35480" indent="-28296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gency FB"/>
              </a:rPr>
              <a:t>bijt op de lep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35480" indent="-28296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gency FB"/>
              </a:rPr>
              <a:t>wendt zijn hoofd af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35480" indent="-28296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gency FB"/>
              </a:rPr>
              <a:t>houdt zijn mond dich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35480" indent="-28296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gency FB"/>
              </a:rPr>
              <a:t>houdt zijn kiezen op elkaa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2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2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2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2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2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6346800" cy="132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gency FB"/>
              </a:rPr>
              <a:t>Verschijnselen afweergedrag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68000" y="1699920"/>
            <a:ext cx="727236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gency FB"/>
              </a:rPr>
              <a:t>De zorgvrager neemt wel een hap of slok, maar slikt het eten of drinken uiteindelijk niet door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gency FB"/>
              </a:rPr>
              <a:t>kokhals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gency FB"/>
              </a:rPr>
              <a:t>spuugt het eten of drinken ui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gency FB"/>
              </a:rPr>
              <a:t>haalt het eten met zijn handen uit de mon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gency FB"/>
              </a:rPr>
              <a:t>slikt het eten of drinken niet doo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4T12:06:23Z</dcterms:created>
  <dc:creator>Corien de Gier</dc:creator>
  <dc:description/>
  <dc:language>en-US</dc:language>
  <cp:lastModifiedBy>Charlotte Verhagen</cp:lastModifiedBy>
  <cp:lastPrinted>2016-09-21T11:35:51Z</cp:lastPrinted>
  <dcterms:modified xsi:type="dcterms:W3CDTF">2016-09-21T14:22:54Z</dcterms:modified>
  <cp:revision>121</cp:revision>
  <dc:subject/>
  <dc:title>Eten en drinken</dc:title>
</cp:coreProperties>
</file>