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1F98D1-B5B4-447A-B8E4-74C39765FCA2}"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CEBACD-B182-408C-AA94-EBA640BACD8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8F479C-935D-4248-9D90-9A69F5458CB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5DE839-8042-452E-9FF2-3F8AC1A1E79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17D7EE-2E5F-4C6C-BFA2-02030B77F42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8C9B6D-033F-47CF-848A-45095C5916E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0A362E-8AC3-448E-93E1-A7E1394B249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371466-CCBF-42FD-92B3-5566A3647F9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5130DE-7A82-42BB-BBD3-E3F0449C0A2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79E476-5442-453A-9B0C-A66471A9317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0C843C5-DE71-4CC0-951D-D2E5575CB59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2B0B17-551A-49E9-9158-7A6FD107EB0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E320851-2530-49E7-8A82-624BAE582064}"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19F2AA-9768-4A36-AAB0-0D006E0CF52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687894-4F40-4B0B-8B45-1D6D1CC2685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603AE1-6A1D-46D1-A1C5-31721891E57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7F9518-6EA4-4CA3-9FDD-07E6DF8431E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C3AFA5-26C3-43EA-89F3-27F5DF85644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FA63CD-5F43-484C-89FC-DF644054DE4A}"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894CDA-37B5-4C38-8663-7D0D8A5901D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3706F6-59B6-42F1-A497-6898CD84ADE2}"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1FD538-66DB-4544-B837-2DA3AE7CC9E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96DA47-EECA-449E-8BD7-5210DEEA5CE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AD2F67-8623-413B-A79A-9E68A40F9B0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A3CEB8-C2E0-44A5-8B76-4DB49C2B637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77AEB0-92B8-4CD1-A49E-D6304008389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81A931-BA0B-40B3-A48D-6C36493D352B}"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BB293B-3446-426A-B9CC-909422C041B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A82649-AA0D-4CE9-8C5C-B5F6AA2D767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8152BB-17B6-4B0D-87BB-132A75DAB16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38E2FA-1BB8-4E7C-ACB0-B52F1DA57A7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5D46B0-5751-4D1D-B15E-AA5AA4E8B1D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F03185-986C-46BB-99C4-7038CBF34C79}"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E882FD-1FAA-4ABD-B73C-50A56231C77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4DE458-CB74-49BD-A33B-3E0890F394F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0EB867-F1A1-4548-9E20-625B31746E4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0CDE35-B7C0-4B48-86D6-61093D26FCDE}"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86B87A-2114-487E-AAA2-DE46604A61B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C5F3CA-544B-42CE-917C-C0271D2BCD6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1F0838-8F84-426F-8471-F4B14FF00BA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47F548-6A42-4442-A20D-7B4B1B84813B}"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632250-25CD-41E5-A5F4-21288219367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D9DF2D-EFFE-4876-9985-BB7B1A9EC735}"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8C4494-429C-4F8D-B649-BFF8EDA8FCF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824F30-1C33-49CB-A56E-33E62D7661DD}"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14A554-DB84-4DAC-B7D8-A4AE167A3DA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A2721B-C3E3-4983-9051-78FB4A78C76C}"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C71A4A-411D-4FB1-8B1C-1DFAC537E57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786F14-8A1F-4576-AD2A-EF8058942E50}"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4936C8-DD9C-4F49-89A3-245F60292C1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B6C0E2-650D-4F30-8367-BAFDD47058D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13ACF3-052C-4DEE-AFF1-86E7DA6C8D5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9DEBFB-926A-4F69-8CCF-AD4ACD5C17E7}"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26772E-453D-4DCD-B61A-2D98DA31D13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258975-FB99-4B41-9418-9D4D3A2A0EFA}"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E253D1-F30E-4C18-9512-C281A2B20A7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7E5E8D-4BB7-4346-9D0A-74862C0DF5B1}"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396219-7294-4D67-BA68-527CFEBAB72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0C51CA-1A97-4653-BCD5-8A6B948F6618}" type="datetime">
              <a:rPr b="0" lang="en-GB" sz="1000" spc="-1" strike="noStrike">
                <a:solidFill>
                  <a:srgbClr val="ffffff"/>
                </a:solidFill>
                <a:latin typeface="News Gothic"/>
              </a:rPr>
              <a:t>30/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B67625-B180-4EB4-BC9F-6363E689AAD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2-02-28T08:42:41Z</dcterms:modified>
  <cp:revision>231</cp:revision>
  <dc:subject>versie 2.1</dc:subject>
  <dc:title>Aardappelopslagbestrijding met de Weed-IT</dc:title>
</cp:coreProperties>
</file>