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244F-FA33-4F9B-B026-DB7C247CBC1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DAA7-90C1-40C6-A107-202BE1B57CCB}"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8D3B-3087-4D56-9CB8-FCD50C8C1882}"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A1A3-E31C-4DA5-992E-C67FE1ED0B9E}"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B07F-3B50-493F-9713-2226AB5E5124}"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7B82-32D3-48C0-A444-CEE5796D490F}"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2-02-28T08:45:48Z</dcterms:modified>
  <cp:revision>162</cp:revision>
  <dc:subject/>
  <dc:title>Werken met machines met sensoren</dc:title>
</cp:coreProperties>
</file>