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6227763" cy="46799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6240" y="685440"/>
            <a:ext cx="45655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fld id="{2CC6A41D-0334-4C62-A640-655D6AB3395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552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fld id="{7F2223E5-3F45-4548-8DE3-74EF17C9C57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552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fld id="{020485F1-317F-4F12-95B3-6768066D833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552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fld id="{71AAB4BF-5956-472D-B17E-DB9C764E5D3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552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fld id="{CD9B2649-BF4D-46BB-AB72-13A59CC5B0B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552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fld id="{E74AD2D0-2037-4CF6-ADB2-5BB3B289E24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552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fld id="{C453BAA9-5235-4C12-99B4-9A790958DB3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C156-72F1-42EC-9127-11C490358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0680" y="1091880"/>
            <a:ext cx="5607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0680" y="2705040"/>
            <a:ext cx="5607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8CF5-2086-4FA1-A1C8-D76A42ADC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0680" y="109188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183840" y="109188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0680" y="270504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183840" y="270504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6B0B-4F68-4FE5-9366-E0648A2D8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0680" y="1091880"/>
            <a:ext cx="180504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206440" y="1091880"/>
            <a:ext cx="180504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102200" y="1091880"/>
            <a:ext cx="180504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0680" y="2705040"/>
            <a:ext cx="180504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206440" y="2705040"/>
            <a:ext cx="180504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102200" y="2705040"/>
            <a:ext cx="180504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5398-1069-4E18-B733-CA633DB9B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0680" y="1091880"/>
            <a:ext cx="560700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9E13-CC77-4133-AB63-895FC9215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0680" y="1091880"/>
            <a:ext cx="5607000" cy="308772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325A-6642-4F09-A065-139F45FE9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0680" y="1091880"/>
            <a:ext cx="2736000" cy="308772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183840" y="1091880"/>
            <a:ext cx="2736000" cy="308772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EC24-5C04-475F-A2E9-334C67302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3448-59E0-4ED9-AFEC-14F684AC6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0680" y="187200"/>
            <a:ext cx="5607000" cy="36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B694-8078-4D36-8E6C-A8C59218D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0680" y="109188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183840" y="1091880"/>
            <a:ext cx="2736000" cy="308772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0680" y="270504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C550-99FC-49BC-B716-EB6C36FB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0680" y="1091880"/>
            <a:ext cx="2736000" cy="308772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183840" y="109188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183840" y="270504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740F-578C-4256-95E6-3DB8BAF8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0680" y="109188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183840" y="109188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0680" y="2705040"/>
            <a:ext cx="5607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49C2-93CF-4E2D-8608-C8768FEE6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0680" y="1091880"/>
            <a:ext cx="5607000" cy="308772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marL="233280" indent="-233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06520" indent="-1936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777960" indent="-1555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090440" indent="-1555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401840" indent="-15552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401840" indent="-15552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401840" indent="-15552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1040" y="4336560"/>
            <a:ext cx="1454400" cy="24948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  <a:defRPr b="0" lang="nl-NL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8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28320" y="4336560"/>
            <a:ext cx="1971720" cy="24948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463640" y="4336560"/>
            <a:ext cx="1454040" cy="24948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  <a:defRPr b="0" lang="nl-NL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fld id="{385AF7C0-8A72-4C89-AAB9-9E8552E1CCEB}" type="slidenum">
              <a:rPr b="0" lang="nl-NL" sz="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aardrijkskunde.hlz.nl/portaal%20BTNL1%20H2/BTNL1%20H2%20par%2001V-E2.ht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Noordelijk en zuidelijk halfron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http://www.gratisppltheorie.nl/Navigation%201_bestanden/image001.png"/>
          <p:cNvPicPr/>
          <p:nvPr/>
        </p:nvPicPr>
        <p:blipFill>
          <a:blip r:embed="rId1"/>
          <a:stretch/>
        </p:blipFill>
        <p:spPr>
          <a:xfrm>
            <a:off x="0" y="1209600"/>
            <a:ext cx="4022640" cy="3318120"/>
          </a:xfrm>
          <a:prstGeom prst="rect">
            <a:avLst/>
          </a:prstGeom>
          <a:ln w="0">
            <a:noFill/>
          </a:ln>
        </p:spPr>
      </p:pic>
      <p:sp>
        <p:nvSpPr>
          <p:cNvPr id="50" name="Tekstvak 4"/>
          <p:cNvSpPr/>
          <p:nvPr/>
        </p:nvSpPr>
        <p:spPr>
          <a:xfrm>
            <a:off x="4194000" y="1946160"/>
            <a:ext cx="16192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2280" rIns="62280" tIns="31320" bIns="31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orderbreed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kstvak 5"/>
          <p:cNvSpPr/>
          <p:nvPr/>
        </p:nvSpPr>
        <p:spPr>
          <a:xfrm>
            <a:off x="4095720" y="3125880"/>
            <a:ext cx="152100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2280" rIns="62280" tIns="31320" bIns="31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zuiderbreed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kstvak 6"/>
          <p:cNvSpPr/>
          <p:nvPr/>
        </p:nvSpPr>
        <p:spPr>
          <a:xfrm>
            <a:off x="1004760" y="3913200"/>
            <a:ext cx="475956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2280" rIns="62280" tIns="31320" bIns="31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Geografischebreedte</a:t>
            </a:r>
            <a:r>
              <a:rPr b="0" lang="nl-NL" sz="1200" spc="-1" strike="noStrike">
                <a:solidFill>
                  <a:srgbClr val="ff0000"/>
                </a:solidFill>
                <a:latin typeface="Arial"/>
              </a:rPr>
              <a:t> is de afstand van een plaats tot de evenaar. Een plaats dicht bij de evenaar ligt op 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lage breedte</a:t>
            </a:r>
            <a:r>
              <a:rPr b="0" lang="nl-NL" sz="1200" spc="-1" strike="noStrike">
                <a:solidFill>
                  <a:srgbClr val="ff0000"/>
                </a:solidFill>
                <a:latin typeface="Arial"/>
              </a:rPr>
              <a:t>. Een plaats dicht bij de pool ligt op 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hoge breedte</a:t>
            </a:r>
            <a:r>
              <a:rPr b="0" lang="nl-NL" sz="12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Gematigde Breedte: </a:t>
            </a:r>
            <a:r>
              <a:rPr b="0" lang="nl-NL" sz="1200" spc="-1" strike="noStrike">
                <a:solidFill>
                  <a:srgbClr val="ff0000"/>
                </a:solidFill>
                <a:latin typeface="Arial"/>
              </a:rPr>
              <a:t>gebieden er tussenin (Bijv. Nederlan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www.urania.be/sterrenkunde/images/coordinaten-aarde.png"/>
          <p:cNvPicPr/>
          <p:nvPr/>
        </p:nvPicPr>
        <p:blipFill>
          <a:blip r:embed="rId1"/>
          <a:stretch/>
        </p:blipFill>
        <p:spPr>
          <a:xfrm>
            <a:off x="1257480" y="625320"/>
            <a:ext cx="3657600" cy="3333960"/>
          </a:xfrm>
          <a:prstGeom prst="rect">
            <a:avLst/>
          </a:prstGeom>
          <a:ln w="0">
            <a:noFill/>
          </a:ln>
        </p:spPr>
      </p:pic>
      <p:sp>
        <p:nvSpPr>
          <p:cNvPr id="54" name="Tekstvak 3"/>
          <p:cNvSpPr/>
          <p:nvPr/>
        </p:nvSpPr>
        <p:spPr>
          <a:xfrm>
            <a:off x="614520" y="3625920"/>
            <a:ext cx="47145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Lengtecirkels of meridianen: lijnen die van Noordpool naar Zuidpool ga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Breedtecirkels of parallellen zijn lijnen die van links naar rechts lop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Bestand:Wereldbol met evenaar en nulmeridiaan.jpg"/>
          <p:cNvPicPr/>
          <p:nvPr/>
        </p:nvPicPr>
        <p:blipFill>
          <a:blip r:embed="rId1"/>
          <a:stretch/>
        </p:blipFill>
        <p:spPr>
          <a:xfrm>
            <a:off x="368280" y="669960"/>
            <a:ext cx="5191200" cy="2709720"/>
          </a:xfrm>
          <a:prstGeom prst="rect">
            <a:avLst/>
          </a:prstGeom>
          <a:ln w="0">
            <a:noFill/>
          </a:ln>
        </p:spPr>
      </p:pic>
      <p:sp>
        <p:nvSpPr>
          <p:cNvPr id="56" name="Tekstvak 2"/>
          <p:cNvSpPr/>
          <p:nvPr/>
        </p:nvSpPr>
        <p:spPr>
          <a:xfrm>
            <a:off x="685800" y="3625920"/>
            <a:ext cx="5000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igt een plaats op het noordelijk halfrond , dan zeg je ook wel dat deze op N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oorderbreedte ligt (N.B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igt een plaats op het zuidelijk halfrond, dan ligt deze op zuid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erbreedte (Z.B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Opdrach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10680" y="1091880"/>
            <a:ext cx="5607000" cy="308772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eken de evena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eken de nulmeridiaa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eef de Noord en Zuidpool aa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eken lengtecirk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eken breedtecirk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Omcirkel het Noordelijk halfrond roo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omcirkel Zuidelijk halfrond blau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omcirkel Westelijk halfrond gro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omcirkel Oostelijk halfrond ge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www.keshyweb.com/astro/basis/lengtegraden/lengte1.gif"/>
          <p:cNvPicPr/>
          <p:nvPr/>
        </p:nvPicPr>
        <p:blipFill>
          <a:blip r:embed="rId1"/>
          <a:stretch/>
        </p:blipFill>
        <p:spPr>
          <a:xfrm>
            <a:off x="2614680" y="982800"/>
            <a:ext cx="3276360" cy="33336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Plaatsbepaling met de kaar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10680" y="1091880"/>
            <a:ext cx="5607000" cy="308772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marL="233280" indent="-233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ijken NH of Z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ijken OH of W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Aflezen breedteligging: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getallen aflezen link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Lengteligging: boven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of onderkant v.d kaart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(W.L of O.L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Klimaatgrafie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http://aardrijkskunde.hlz.nl/portaal%20BTNL1%20H2/BTNL1%20H2%20PICS/par%2001V/E2%20KG%20de%20Bilt.gif"/>
          <p:cNvPicPr/>
          <p:nvPr/>
        </p:nvPicPr>
        <p:blipFill>
          <a:blip r:embed="rId1"/>
          <a:stretch/>
        </p:blipFill>
        <p:spPr>
          <a:xfrm>
            <a:off x="2538360" y="1187280"/>
            <a:ext cx="3140280" cy="3140280"/>
          </a:xfrm>
          <a:prstGeom prst="rect">
            <a:avLst/>
          </a:prstGeom>
          <a:ln w="0">
            <a:noFill/>
          </a:ln>
        </p:spPr>
      </p:pic>
      <p:sp>
        <p:nvSpPr>
          <p:cNvPr id="64" name="Tekstvak 6"/>
          <p:cNvSpPr/>
          <p:nvPr/>
        </p:nvSpPr>
        <p:spPr>
          <a:xfrm>
            <a:off x="378000" y="1835280"/>
            <a:ext cx="18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Extra info Klimaatgrafi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08:05:41Z</dcterms:created>
  <dc:creator>Frederik</dc:creator>
  <dc:description/>
  <dc:language>en-US</dc:language>
  <cp:lastModifiedBy>Stephanie Lohuis</cp:lastModifiedBy>
  <dcterms:modified xsi:type="dcterms:W3CDTF">2013-11-11T10:14:55Z</dcterms:modified>
  <cp:revision>153</cp:revision>
  <dc:subject/>
  <dc:title>Dia 1</dc:title>
</cp:coreProperties>
</file>