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622776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6240" y="685440"/>
            <a:ext cx="45655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5FA077A9-7E0F-4D33-B5C6-CBDE3B40D5C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56C1606A-A5D1-4EE5-8B3C-0F27936CDDB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BC450748-FB1A-4CC7-B90D-7E63E796B8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9D3D7EF7-9F52-4496-92C4-62DE71A08CC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4C91DE52-65CF-450E-93DC-0C583E732B6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B2373DEC-AD1B-4145-A369-6EFF3E1B024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4326F2EC-6D80-47EB-BF69-5DA74D7A455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ADD4-270C-4E6B-A5C4-DEE9879A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A3B-65F8-4E73-B5B6-2D986C23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6034-717D-4E8B-AE59-52CF87AA5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0644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02200" y="109188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068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0644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02200" y="2705040"/>
            <a:ext cx="180504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328-8338-489F-8524-6C3C88AF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9085-EC8E-47E8-8E60-47159684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EB5-977F-4480-95A9-9B9673F8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BC7-E611-496A-BC5F-A494D679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A985-89E9-4271-96B6-2FD06080F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0680" y="187200"/>
            <a:ext cx="5607000" cy="36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911-5147-47C5-8BDA-ED116E6B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195-2F5E-4F25-A970-7BFDC391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83840" y="270504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1CD-E57F-4DD2-8F4C-3D355580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83840" y="1091880"/>
            <a:ext cx="2736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0680" y="2705040"/>
            <a:ext cx="5607000" cy="1472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F16-ECF0-45BC-9168-0F8D2FB6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06520" indent="-1936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777960" indent="-155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090440" indent="-1555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401840" indent="-15552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1040" y="4336560"/>
            <a:ext cx="145440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28320" y="4336560"/>
            <a:ext cx="197172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463640" y="4336560"/>
            <a:ext cx="1454040" cy="24948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  <a:defRPr b="0" lang="nl-NL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fld id="{5B469B02-40BE-44A7-8079-6BF4C3DDFBDD}" type="slidenum">
              <a:rPr b="0" lang="nl-NL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aardrijkskunde.hlz.nl/portaal%20BTNL1%20H2/BTNL1%20H2%20par%2001V-E2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Noordelijk en zuidelijk halfro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www.gratisppltheorie.nl/Navigation%201_bestanden/image001.png"/>
          <p:cNvPicPr/>
          <p:nvPr/>
        </p:nvPicPr>
        <p:blipFill>
          <a:blip r:embed="rId1"/>
          <a:stretch/>
        </p:blipFill>
        <p:spPr>
          <a:xfrm>
            <a:off x="0" y="1209600"/>
            <a:ext cx="4022640" cy="3318120"/>
          </a:xfrm>
          <a:prstGeom prst="rect">
            <a:avLst/>
          </a:prstGeom>
          <a:ln w="0">
            <a:noFill/>
          </a:ln>
        </p:spPr>
      </p:pic>
      <p:sp>
        <p:nvSpPr>
          <p:cNvPr id="50" name="Tekstvak 4"/>
          <p:cNvSpPr/>
          <p:nvPr/>
        </p:nvSpPr>
        <p:spPr>
          <a:xfrm>
            <a:off x="4194000" y="1946160"/>
            <a:ext cx="16192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or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kstvak 5"/>
          <p:cNvSpPr/>
          <p:nvPr/>
        </p:nvSpPr>
        <p:spPr>
          <a:xfrm>
            <a:off x="4095720" y="3125880"/>
            <a:ext cx="15210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uiderbreed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kstvak 6"/>
          <p:cNvSpPr/>
          <p:nvPr/>
        </p:nvSpPr>
        <p:spPr>
          <a:xfrm>
            <a:off x="1004760" y="3913200"/>
            <a:ext cx="4759560" cy="7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ografische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 is de afstand van een plaats tot de evenaar. Een plaats dicht bij de evenaar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a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Een plaats dicht bij de pool ligt op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hoge breedte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. 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Gematigde Breedte: </a:t>
            </a:r>
            <a:r>
              <a:rPr b="0" lang="nl-NL" sz="1200" spc="-1" strike="noStrike">
                <a:solidFill>
                  <a:srgbClr val="ff0000"/>
                </a:solidFill>
                <a:latin typeface="Arial"/>
              </a:rPr>
              <a:t>gebieden er tussenin (Bijv. Nederl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www.urania.be/sterrenkunde/images/coordinaten-aarde.png"/>
          <p:cNvPicPr/>
          <p:nvPr/>
        </p:nvPicPr>
        <p:blipFill>
          <a:blip r:embed="rId1"/>
          <a:stretch/>
        </p:blipFill>
        <p:spPr>
          <a:xfrm>
            <a:off x="1257480" y="625320"/>
            <a:ext cx="3657600" cy="3333960"/>
          </a:xfrm>
          <a:prstGeom prst="rect">
            <a:avLst/>
          </a:prstGeom>
          <a:ln w="0">
            <a:noFill/>
          </a:ln>
        </p:spPr>
      </p:pic>
      <p:sp>
        <p:nvSpPr>
          <p:cNvPr id="54" name="Tekstvak 3"/>
          <p:cNvSpPr/>
          <p:nvPr/>
        </p:nvSpPr>
        <p:spPr>
          <a:xfrm>
            <a:off x="614520" y="3625920"/>
            <a:ext cx="47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Lengtecirkels of meridianen: lijnen die van Noordpool naar Zuidpool 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Breedtecirkels of parallellen zijn lijnen die van links naar rechts l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estand:Wereldbol met evenaar en nulmeridiaan.jpg"/>
          <p:cNvPicPr/>
          <p:nvPr/>
        </p:nvPicPr>
        <p:blipFill>
          <a:blip r:embed="rId1"/>
          <a:stretch/>
        </p:blipFill>
        <p:spPr>
          <a:xfrm>
            <a:off x="368280" y="669960"/>
            <a:ext cx="5191200" cy="270972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685800" y="3625920"/>
            <a:ext cx="500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noordelijk halfrond , dan zeg je ook wel dat deze op N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oorderbreedte ligt (N.B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igt een plaats op het zuidelijk halfrond, dan ligt deze op zuid</a:t>
            </a:r>
            <a:r>
              <a:rPr b="1" lang="nl-NL" sz="1200" spc="-1" strike="noStrike">
                <a:solidFill>
                  <a:srgbClr val="ff0000"/>
                </a:solidFill>
                <a:latin typeface="Arial"/>
              </a:rPr>
              <a:t>erbreedte (Z.B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Opdrach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evena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de nulmeridi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Geef de Noord en Zuidpool a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leng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Teken breedtecirk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het Noordelijk halfrond ro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Zuidelijk halfrond blau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Westelijk halfrond gro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omcirkel Oostelijk halfrond ge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eshyweb.com/astro/basis/lengtegraden/lengte1.gif"/>
          <p:cNvPicPr/>
          <p:nvPr/>
        </p:nvPicPr>
        <p:blipFill>
          <a:blip r:embed="rId1"/>
          <a:stretch/>
        </p:blipFill>
        <p:spPr>
          <a:xfrm>
            <a:off x="2614680" y="982800"/>
            <a:ext cx="3276360" cy="3333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068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Plaatsbepaling met de kaa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0680" y="1091880"/>
            <a:ext cx="5607000" cy="308772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t">
            <a:normAutofit/>
          </a:bodyPr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NH of Z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ijken OH of W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Aflezen breedteligging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getallen aflezen lin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33280" indent="-2332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Lengteligging: boven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onderkant v.d kaar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(W.L of O.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187200"/>
            <a:ext cx="5607000" cy="779760"/>
          </a:xfrm>
          <a:prstGeom prst="rect">
            <a:avLst/>
          </a:prstGeom>
          <a:noFill/>
          <a:ln w="0">
            <a:noFill/>
          </a:ln>
        </p:spPr>
        <p:txBody>
          <a:bodyPr lIns="62280" rIns="6228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Klimaatgrafie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aardrijkskunde.hlz.nl/portaal%20BTNL1%20H2/BTNL1%20H2%20PICS/par%2001V/E2%20KG%20de%20Bilt.gif"/>
          <p:cNvPicPr/>
          <p:nvPr/>
        </p:nvPicPr>
        <p:blipFill>
          <a:blip r:embed="rId1"/>
          <a:stretch/>
        </p:blipFill>
        <p:spPr>
          <a:xfrm>
            <a:off x="2538360" y="1187280"/>
            <a:ext cx="3140280" cy="3140280"/>
          </a:xfrm>
          <a:prstGeom prst="rect">
            <a:avLst/>
          </a:prstGeom>
          <a:ln w="0">
            <a:noFill/>
          </a:ln>
        </p:spPr>
      </p:pic>
      <p:sp>
        <p:nvSpPr>
          <p:cNvPr id="64" name="Tekstvak 6"/>
          <p:cNvSpPr/>
          <p:nvPr/>
        </p:nvSpPr>
        <p:spPr>
          <a:xfrm>
            <a:off x="378000" y="1835280"/>
            <a:ext cx="180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0" lang="nl-NL" sz="1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Extra info Klimaatgrafi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08:05:41Z</dcterms:created>
  <dc:creator>Frederik</dc:creator>
  <dc:description/>
  <dc:language>en-US</dc:language>
  <cp:lastModifiedBy>Stephanie Lohuis</cp:lastModifiedBy>
  <dcterms:modified xsi:type="dcterms:W3CDTF">2013-11-11T10:14:55Z</dcterms:modified>
  <cp:revision>153</cp:revision>
  <dc:subject/>
  <dc:title>Dia 1</dc:title>
</cp:coreProperties>
</file>