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6227763" cy="46799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6240" y="685440"/>
            <a:ext cx="45655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fld id="{E7FB6A77-1E33-4F00-A9BD-AA8C22EBB79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552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fld id="{7FBC4EC8-674F-4881-9186-14E388B949D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552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fld id="{37AED6B7-01D3-47B9-B468-A723E9102CD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552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fld id="{283BE2B5-E1C4-40DB-9A48-29CBE688EE8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552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fld id="{3980AEE1-B4BD-469E-81F6-9B6CF2500DA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552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fld id="{8AB0DB76-E340-4868-8CB1-2F219E6F078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552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fld id="{7878F3EE-768E-4AAF-A280-554A0F93C5F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5B8E-AEB5-4A6F-9943-B4335DB4F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0680" y="1091880"/>
            <a:ext cx="5607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0680" y="2705040"/>
            <a:ext cx="5607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C404-20E8-45BA-92FD-AE3590CC9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0680" y="109188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183840" y="109188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0680" y="270504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183840" y="270504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80FF-32C8-4582-AE59-957E059E0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0680" y="1091880"/>
            <a:ext cx="180504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206440" y="1091880"/>
            <a:ext cx="180504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102200" y="1091880"/>
            <a:ext cx="180504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0680" y="2705040"/>
            <a:ext cx="180504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206440" y="2705040"/>
            <a:ext cx="180504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102200" y="2705040"/>
            <a:ext cx="180504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30AA-C342-4E19-81E8-89F33B813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0680" y="1091880"/>
            <a:ext cx="560700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A7AC-37AA-4601-A8E0-76A1E8C81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0680" y="1091880"/>
            <a:ext cx="5607000" cy="308772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989C-0932-45BC-91BD-7B6950697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0680" y="1091880"/>
            <a:ext cx="2736000" cy="308772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183840" y="1091880"/>
            <a:ext cx="2736000" cy="308772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96E8-00E6-4231-B392-428BF819C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33D5-54EC-46F1-8CEF-84525F39E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0680" y="187200"/>
            <a:ext cx="5607000" cy="36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163B-8844-4CE1-B2F6-29F31D443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0680" y="109188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183840" y="1091880"/>
            <a:ext cx="2736000" cy="308772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0680" y="270504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F466-27B5-4DB9-8A3C-8649BEAA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0680" y="1091880"/>
            <a:ext cx="2736000" cy="308772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183840" y="109188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183840" y="270504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6777-BE69-431E-A809-F31E3C2A8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0680" y="109188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183840" y="109188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0680" y="2705040"/>
            <a:ext cx="5607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B3C0-7E72-4D4B-90BB-20DC4052A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0680" y="1091880"/>
            <a:ext cx="5607000" cy="308772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marL="233280" indent="-233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06520" indent="-1936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777960" indent="-1555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090440" indent="-1555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401840" indent="-15552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401840" indent="-15552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401840" indent="-15552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1040" y="4336560"/>
            <a:ext cx="1454400" cy="24948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  <a:defRPr b="0" lang="nl-NL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8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28320" y="4336560"/>
            <a:ext cx="1971720" cy="24948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463640" y="4336560"/>
            <a:ext cx="1454040" cy="24948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  <a:defRPr b="0" lang="nl-NL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fld id="{8805118D-7AE5-41D7-9681-434C121300BC}" type="slidenum">
              <a:rPr b="0" lang="nl-NL" sz="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aardrijkskunde.hlz.nl/portaal%20BTNL1%20H2/BTNL1%20H2%20par%2001V-E2.ht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Noordelijk en zuidelijk halfron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http://www.gratisppltheorie.nl/Navigation%201_bestanden/image001.png"/>
          <p:cNvPicPr/>
          <p:nvPr/>
        </p:nvPicPr>
        <p:blipFill>
          <a:blip r:embed="rId1"/>
          <a:stretch/>
        </p:blipFill>
        <p:spPr>
          <a:xfrm>
            <a:off x="0" y="1209600"/>
            <a:ext cx="4022640" cy="3318120"/>
          </a:xfrm>
          <a:prstGeom prst="rect">
            <a:avLst/>
          </a:prstGeom>
          <a:ln w="0">
            <a:noFill/>
          </a:ln>
        </p:spPr>
      </p:pic>
      <p:sp>
        <p:nvSpPr>
          <p:cNvPr id="50" name="Tekstvak 4"/>
          <p:cNvSpPr/>
          <p:nvPr/>
        </p:nvSpPr>
        <p:spPr>
          <a:xfrm>
            <a:off x="4194000" y="1946160"/>
            <a:ext cx="16192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2280" rIns="62280" tIns="31320" bIns="31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orderbreed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kstvak 5"/>
          <p:cNvSpPr/>
          <p:nvPr/>
        </p:nvSpPr>
        <p:spPr>
          <a:xfrm>
            <a:off x="4095720" y="3125880"/>
            <a:ext cx="152100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2280" rIns="62280" tIns="31320" bIns="31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zuiderbreed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kstvak 6"/>
          <p:cNvSpPr/>
          <p:nvPr/>
        </p:nvSpPr>
        <p:spPr>
          <a:xfrm>
            <a:off x="1004760" y="3913200"/>
            <a:ext cx="475956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2280" rIns="62280" tIns="31320" bIns="31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Geografischebreedte</a:t>
            </a:r>
            <a:r>
              <a:rPr b="0" lang="nl-NL" sz="1200" spc="-1" strike="noStrike">
                <a:solidFill>
                  <a:srgbClr val="ff0000"/>
                </a:solidFill>
                <a:latin typeface="Arial"/>
              </a:rPr>
              <a:t> is de afstand van een plaats tot de evenaar. Een plaats dicht bij de evenaar ligt op 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lage breedte</a:t>
            </a:r>
            <a:r>
              <a:rPr b="0" lang="nl-NL" sz="1200" spc="-1" strike="noStrike">
                <a:solidFill>
                  <a:srgbClr val="ff0000"/>
                </a:solidFill>
                <a:latin typeface="Arial"/>
              </a:rPr>
              <a:t>. Een plaats dicht bij de pool ligt op 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hoge breedte</a:t>
            </a:r>
            <a:r>
              <a:rPr b="0" lang="nl-NL" sz="12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Gematigde Breedte: </a:t>
            </a:r>
            <a:r>
              <a:rPr b="0" lang="nl-NL" sz="1200" spc="-1" strike="noStrike">
                <a:solidFill>
                  <a:srgbClr val="ff0000"/>
                </a:solidFill>
                <a:latin typeface="Arial"/>
              </a:rPr>
              <a:t>gebieden er tussenin (Bijv. Nederlan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www.urania.be/sterrenkunde/images/coordinaten-aarde.png"/>
          <p:cNvPicPr/>
          <p:nvPr/>
        </p:nvPicPr>
        <p:blipFill>
          <a:blip r:embed="rId1"/>
          <a:stretch/>
        </p:blipFill>
        <p:spPr>
          <a:xfrm>
            <a:off x="1257480" y="625320"/>
            <a:ext cx="3657600" cy="3333960"/>
          </a:xfrm>
          <a:prstGeom prst="rect">
            <a:avLst/>
          </a:prstGeom>
          <a:ln w="0">
            <a:noFill/>
          </a:ln>
        </p:spPr>
      </p:pic>
      <p:sp>
        <p:nvSpPr>
          <p:cNvPr id="54" name="Tekstvak 3"/>
          <p:cNvSpPr/>
          <p:nvPr/>
        </p:nvSpPr>
        <p:spPr>
          <a:xfrm>
            <a:off x="614520" y="3625920"/>
            <a:ext cx="47145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Lengtecirkels of meridianen: lijnen die van Noordpool naar Zuidpool ga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Breedtecirkels of parallellen zijn lijnen die van links naar rechts lop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Bestand:Wereldbol met evenaar en nulmeridiaan.jpg"/>
          <p:cNvPicPr/>
          <p:nvPr/>
        </p:nvPicPr>
        <p:blipFill>
          <a:blip r:embed="rId1"/>
          <a:stretch/>
        </p:blipFill>
        <p:spPr>
          <a:xfrm>
            <a:off x="368280" y="669960"/>
            <a:ext cx="5191200" cy="2709720"/>
          </a:xfrm>
          <a:prstGeom prst="rect">
            <a:avLst/>
          </a:prstGeom>
          <a:ln w="0">
            <a:noFill/>
          </a:ln>
        </p:spPr>
      </p:pic>
      <p:sp>
        <p:nvSpPr>
          <p:cNvPr id="56" name="Tekstvak 2"/>
          <p:cNvSpPr/>
          <p:nvPr/>
        </p:nvSpPr>
        <p:spPr>
          <a:xfrm>
            <a:off x="685800" y="3625920"/>
            <a:ext cx="5000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igt een plaats op het noordelijk halfrond , dan zeg je ook wel dat deze op N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oorderbreedte ligt (N.B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igt een plaats op het zuidelijk halfrond, dan ligt deze op zuid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erbreedte (Z.B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Opdrach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10680" y="1091880"/>
            <a:ext cx="5607000" cy="308772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eken de evena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eken de nulmeridiaa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eef de Noord en Zuidpool aa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eken lengtecirk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eken breedtecirk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Omcirkel het Noordelijk halfrond roo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omcirkel Zuidelijk halfrond blau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omcirkel Westelijk halfrond gro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omcirkel Oostelijk halfrond ge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www.keshyweb.com/astro/basis/lengtegraden/lengte1.gif"/>
          <p:cNvPicPr/>
          <p:nvPr/>
        </p:nvPicPr>
        <p:blipFill>
          <a:blip r:embed="rId1"/>
          <a:stretch/>
        </p:blipFill>
        <p:spPr>
          <a:xfrm>
            <a:off x="2614680" y="982800"/>
            <a:ext cx="3276360" cy="33336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Plaatsbepaling met de kaar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10680" y="1091880"/>
            <a:ext cx="5607000" cy="308772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marL="233280" indent="-233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ijken NH of Z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ijken OH of W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Aflezen breedteligging: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getallen aflezen link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Lengteligging: boven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of onderkant v.d kaart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(W.L of O.L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Klimaatgrafie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http://aardrijkskunde.hlz.nl/portaal%20BTNL1%20H2/BTNL1%20H2%20PICS/par%2001V/E2%20KG%20de%20Bilt.gif"/>
          <p:cNvPicPr/>
          <p:nvPr/>
        </p:nvPicPr>
        <p:blipFill>
          <a:blip r:embed="rId1"/>
          <a:stretch/>
        </p:blipFill>
        <p:spPr>
          <a:xfrm>
            <a:off x="2538360" y="1187280"/>
            <a:ext cx="3140280" cy="3140280"/>
          </a:xfrm>
          <a:prstGeom prst="rect">
            <a:avLst/>
          </a:prstGeom>
          <a:ln w="0">
            <a:noFill/>
          </a:ln>
        </p:spPr>
      </p:pic>
      <p:sp>
        <p:nvSpPr>
          <p:cNvPr id="64" name="Tekstvak 6"/>
          <p:cNvSpPr/>
          <p:nvPr/>
        </p:nvSpPr>
        <p:spPr>
          <a:xfrm>
            <a:off x="378000" y="1835280"/>
            <a:ext cx="18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Extra info Klimaatgrafi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08:05:41Z</dcterms:created>
  <dc:creator>Frederik</dc:creator>
  <dc:description/>
  <dc:language>en-US</dc:language>
  <cp:lastModifiedBy>Stephanie Lohuis</cp:lastModifiedBy>
  <dcterms:modified xsi:type="dcterms:W3CDTF">2013-11-11T10:14:55Z</dcterms:modified>
  <cp:revision>153</cp:revision>
  <dc:subject/>
  <dc:title>Dia 1</dc:title>
</cp:coreProperties>
</file>