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EBFBD83D-E46F-4DB9-B8A8-C7FE86FD6F2A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51D24657-1792-4B2C-AAB4-186D25B1B634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2050920" y="4049640"/>
            <a:ext cx="687708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Werkwoordsp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tegenwoordige tijd en verleden tij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persoonsv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jasper\AppData\Local\Microsoft\Windows\Temporary Internet Files\Content.IE5\TKZOMSGK\MC900384040[1].wmf"/>
          <p:cNvPicPr/>
          <p:nvPr/>
        </p:nvPicPr>
        <p:blipFill>
          <a:blip r:embed="rId3"/>
          <a:stretch/>
        </p:blipFill>
        <p:spPr>
          <a:xfrm>
            <a:off x="4262400" y="836640"/>
            <a:ext cx="24544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9200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2050920" y="285264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.heel hard om de opdracht af te krijg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38836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1"/>
          <p:cNvSpPr/>
          <p:nvPr/>
        </p:nvSpPr>
        <p:spPr>
          <a:xfrm>
            <a:off x="1908000" y="2924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Ik ……………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vak 1"/>
          <p:cNvSpPr/>
          <p:nvPr/>
        </p:nvSpPr>
        <p:spPr>
          <a:xfrm>
            <a:off x="1940040" y="299736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 (worden) 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kstvak 1"/>
          <p:cNvSpPr/>
          <p:nvPr/>
        </p:nvSpPr>
        <p:spPr>
          <a:xfrm>
            <a:off x="1619280" y="2997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j ……………. (gaan) morgen lekker een stukje fiet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geven) de bos bloemen weg aan het publi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reageren) nooit snel op haar m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treden) morgen op in het stad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roeger ……………… Frank zich noo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e  ……………… met de trein ver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fgeronde rechthoek 6"/>
          <p:cNvSpPr/>
          <p:nvPr/>
        </p:nvSpPr>
        <p:spPr>
          <a:xfrm>
            <a:off x="5348160" y="459252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uurkorf ……………… uitstek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6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fgeronde rechthoek 3">
            <a:hlinkClick r:id="rId1" action="ppaction://hlinksldjump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fgeronde rechthoek 4">
            <a:hlinkClick r:id="" action="ppaction://hlinkshowjump?jump=nextslide"/>
            <a:hlinkClick r:id="rId2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kstvak 1"/>
          <p:cNvSpPr/>
          <p:nvPr/>
        </p:nvSpPr>
        <p:spPr>
          <a:xfrm>
            <a:off x="190800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man heeft een fiets gestol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… zijn voorsp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4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et nieuwtje ……………… (verspreiden) zich snel door de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schrijven) het antwoord stiekem in zijn h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ie familie ……………… (verhuizen) bijna elk ja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kstvak 1"/>
          <p:cNvSpPr/>
          <p:nvPr/>
        </p:nvSpPr>
        <p:spPr>
          <a:xfrm>
            <a:off x="2268360" y="306864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gaat onze wedstrijd flui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1"/>
          <p:cNvSpPr/>
          <p:nvPr/>
        </p:nvSpPr>
        <p:spPr>
          <a:xfrm>
            <a:off x="1979640" y="2924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l jij de hond vanavond uitla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kstvak 1"/>
          <p:cNvSpPr/>
          <p:nvPr/>
        </p:nvSpPr>
        <p:spPr>
          <a:xfrm>
            <a:off x="3203640" y="2852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fiet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vak 1"/>
          <p:cNvSpPr/>
          <p:nvPr/>
        </p:nvSpPr>
        <p:spPr>
          <a:xfrm>
            <a:off x="3492360" y="2852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beant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kstvak 1"/>
          <p:cNvSpPr/>
          <p:nvPr/>
        </p:nvSpPr>
        <p:spPr>
          <a:xfrm>
            <a:off x="3348000" y="3068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erhui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a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kstvak 1"/>
          <p:cNvSpPr/>
          <p:nvPr/>
        </p:nvSpPr>
        <p:spPr>
          <a:xfrm>
            <a:off x="1763640" y="3068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rouw …………… meteen om de rek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06436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kstvak 1"/>
          <p:cNvSpPr/>
          <p:nvPr/>
        </p:nvSpPr>
        <p:spPr>
          <a:xfrm>
            <a:off x="1692360" y="2708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conducteur……………….. de kaartjes van de passagi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</dc:description>
  <dc:language>en-US</dc:language>
  <cp:lastModifiedBy>Elske Mientjes</cp:lastModifiedBy>
  <dcterms:modified xsi:type="dcterms:W3CDTF">2014-06-02T11:12:24Z</dcterms:modified>
  <cp:revision>62</cp:revision>
  <dc:subject/>
  <dc:title>Retro Circles</dc:title>
</cp:coreProperties>
</file>