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5009-06C8-4343-8B10-FFF9F7ECF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2AF8-0253-4417-8F9E-20F18F99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C636-600F-458C-975E-B602A194E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562A-56F7-4CF2-8DBF-713C4681E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64C4-BDFB-4946-875E-BADD3014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8A69-E3EA-409B-AAB7-D614DAC2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8CE3-0631-43A1-B3AA-E24BC0F1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2378-7AE6-4694-B73A-6E150EC3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D858-613D-49D5-82F6-7EECAF75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3594-CAC6-409B-8042-437B0687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A05C-E3B3-4D93-BF06-E64975EF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4AAD-E9D2-43CE-8ECB-18BA7001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2ff"/>
            </a:gs>
            <a:gs pos="100000">
              <a:srgbClr val="708a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6678-9743-466B-9F2A-C165152FF2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ntranet.grundel.nl/grassroots/biologie/Waarnemen/html/huid%20schematisch1.jpg" TargetMode="External"/><Relationship Id="rId2" Type="http://schemas.openxmlformats.org/officeDocument/2006/relationships/hyperlink" Target="http://intranet.grundel.nl/grassroots/biologie/Waarnemen/html/huid%20schematisch1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 Unicode MS"/>
              </a:rPr>
              <a:t>Wondzorg</a:t>
            </a: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Calibri"/>
              </a:rPr>
              <a:t>Rood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ffff00"/>
                </a:solidFill>
                <a:latin typeface="Calibri"/>
              </a:rPr>
              <a:t>Geel 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Zwa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44" name="Rectangle 5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 u="sng">
                  <a:solidFill>
                    <a:srgbClr val="eb8803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nl-NL" sz="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7" descr="Bekijk de afbeelding op ware groot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380880"/>
            <a:ext cx="3168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nationale verenig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uwe en betere materia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zichten bun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 aan werkv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lassificati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d: meer gestructureerde wond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jdelijke aanduiding voor inhoud 8" descr="granulatieweefsel.bmp"/>
          <p:cNvPicPr/>
          <p:nvPr/>
        </p:nvPicPr>
        <p:blipFill>
          <a:blip r:embed="rId1"/>
          <a:stretch/>
        </p:blipFill>
        <p:spPr>
          <a:xfrm>
            <a:off x="533520" y="1828800"/>
            <a:ext cx="3560760" cy="2666880"/>
          </a:xfrm>
          <a:prstGeom prst="rect">
            <a:avLst/>
          </a:prstGeom>
          <a:ln w="0">
            <a:noFill/>
          </a:ln>
        </p:spPr>
      </p:pic>
      <p:pic>
        <p:nvPicPr>
          <p:cNvPr id="74" name="Tijdelijke aanduiding voor inhoud 9" descr="granulatieweefsel 1.bmp"/>
          <p:cNvPicPr/>
          <p:nvPr/>
        </p:nvPicPr>
        <p:blipFill>
          <a:blip r:embed="rId2"/>
          <a:stretch/>
        </p:blipFill>
        <p:spPr>
          <a:xfrm>
            <a:off x="4952880" y="3352680"/>
            <a:ext cx="330840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bservatie bij wondz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liggende hu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1. verbandmateri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heid 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Afbeelding 3" descr="netverband.jpg"/>
          <p:cNvPicPr/>
          <p:nvPr/>
        </p:nvPicPr>
        <p:blipFill>
          <a:blip r:embed="rId1"/>
          <a:stretch/>
        </p:blipFill>
        <p:spPr>
          <a:xfrm>
            <a:off x="5181480" y="2989440"/>
            <a:ext cx="297180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2. Wo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oo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ec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mat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rgische reac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ra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Afbeelding 3" descr="gele wond.jpg"/>
          <p:cNvPicPr/>
          <p:nvPr/>
        </p:nvPicPr>
        <p:blipFill>
          <a:blip r:embed="rId1"/>
          <a:stretch/>
        </p:blipFill>
        <p:spPr>
          <a:xfrm>
            <a:off x="3657600" y="1447920"/>
            <a:ext cx="351000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Afbeelding 4" descr="rode wond.jpg"/>
          <p:cNvPicPr/>
          <p:nvPr/>
        </p:nvPicPr>
        <p:blipFill>
          <a:blip r:embed="rId2"/>
          <a:stretch/>
        </p:blipFill>
        <p:spPr>
          <a:xfrm>
            <a:off x="4572000" y="3429000"/>
            <a:ext cx="39718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3. Omliggende hu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id turg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empe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edeemvorm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terug naar vorige plaatj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 wondoppervl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anulerende bo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chtig hou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houd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en van beschadi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Soorten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Open wond = huid verbro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snij/steek/chirurg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esloten wond = huid int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kneuzing, bloeduitstortin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Afbeelding 5" descr="snijwond.bmp"/>
          <p:cNvPicPr/>
          <p:nvPr/>
        </p:nvPicPr>
        <p:blipFill>
          <a:blip r:embed="rId1"/>
          <a:stretch/>
        </p:blipFill>
        <p:spPr>
          <a:xfrm>
            <a:off x="6324480" y="205740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Afbeelding 6" descr="bloeduitstorting.jpg"/>
          <p:cNvPicPr/>
          <p:nvPr/>
        </p:nvPicPr>
        <p:blipFill>
          <a:blip r:embed="rId2"/>
          <a:stretch/>
        </p:blipFill>
        <p:spPr>
          <a:xfrm>
            <a:off x="6477120" y="4648320"/>
            <a:ext cx="2314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Mechanisch (scherp/ sto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Thermis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hem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Elektr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Straling </a:t>
            </a: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(zon, laser en radiotherap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Infec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irculatiestoorn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Oncolog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 Unicode MS"/>
              </a:rPr>
              <a:t>Wondgenez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Prim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eenvoudi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Spoelen-drogen-stollingsproces-korstje-granulatieweefsel + huid-korstje era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Secund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comple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rootte-diepte-onregelmatig-vuil-ontsteking-dode/slechtdoorbloede hu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30120" y="406440"/>
            <a:ext cx="840744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Lichamelijk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t herst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t complicaties (vertragen herst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maken 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metting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ijn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Psychisch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ijven zicht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unctie ver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acturen door verschromp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rmatie, eerlijk, tijd, luiste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cial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eze, stinkende wond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sol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 wondzorg, overlast beperken, luisteren, contact met instanties/lotgeno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CS 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woundcare consultant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8120" y="5866920"/>
            <a:ext cx="41148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lassificati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1938240" y="1647720"/>
            <a:ext cx="4786200" cy="3311640"/>
            <a:chOff x="1938240" y="1647720"/>
            <a:chExt cx="4786200" cy="3311640"/>
          </a:xfrm>
        </p:grpSpPr>
        <p:sp>
          <p:nvSpPr>
            <p:cNvPr id="66" name="Rectangle 5"/>
            <p:cNvSpPr/>
            <p:nvPr/>
          </p:nvSpPr>
          <p:spPr>
            <a:xfrm>
              <a:off x="1938240" y="1647720"/>
              <a:ext cx="4786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1938240" y="1780920"/>
              <a:ext cx="3500280" cy="3178440"/>
              <a:chOff x="1938240" y="1780920"/>
              <a:chExt cx="3500280" cy="3178440"/>
            </a:xfrm>
          </p:grpSpPr>
          <p:sp>
            <p:nvSpPr>
              <p:cNvPr id="68" name="Rectangle 7"/>
              <p:cNvSpPr/>
              <p:nvPr/>
            </p:nvSpPr>
            <p:spPr>
              <a:xfrm>
                <a:off x="1938240" y="1780920"/>
                <a:ext cx="35002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8"/>
              <p:cNvSpPr/>
              <p:nvPr/>
            </p:nvSpPr>
            <p:spPr>
              <a:xfrm>
                <a:off x="1938240" y="1780920"/>
                <a:ext cx="3214800" cy="317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  </a:t>
                </a:r>
                <a:r>
                  <a:rPr b="0" lang="nl-NL" sz="21300" spc="-1" strike="noStrike">
                    <a:solidFill>
                      <a:srgbClr val="990000"/>
                    </a:solidFill>
                    <a:latin typeface="Verdana"/>
                  </a:rPr>
                  <a:t> </a:t>
                </a: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" name="Picture 9" descr="classificatiemodel"/>
          <p:cNvPicPr/>
          <p:nvPr/>
        </p:nvPicPr>
        <p:blipFill>
          <a:blip r:embed="rId1"/>
          <a:stretch/>
        </p:blipFill>
        <p:spPr>
          <a:xfrm>
            <a:off x="1295280" y="1447920"/>
            <a:ext cx="64915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2:02:12Z</dcterms:created>
  <dc:creator>j.snitjer</dc:creator>
  <dc:description/>
  <dc:language>en-US</dc:language>
  <cp:lastModifiedBy>E. Scheltens-Flink</cp:lastModifiedBy>
  <dcterms:modified xsi:type="dcterms:W3CDTF">2015-08-23T15:02:03Z</dcterms:modified>
  <cp:revision>24</cp:revision>
  <dc:subject/>
  <dc:title>Decubitus </dc:title>
</cp:coreProperties>
</file>