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4FEC-2D53-4209-84A6-838E563A48D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3534-ADC4-4CCD-B76C-FB7182A588D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A01D-1709-45BB-BD24-19425FF0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AABA-5D18-43E9-917E-3061DF6F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2A5D-23CE-48BC-AA03-1D9154E3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A6C2-D830-45EE-BFEE-181864865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4338-DF62-4349-9E31-9BB8DCDD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3250-21A9-40D0-B275-E9DB70BB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B210-6853-4F0B-80D6-257BE700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AC55-FB20-46D7-8E6B-C0BDFDC4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ED7E-2E5E-4B4C-83EC-E48CD881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743B-74DB-4970-9F5D-28334582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8B55-862C-401D-A424-72039C0A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BFD1-9165-476E-A4A6-77E73BF0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39CB-19A2-4A3C-A31F-DF43AC4BD86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7A71-446F-4FC6-ABFB-24D5B9097E8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762120" y="2708280"/>
            <a:ext cx="7772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rst haakjes uit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an vermenigvuldigen en 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an optellen en aftrek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838080" y="990720"/>
            <a:ext cx="4343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oorrangsreg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ij rekenen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6588000" y="4469760"/>
            <a:ext cx="1943280" cy="170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X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+ -</a:t>
            </a:r>
            <a:br>
              <a:rPr sz="2400"/>
            </a:br>
            <a:r>
              <a:rPr b="1" lang="nl-NL" sz="1000" spc="-1" strike="noStrike">
                <a:solidFill>
                  <a:srgbClr val="000000"/>
                </a:solidFill>
                <a:latin typeface="Times New Roman"/>
              </a:rPr>
              <a:t>22 d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0C5D-45C6-4B63-936F-B1B75F0A470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3348000" y="4149720"/>
            <a:ext cx="5543640" cy="1739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Vermenigvuldigen en delen doe je in de volgorde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dat je het tegenkom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coffin"/>
          <p:cNvPicPr/>
          <p:nvPr/>
        </p:nvPicPr>
        <p:blipFill>
          <a:blip r:embed="rId4"/>
          <a:stretch/>
        </p:blipFill>
        <p:spPr>
          <a:xfrm>
            <a:off x="826920" y="1052640"/>
            <a:ext cx="331488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2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B7B1-07CF-4F2B-97C0-0C781E849CA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: 4 x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: 4 = 2    2 x 3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67E5-432A-4DDC-ABFC-B5A42A5294B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x 5 : 10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 x 5 = 20    20 : 10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9C4E-928D-42AF-AB4F-E6C6F3CF5C1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: 3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 : 3 = 3    3 x 2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51DA-39F3-4EBD-A78F-6482DBAA648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900000" y="692280"/>
            <a:ext cx="431964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 verder met haakjes erb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708360" y="4653000"/>
            <a:ext cx="4608720" cy="10688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Eerst tussen haakjes uitrek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9AF4-A436-46EF-B2D0-20EFD41AE0E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9 + 6 ) :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 + 6 = 15    15 : 3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DC20-986B-4C01-A0C5-D84C0CB0CFA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18 - 8 )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8 - 8 = 10    10 x 2 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68EF-CAEF-4054-BC45-90F557C1B76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4"/>
          <p:cNvSpPr/>
          <p:nvPr/>
        </p:nvSpPr>
        <p:spPr>
          <a:xfrm>
            <a:off x="755640" y="907920"/>
            <a:ext cx="331308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 a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or                  elk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39640" y="5229360"/>
            <a:ext cx="6553440" cy="581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Je mag pen en papier gebrui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4140360" y="314172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Opletten 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46EF-3062-49BB-8D64-8911B1FC966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x ( 3 + 6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826920" y="4653000"/>
            <a:ext cx="396108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+ 6 = 9    2 x 9 =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B125-7F19-4839-B2C0-1AE30342472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x 2  + 3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826920" y="4653000"/>
            <a:ext cx="518508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x 2 = 12    3 x 2 = 6    12 + 6 =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2D18-3E78-45CD-8AC1-184A08D55E8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468360" y="2708280"/>
            <a:ext cx="6191280" cy="14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rst haakjes uit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eer en gedeeld door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op volgorde dat je het tegenko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bij en Era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op volgorde dat je het tegenko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95280" y="907920"/>
            <a:ext cx="496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Voorrangsreg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bij rek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7451640" y="4365720"/>
            <a:ext cx="1295640" cy="1557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X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9" descr="smiley_020"/>
          <p:cNvPicPr/>
          <p:nvPr/>
        </p:nvPicPr>
        <p:blipFill>
          <a:blip r:embed="rId3"/>
          <a:stretch/>
        </p:blipFill>
        <p:spPr>
          <a:xfrm>
            <a:off x="5364000" y="2421000"/>
            <a:ext cx="324000" cy="3236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0"/>
          <p:cNvSpPr/>
          <p:nvPr/>
        </p:nvSpPr>
        <p:spPr>
          <a:xfrm>
            <a:off x="1979640" y="4578840"/>
            <a:ext cx="1942920" cy="192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X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+ -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1" descr="smiley_020"/>
          <p:cNvPicPr/>
          <p:nvPr/>
        </p:nvPicPr>
        <p:blipFill>
          <a:blip r:embed="rId4"/>
          <a:stretch/>
        </p:blipFill>
        <p:spPr>
          <a:xfrm>
            <a:off x="826920" y="5805360"/>
            <a:ext cx="324000" cy="324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Vogel Fontyst"/>
          <p:cNvPicPr/>
          <p:nvPr/>
        </p:nvPicPr>
        <p:blipFill>
          <a:blip r:embed="rId5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7AD5-05AA-4ED8-8B8B-B7685BE5A14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+ 6  :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: 3 = 2    9 + 2 =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C39A-F85D-4B3F-BA19-9CC6B449048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x 2  + 6 :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826920" y="4653000"/>
            <a:ext cx="489744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x 2 = 16    6 : 2 = 3   16 + 3 =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CC62-8313-46B9-BAB3-F22C36B319A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4"/>
          <p:cNvSpPr/>
          <p:nvPr/>
        </p:nvSpPr>
        <p:spPr>
          <a:xfrm>
            <a:off x="1258920" y="1916280"/>
            <a:ext cx="185724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2843280" y="5300640"/>
            <a:ext cx="2808360" cy="581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el suc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932360" y="2781360"/>
            <a:ext cx="280836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Nu nog een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Telt mee als opdra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23EB-1496-4601-98DA-238921A07B6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914400" y="685800"/>
            <a:ext cx="38019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erna krijg je een aantal oefenopga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3708360" y="4724280"/>
            <a:ext cx="3888000" cy="1137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arna nog een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lt mee als opdr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1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C722-455B-4EEE-B64A-6C1E617A45B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900000" y="692280"/>
            <a:ext cx="3802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+ 2 x 6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x 6 = 12    3 + 12 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AD4A-76CA-485E-B6CD-FD7E43381B1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+ 3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x 2 = 6    8 + 6 =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0716-F2E8-484A-9C31-51F4A5DE652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+ 8 :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: 2 = 4    6 + 4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5D10-E88B-432E-8973-4BDCD045128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x 2 + 8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x 2 = 12    12 + 8 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0463-DA55-4507-B5AB-591C60CCED2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+ 15 :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5 : 3 = 5    8 + 5 =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CFDA-0D56-4DCD-A437-C592A89B5B8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914400" y="685800"/>
            <a:ext cx="3801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neer Van Da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d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3708360" y="4941720"/>
            <a:ext cx="503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rmenigvuldigen en delen doe je in de volgorde dat je het tegenko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0" descr="walkingskeleton"/>
          <p:cNvPicPr/>
          <p:nvPr/>
        </p:nvPicPr>
        <p:blipFill>
          <a:blip r:embed="rId3"/>
          <a:stretch/>
        </p:blipFill>
        <p:spPr>
          <a:xfrm>
            <a:off x="0" y="2924280"/>
            <a:ext cx="1438200" cy="1904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dancing_skeletons"/>
          <p:cNvPicPr/>
          <p:nvPr/>
        </p:nvPicPr>
        <p:blipFill>
          <a:blip r:embed="rId4"/>
          <a:stretch/>
        </p:blipFill>
        <p:spPr>
          <a:xfrm>
            <a:off x="6948360" y="0"/>
            <a:ext cx="2195640" cy="1720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dancing_skeletons"/>
          <p:cNvPicPr/>
          <p:nvPr/>
        </p:nvPicPr>
        <p:blipFill>
          <a:blip r:embed="rId5"/>
          <a:stretch/>
        </p:blipFill>
        <p:spPr>
          <a:xfrm>
            <a:off x="3924360" y="1916280"/>
            <a:ext cx="2232000" cy="1749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ircl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1 -0.00232 L 0.92135 -0.00232 E">
                                      <p:cBhvr>
                                        <p:cTn id="157" dur="5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6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4:48:49Z</dcterms:created>
  <dc:creator>Moniek Verhaaren</dc:creator>
  <dc:description/>
  <dc:language>en-US</dc:language>
  <cp:lastModifiedBy>Tavi Vromans</cp:lastModifiedBy>
  <dcterms:modified xsi:type="dcterms:W3CDTF">2014-09-30T07:25:42Z</dcterms:modified>
  <cp:revision>57</cp:revision>
  <dc:subject/>
  <dc:title>PowerPoint-presentatie</dc:title>
</cp:coreProperties>
</file>