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9321-3897-4471-8706-E6CFD68A8B1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11933-01BC-44A3-85C3-4C96D28404B0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79F6-F3AC-4E51-B5E4-CCF922733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1174-756B-439D-9B2B-E3FC7AFF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6A38-C882-468B-88A6-C7B54DF94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79D9-05FD-43C0-95CC-3A974794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0F29-DBEE-4351-983A-E9C56415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9870-06C1-453A-AB87-61F268E09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BC4-064F-4356-9739-21E26A0C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DE4-CD49-4435-9232-06F3D21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C0F-14F3-4243-8F3E-D4FE04E05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25B6-5E9F-4FE6-A395-6A79ACDB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C829-7C2D-4793-A4C8-3E452A21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7E1C-7CBE-4AC6-A3B9-63BEF7D7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CA8F-380F-4485-8128-1E0C9FEA31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0B1DF-C1D8-4FFA-8CA3-28F2F0DB4804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2708280"/>
            <a:ext cx="77724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rst haakjes uitwer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vermenigvuldigen en de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dan optellen en aftrekk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8080" y="990720"/>
            <a:ext cx="4343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bij rekenen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6588000" y="4469760"/>
            <a:ext cx="1943280" cy="1709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1000" spc="-1" strike="noStrike">
                <a:solidFill>
                  <a:srgbClr val="000000"/>
                </a:solidFill>
                <a:latin typeface="Times New Roman"/>
              </a:rPr>
              <a:t>22 d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1B3A-77C2-45F3-BFB9-A8E69BE7408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5"/>
          <p:cNvSpPr/>
          <p:nvPr/>
        </p:nvSpPr>
        <p:spPr>
          <a:xfrm>
            <a:off x="3348000" y="4149720"/>
            <a:ext cx="5543640" cy="17398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Vermenigvuldigen en delen doe je in de volgord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Times New Roman"/>
              </a:rPr>
              <a:t>dat je het tegenkom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coffin"/>
          <p:cNvPicPr/>
          <p:nvPr/>
        </p:nvPicPr>
        <p:blipFill>
          <a:blip r:embed="rId4"/>
          <a:stretch/>
        </p:blipFill>
        <p:spPr>
          <a:xfrm>
            <a:off x="826920" y="1052640"/>
            <a:ext cx="331488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92" dur="3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AF64D-F2AE-4426-8570-1B20B4D85CE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: 4 x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4 = 2    2 x 3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0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AC2D-AA62-4AD1-9DE6-E1DBBD96525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x 5 : 10 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4 x 5 = 20    20 : 10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0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9205-C2A6-474A-9FC1-F9AF0C313C5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: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: 3 = 3    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0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1FF0-77EB-42A0-B7A0-602E17B10AD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4"/>
          <p:cNvSpPr/>
          <p:nvPr/>
        </p:nvSpPr>
        <p:spPr>
          <a:xfrm>
            <a:off x="900000" y="692280"/>
            <a:ext cx="43196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 verder met haakjes erbi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3708360" y="4653000"/>
            <a:ext cx="4608720" cy="10688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Eerst tussen haakjes uit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3599-A3C8-4CBE-8242-60B0FF184D6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9 + 6 )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+ 6 = 15    15 : 3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0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958E1-A893-4BE8-BDD8-46CB01EF1A41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 18 - 8 )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8 - 8 = 10    10 x 2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0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91AE-8296-4A7D-81D0-B77A44B348A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4"/>
          <p:cNvSpPr/>
          <p:nvPr/>
        </p:nvSpPr>
        <p:spPr>
          <a:xfrm>
            <a:off x="755640" y="907920"/>
            <a:ext cx="3313080" cy="177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 al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or                  elka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539640" y="5229360"/>
            <a:ext cx="655344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Je mag pen en papier gebruik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4140360" y="3141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Opletten 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6EADA-20AA-4814-BAC1-880FA824D16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x ( 3 + 6 )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826920" y="4653000"/>
            <a:ext cx="3961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+ 6 = 9    2 x 9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BBFA7-8F28-4ECC-A8E7-4D8D19106E7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826920" y="4653000"/>
            <a:ext cx="518508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3 x 2 = 6    12 + 6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EADA4-4257-4CE5-A17E-46B7345717B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58" name="Text Box 4"/>
          <p:cNvSpPr/>
          <p:nvPr/>
        </p:nvSpPr>
        <p:spPr>
          <a:xfrm>
            <a:off x="468360" y="2708280"/>
            <a:ext cx="619128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erst haakjes uitwer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Keer en gedeeld door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rbij en Eraf </a:t>
            </a:r>
            <a:r>
              <a:rPr b="0" lang="nl-NL" sz="1600" spc="-1" strike="noStrike">
                <a:solidFill>
                  <a:srgbClr val="000000"/>
                </a:solidFill>
                <a:latin typeface="Arial"/>
                <a:ea typeface="Arial"/>
              </a:rPr>
              <a:t>op volgorde dat je het tegenkom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95280" y="907920"/>
            <a:ext cx="496872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Voorrangsreg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</a:rPr>
              <a:t>bij reke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7451640" y="4365720"/>
            <a:ext cx="1295640" cy="1557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9" descr="smiley_020"/>
          <p:cNvPicPr/>
          <p:nvPr/>
        </p:nvPicPr>
        <p:blipFill>
          <a:blip r:embed="rId3"/>
          <a:stretch/>
        </p:blipFill>
        <p:spPr>
          <a:xfrm>
            <a:off x="5364000" y="2421000"/>
            <a:ext cx="324000" cy="323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1979640" y="4578840"/>
            <a:ext cx="1942920" cy="192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Du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X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+ -</a:t>
            </a:r>
            <a:br>
              <a:rPr sz="2400"/>
            </a:br>
            <a:r>
              <a:rPr b="1" lang="nl-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11" descr="smiley_020"/>
          <p:cNvPicPr/>
          <p:nvPr/>
        </p:nvPicPr>
        <p:blipFill>
          <a:blip r:embed="rId4"/>
          <a:stretch/>
        </p:blipFill>
        <p:spPr>
          <a:xfrm>
            <a:off x="826920" y="5805360"/>
            <a:ext cx="324000" cy="324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2" descr="Vogel Fontyst"/>
          <p:cNvPicPr/>
          <p:nvPr/>
        </p:nvPicPr>
        <p:blipFill>
          <a:blip r:embed="rId5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25974-0800-425A-93D1-0E4BDDF96FD3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 + 6 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: 3 = 2    9 + 2 =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93DB5-A972-461F-91BF-1B4340BB959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x 2  + 6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826920" y="4653000"/>
            <a:ext cx="489744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x 2 = 16    6 : 2 = 3   16 + 3 =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D2FA5-AF10-48C6-AACE-EEC87FE6473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4"/>
          <p:cNvSpPr/>
          <p:nvPr/>
        </p:nvSpPr>
        <p:spPr>
          <a:xfrm>
            <a:off x="1258920" y="1916280"/>
            <a:ext cx="185724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2843280" y="5300640"/>
            <a:ext cx="2808360" cy="5814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Veel suc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4932360" y="2781360"/>
            <a:ext cx="2808360" cy="136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ahoma"/>
              </a:rPr>
              <a:t>Nu nog een t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ahoma"/>
              </a:rPr>
              <a:t>Telt mee als opdrac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0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D2484-584D-4D0F-B41D-FE82F370D328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914400" y="685800"/>
            <a:ext cx="38019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erna krijg je een aantal oefenopgav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3708360" y="4724280"/>
            <a:ext cx="3888000" cy="1137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Daarna nog een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elt mee als opdra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DC010-647A-4862-B7ED-94ADBD9B61B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900000" y="692280"/>
            <a:ext cx="380232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+ 2 x 6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x 6 = 12    3 + 12 =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E475-1EC7-417F-8C81-1E44C58D8F8A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3 x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x 2 = 6    8 + 6 =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D65C-4CEF-4445-AE1B-36F899DCA9AB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+ 8 : 2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 : 2 = 4    6 + 4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B0F07-67FB-491C-96E8-DA021E3A1C9C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 x 2 + 8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x 2 = 12    12 + 8 =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0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D6EB-911F-4B1D-9EB3-CB269A59ED5F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"/>
          <p:cNvSpPr/>
          <p:nvPr/>
        </p:nvSpPr>
        <p:spPr>
          <a:xfrm>
            <a:off x="914400" y="685800"/>
            <a:ext cx="38019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 + 15 : 3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826920" y="4653000"/>
            <a:ext cx="4608720" cy="10234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  <a:ea typeface="Arial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5 : 3 = 5    8 + 5 =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1763640" y="3141720"/>
            <a:ext cx="503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Het antwoord zit onder de 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Tahoma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 kl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7" descr="Vogel Fontyst"/>
          <p:cNvPicPr/>
          <p:nvPr/>
        </p:nvPicPr>
        <p:blipFill>
          <a:blip r:embed="rId3"/>
          <a:stretch/>
        </p:blipFill>
        <p:spPr>
          <a:xfrm>
            <a:off x="7639200" y="0"/>
            <a:ext cx="1504800" cy="16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jdelijke aanduiding voor dianumm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B7476-4643-4078-BA61-45ADA49246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balk"/>
          <p:cNvPicPr/>
          <p:nvPr/>
        </p:nvPicPr>
        <p:blipFill>
          <a:blip r:embed="rId1"/>
          <a:stretch/>
        </p:blipFill>
        <p:spPr>
          <a:xfrm>
            <a:off x="0" y="0"/>
            <a:ext cx="5079960" cy="380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balk"/>
          <p:cNvPicPr/>
          <p:nvPr/>
        </p:nvPicPr>
        <p:blipFill>
          <a:blip r:embed="rId2"/>
          <a:stretch/>
        </p:blipFill>
        <p:spPr>
          <a:xfrm>
            <a:off x="4064040" y="6477120"/>
            <a:ext cx="5079960" cy="38088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4"/>
          <p:cNvSpPr/>
          <p:nvPr/>
        </p:nvSpPr>
        <p:spPr>
          <a:xfrm>
            <a:off x="914400" y="685800"/>
            <a:ext cx="380196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neer Van Da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d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3708360" y="4941720"/>
            <a:ext cx="503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ahoma"/>
              </a:rPr>
              <a:t>Vermenigvuldigen en delen doe je in de volgorde dat je het tegenkom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10" descr="walkingskeleton"/>
          <p:cNvPicPr/>
          <p:nvPr/>
        </p:nvPicPr>
        <p:blipFill>
          <a:blip r:embed="rId3"/>
          <a:stretch/>
        </p:blipFill>
        <p:spPr>
          <a:xfrm>
            <a:off x="0" y="2924280"/>
            <a:ext cx="1438200" cy="1904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1" descr="dancing_skeletons"/>
          <p:cNvPicPr/>
          <p:nvPr/>
        </p:nvPicPr>
        <p:blipFill>
          <a:blip r:embed="rId4"/>
          <a:stretch/>
        </p:blipFill>
        <p:spPr>
          <a:xfrm>
            <a:off x="6948360" y="0"/>
            <a:ext cx="2195640" cy="1720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dancing_skeletons"/>
          <p:cNvPicPr/>
          <p:nvPr/>
        </p:nvPicPr>
        <p:blipFill>
          <a:blip r:embed="rId5"/>
          <a:stretch/>
        </p:blipFill>
        <p:spPr>
          <a:xfrm>
            <a:off x="3924360" y="1916280"/>
            <a:ext cx="2232000" cy="174924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circl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281 -0.00232 L 0.92135 -0.00232 E">
                                      <p:cBhvr>
                                        <p:cTn id="157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5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6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6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6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7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6T14:48:49Z</dcterms:created>
  <dc:creator>Moniek Verhaaren</dc:creator>
  <dc:description/>
  <dc:language>en-US</dc:language>
  <cp:lastModifiedBy>Tavi Vromans</cp:lastModifiedBy>
  <dcterms:modified xsi:type="dcterms:W3CDTF">2014-09-30T07:25:42Z</dcterms:modified>
  <cp:revision>57</cp:revision>
  <dc:subject/>
  <dc:title>PowerPoint-presentatie</dc:title>
</cp:coreProperties>
</file>