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59A2-7D20-4947-B1DE-A41A37FF6C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590B-5C82-445C-971A-C75D1AAE10B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E22-BE02-4560-A701-CA6E6E6F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B8C-B3AD-4DB4-9A69-4ADCC975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18D-FFD0-4C41-9195-33657C0D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725-1F1C-42FE-BB1A-EBC0EE6B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B33-6097-4689-9FD9-E9744519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43C-9B21-4318-8311-C3D33D40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565-5D53-4F09-91BE-7CC1DB00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816-118D-47E0-B139-0F88BEF4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9F8-2004-45A2-87DA-EB25F04B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A0C-F38A-4350-93D0-C073548F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48C-AE36-4639-BC55-C13F3CD5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D86-0725-4C38-88FB-B3238802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0C5E-3F10-47F2-819A-C410717EDAD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0E3E-139C-4FB1-A273-948BD6CFD5D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27082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rst haakjes uit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vermenigvuldigen en 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optellen en aftre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8080" y="9907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ij rekene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588000" y="4469760"/>
            <a:ext cx="1943280" cy="170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1000" spc="-1" strike="noStrike">
                <a:solidFill>
                  <a:srgbClr val="000000"/>
                </a:solidFill>
                <a:latin typeface="Times New Roman"/>
              </a:rPr>
              <a:t>22 d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FC79-0299-4ED7-AEB7-FBF03AA99B1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348000" y="4149720"/>
            <a:ext cx="554364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menigvuldigen en delen doe je in de volgorde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dat je het tegenkom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offin"/>
          <p:cNvPicPr/>
          <p:nvPr/>
        </p:nvPicPr>
        <p:blipFill>
          <a:blip r:embed="rId4"/>
          <a:stretch/>
        </p:blipFill>
        <p:spPr>
          <a:xfrm>
            <a:off x="826920" y="1052640"/>
            <a:ext cx="3314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CD72-D750-46F2-8D76-6A27E5E157E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: 4 x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4 = 2    2 x 3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C4FB-24CA-47E3-8DBF-E9E7128E968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x 5 : 10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x 5 = 20    20 : 1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267F-8CE6-42A0-88C4-F5FF5423EAE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: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: 3 = 3    3 x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2EBD-E8D3-48F0-B2B3-52AEE581180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900000" y="692280"/>
            <a:ext cx="4319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verder met haakjes e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4653000"/>
            <a:ext cx="4608720" cy="106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erst tussen haakjes uit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3E8D-29BB-4CC2-81CA-DDAB7F13BC4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9 + 6 )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+ 6 = 15    15 : 3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9899-DC7D-41EA-9D64-E10E26BC77C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18 - 8 )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 - 8 = 10    10 x 2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7405-0FF5-481A-B92E-3B4A83754F6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755640" y="907920"/>
            <a:ext cx="33130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 a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                  elk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5229360"/>
            <a:ext cx="655344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Je mag pen en papier gebru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140360" y="3141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pletten 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060B-0C23-45F2-817C-932B55EE7CD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x ( 3 + 6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26920" y="4653000"/>
            <a:ext cx="3961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+ 6 = 9    2 x 9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E6FE-4A0B-4CEA-AB55-653A9E147E2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4653000"/>
            <a:ext cx="5185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3 x 2 = 6    12 +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F2AC-429F-4D94-B660-1F1881D2BAF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68360" y="2708280"/>
            <a:ext cx="61912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haakjes uit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er en gedeel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bij en Era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5280" y="907920"/>
            <a:ext cx="496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bij 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51640" y="4365720"/>
            <a:ext cx="129564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smiley_020"/>
          <p:cNvPicPr/>
          <p:nvPr/>
        </p:nvPicPr>
        <p:blipFill>
          <a:blip r:embed="rId3"/>
          <a:stretch/>
        </p:blipFill>
        <p:spPr>
          <a:xfrm>
            <a:off x="5364000" y="242100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1979640" y="4578840"/>
            <a:ext cx="19429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smiley_020"/>
          <p:cNvPicPr/>
          <p:nvPr/>
        </p:nvPicPr>
        <p:blipFill>
          <a:blip r:embed="rId4"/>
          <a:stretch/>
        </p:blipFill>
        <p:spPr>
          <a:xfrm>
            <a:off x="826920" y="5805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Vogel Fontyst"/>
          <p:cNvPicPr/>
          <p:nvPr/>
        </p:nvPicPr>
        <p:blipFill>
          <a:blip r:embed="rId5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47E5-CFF5-411A-82DA-EB1EB0A4B6F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6 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: 3 = 2    9 + 2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F25E-F066-4B37-8A07-2C950E37CD3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x 2  + 6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26920" y="4653000"/>
            <a:ext cx="489744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x 2 = 16    6 : 2 = 3   16 + 3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321F-7906-47EC-A57E-B162496A62D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258920" y="1916280"/>
            <a:ext cx="18572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843280" y="5300640"/>
            <a:ext cx="280836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el suc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932360" y="2781360"/>
            <a:ext cx="28083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u nog ee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Telt mee als opdr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AC54-13D7-480E-AE11-4BC577990E1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914400" y="685800"/>
            <a:ext cx="3801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na krijg je een aantal oefenopg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708360" y="4724280"/>
            <a:ext cx="3888000" cy="1137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 nog ee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t mee als 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A8F5-07B6-4D01-B28F-7489360846B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900000" y="692280"/>
            <a:ext cx="3802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2 x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x 6 = 12    3 + 12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98F3-9B1B-45E7-BB4A-7CE7B30AEA5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x 2 = 6    8 + 6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405C-CEAC-46AD-8470-9C2AFC00F7F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8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2 = 4    6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97B3-13E6-41DC-BA56-FD047486922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+ 8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12 + 8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31FC-7365-4CC8-B88F-A82E485A583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15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 : 3 = 5    8 + 5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6F2F-B93C-463E-AC4A-75CF66DDE5F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914400" y="685800"/>
            <a:ext cx="3801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eer Van D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d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708360" y="4941720"/>
            <a:ext cx="50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menigvuldigen en delen doe je in de volgorde dat je het tegen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walkingskeleton"/>
          <p:cNvPicPr/>
          <p:nvPr/>
        </p:nvPicPr>
        <p:blipFill>
          <a:blip r:embed="rId3"/>
          <a:stretch/>
        </p:blipFill>
        <p:spPr>
          <a:xfrm>
            <a:off x="0" y="2924280"/>
            <a:ext cx="14382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ancing_skeletons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7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ancing_skeletons"/>
          <p:cNvPicPr/>
          <p:nvPr/>
        </p:nvPicPr>
        <p:blipFill>
          <a:blip r:embed="rId5"/>
          <a:stretch/>
        </p:blipFill>
        <p:spPr>
          <a:xfrm>
            <a:off x="3924360" y="1916280"/>
            <a:ext cx="2232000" cy="1749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00232 L 0.92135 -0.00232 E">
                                      <p:cBhvr>
                                        <p:cTn id="15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4:48:49Z</dcterms:created>
  <dc:creator>Moniek Verhaaren</dc:creator>
  <dc:description/>
  <dc:language>en-US</dc:language>
  <cp:lastModifiedBy>Tavi Vromans</cp:lastModifiedBy>
  <dcterms:modified xsi:type="dcterms:W3CDTF">2014-09-30T07:25:42Z</dcterms:modified>
  <cp:revision>57</cp:revision>
  <dc:subject/>
  <dc:title>PowerPoint-presentatie</dc:title>
</cp:coreProperties>
</file>