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1CED-5690-4BDD-9D02-A96EA9041D1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5601-5BB6-49BC-8EE4-7677BF98EF4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68A3-9F7B-41F4-8E64-DCA07919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7CB6-55E7-4BC2-9AE5-72EA7909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E90C-52FC-4C50-993F-E2B2E05A9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FC3B-9F09-4829-9577-533F8053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D4AC-FD6B-4F31-ABAF-40640CA3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7A62-E257-40F3-899D-5A521EF8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32B1-1FF7-4D62-B564-EECDB513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1A98-E565-42E3-AE9B-8E41A95D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97A3-AA94-494C-B706-49543DEF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9F07-9A8B-4A07-84C8-201A5C8E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CFF6-61C6-4390-A755-47926926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2C0E-60DF-4D42-AF73-81A8A7E1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F5F8-DE4C-4253-8C25-4B85AD12304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049A-E607-412D-B36F-35327E0920C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762120" y="2708280"/>
            <a:ext cx="7772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rst haakjes uit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an vermenigvuldigen en 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an optellen en aftrek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838080" y="990720"/>
            <a:ext cx="4343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oorrangsreg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ij rekenen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6588000" y="4469760"/>
            <a:ext cx="1943280" cy="170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X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 -</a:t>
            </a:r>
            <a:br>
              <a:rPr sz="2400"/>
            </a:br>
            <a:r>
              <a:rPr b="1" lang="nl-NL" sz="1000" spc="-1" strike="noStrike">
                <a:solidFill>
                  <a:srgbClr val="000000"/>
                </a:solidFill>
                <a:latin typeface="Times New Roman"/>
              </a:rPr>
              <a:t>22 d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5A14-990A-4D25-A658-3C7B041A81C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3348000" y="4149720"/>
            <a:ext cx="5543640" cy="1739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Vermenigvuldigen en delen doe je in de volgorde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dat je het tegenkom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coffin"/>
          <p:cNvPicPr/>
          <p:nvPr/>
        </p:nvPicPr>
        <p:blipFill>
          <a:blip r:embed="rId4"/>
          <a:stretch/>
        </p:blipFill>
        <p:spPr>
          <a:xfrm>
            <a:off x="826920" y="1052640"/>
            <a:ext cx="331488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2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4858-E8B8-498E-A202-B6860A00C25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: 4 x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: 4 = 2    2 x 3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88EC-B997-483D-878E-CE76E3B6542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x 5 : 10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 x 5 = 20    20 : 10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D7CE-2A38-4109-8F41-D74266FA3D4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: 3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 : 3 = 3    3 x 2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64B9-756C-4AB8-AC76-D9ABFC878B8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900000" y="692280"/>
            <a:ext cx="43196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 verder met haakjes erb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708360" y="4653000"/>
            <a:ext cx="4608720" cy="10688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Eerst tussen haakjes uitrek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8359-2408-47F1-BD59-67BC241C6B8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9 + 6 ) :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 + 6 = 15    15 : 3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B0D9-7682-4C83-845F-FF25041946B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18 - 8 )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8 - 8 = 10    10 x 2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A04F-96FD-4E6A-BD58-1156B6A1C04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4"/>
          <p:cNvSpPr/>
          <p:nvPr/>
        </p:nvSpPr>
        <p:spPr>
          <a:xfrm>
            <a:off x="755640" y="907920"/>
            <a:ext cx="331308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 a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or                  elk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39640" y="5229360"/>
            <a:ext cx="6553440" cy="581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Je mag pen en papier gebrui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4140360" y="314172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Opletten 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6035-A6E7-493E-BD89-1AF11BEDE63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x ( 3 + 6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826920" y="4653000"/>
            <a:ext cx="396108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+ 6 = 9    2 x 9 =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F336-F489-4FC1-AB66-CFC9594E8F6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x 2  + 3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826920" y="4653000"/>
            <a:ext cx="518508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x 2 = 12    3 x 2 = 6    12 + 6 =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3D48-86A6-466B-9726-CC1511C2D67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468360" y="2708280"/>
            <a:ext cx="6191280" cy="14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rst haakjes uit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eer en gedeeld doo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op volgorde dat je het tegenko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bij en Era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op volgorde dat je het tegenko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95280" y="907920"/>
            <a:ext cx="496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Voorrangsreg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bij rek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7451640" y="4365720"/>
            <a:ext cx="1295640" cy="1557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X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9" descr="smiley_020"/>
          <p:cNvPicPr/>
          <p:nvPr/>
        </p:nvPicPr>
        <p:blipFill>
          <a:blip r:embed="rId3"/>
          <a:stretch/>
        </p:blipFill>
        <p:spPr>
          <a:xfrm>
            <a:off x="5364000" y="2421000"/>
            <a:ext cx="324000" cy="323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0"/>
          <p:cNvSpPr/>
          <p:nvPr/>
        </p:nvSpPr>
        <p:spPr>
          <a:xfrm>
            <a:off x="1979640" y="4578840"/>
            <a:ext cx="194292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X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 -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1" descr="smiley_020"/>
          <p:cNvPicPr/>
          <p:nvPr/>
        </p:nvPicPr>
        <p:blipFill>
          <a:blip r:embed="rId4"/>
          <a:stretch/>
        </p:blipFill>
        <p:spPr>
          <a:xfrm>
            <a:off x="826920" y="5805360"/>
            <a:ext cx="324000" cy="32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Vogel Fontyst"/>
          <p:cNvPicPr/>
          <p:nvPr/>
        </p:nvPicPr>
        <p:blipFill>
          <a:blip r:embed="rId5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2A25-7139-4C16-8068-C8390894A17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+ 6  :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: 3 = 2    9 + 2 =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518D-5B24-4C97-B1BF-50A45FF54FB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x 2  + 6 :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826920" y="4653000"/>
            <a:ext cx="489744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x 2 = 16    6 : 2 = 3   16 + 3 =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CACC-F2EA-49E9-ADDF-097B17C092D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4"/>
          <p:cNvSpPr/>
          <p:nvPr/>
        </p:nvSpPr>
        <p:spPr>
          <a:xfrm>
            <a:off x="1258920" y="1916280"/>
            <a:ext cx="18572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2843280" y="5300640"/>
            <a:ext cx="2808360" cy="581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el suc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932360" y="2781360"/>
            <a:ext cx="280836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Nu nog een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Telt mee als opdra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A479-28A3-4C82-9787-EF913C81A99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914400" y="685800"/>
            <a:ext cx="38019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erna krijg je een aantal oefenopga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3708360" y="4724280"/>
            <a:ext cx="3888000" cy="1137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na nog een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lt mee als opdr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1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8DBC-E64D-4C7F-A035-AA7B644030A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900000" y="692280"/>
            <a:ext cx="3802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+ 2 x 6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x 6 = 12    3 + 12 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7EB6-8E72-4471-969F-F442D8AC359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+ 3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x 2 = 6    8 + 6 =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A270-2E04-4C57-A027-BC3BCF60139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+ 8 :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: 2 = 4    6 + 4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4D18-786B-4E35-B509-74605F39E21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x 2 + 8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x 2 = 12    12 + 8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BDDF-965D-4DD8-9284-707C33D5159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+ 15 :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5 : 3 = 5    8 + 5 =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F56F-0979-4F6E-B8CC-6BE82D85377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914400" y="685800"/>
            <a:ext cx="3801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neer Van Da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d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3708360" y="4941720"/>
            <a:ext cx="503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menigvuldigen en delen doe je in de volgorde dat je het tegenko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0" descr="walkingskeleton"/>
          <p:cNvPicPr/>
          <p:nvPr/>
        </p:nvPicPr>
        <p:blipFill>
          <a:blip r:embed="rId3"/>
          <a:stretch/>
        </p:blipFill>
        <p:spPr>
          <a:xfrm>
            <a:off x="0" y="2924280"/>
            <a:ext cx="1438200" cy="1904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dancing_skeletons"/>
          <p:cNvPicPr/>
          <p:nvPr/>
        </p:nvPicPr>
        <p:blipFill>
          <a:blip r:embed="rId4"/>
          <a:stretch/>
        </p:blipFill>
        <p:spPr>
          <a:xfrm>
            <a:off x="6948360" y="0"/>
            <a:ext cx="2195640" cy="1720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dancing_skeletons"/>
          <p:cNvPicPr/>
          <p:nvPr/>
        </p:nvPicPr>
        <p:blipFill>
          <a:blip r:embed="rId5"/>
          <a:stretch/>
        </p:blipFill>
        <p:spPr>
          <a:xfrm>
            <a:off x="3924360" y="1916280"/>
            <a:ext cx="2232000" cy="1749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ircl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1 -0.00232 L 0.92135 -0.00232 E">
                                      <p:cBhvr>
                                        <p:cTn id="157" dur="5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6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4:48:49Z</dcterms:created>
  <dc:creator>Moniek Verhaaren</dc:creator>
  <dc:description/>
  <dc:language>en-US</dc:language>
  <cp:lastModifiedBy>Tavi Vromans</cp:lastModifiedBy>
  <dcterms:modified xsi:type="dcterms:W3CDTF">2014-09-30T07:25:42Z</dcterms:modified>
  <cp:revision>57</cp:revision>
  <dc:subject/>
  <dc:title>PowerPoint-presentatie</dc:title>
</cp:coreProperties>
</file>