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9D5F-3BCE-450F-9F61-49CA3B650FB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17BF-883E-4602-966B-374B60D1A84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D55-A1CE-403C-BB89-7252ECC9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695-CDE1-4837-B496-E2F43A3E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007-474A-46BA-8D7B-1AF079D5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B39-5E54-4F21-8BB1-1BAA6562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853-F485-42D1-BA99-BCEFBF09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50B-5E28-4E47-8B1B-AFD19DAE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644-CD68-4F92-B398-054111C4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A8E-291E-4BD8-9BD4-DD925092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29A-FCDD-4653-9246-1148EBF6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B0A-A419-4ECD-B4E9-F90F9481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2B1-C91F-4488-BCAE-38A96037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D37-4EF4-4E5A-B880-5B1792AD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E112-8DCE-41AD-927F-021C3FF5EEC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D972-91B5-4DF6-90B6-8ECB9B70ABD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27082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rst haakjes uit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vermenigvuldigen en 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optellen en aftre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8080" y="9907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ij rekene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588000" y="4469760"/>
            <a:ext cx="1943280" cy="170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1000" spc="-1" strike="noStrike">
                <a:solidFill>
                  <a:srgbClr val="000000"/>
                </a:solidFill>
                <a:latin typeface="Times New Roman"/>
              </a:rPr>
              <a:t>22 d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5F31-A4D7-411F-AC1B-A1ED2D90E44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348000" y="4149720"/>
            <a:ext cx="554364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menigvuldigen en delen doe je in de volgorde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dat je het tegenkom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offin"/>
          <p:cNvPicPr/>
          <p:nvPr/>
        </p:nvPicPr>
        <p:blipFill>
          <a:blip r:embed="rId4"/>
          <a:stretch/>
        </p:blipFill>
        <p:spPr>
          <a:xfrm>
            <a:off x="826920" y="1052640"/>
            <a:ext cx="3314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CEDC-5555-4ECC-9F50-7743BB357C1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: 4 x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4 = 2    2 x 3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E9C1-66E4-4D6D-B448-ECEEB160EBE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x 5 : 10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x 5 = 20    20 : 1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2C62-3BA9-4F42-AAE4-3D995CEBF0A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: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: 3 = 3    3 x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4113-92F3-4ED5-AF5F-A1FA00A3416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900000" y="692280"/>
            <a:ext cx="4319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verder met haakjes e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4653000"/>
            <a:ext cx="4608720" cy="106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erst tussen haakjes uit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140A-B8A2-40CF-B009-0420B821600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9 + 6 )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+ 6 = 15    15 : 3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D7DC-6E10-467C-AC43-95F239A24AB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18 - 8 )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 - 8 = 10    10 x 2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7EB4-5B76-4C77-B14C-3E3D4F1AFE0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755640" y="907920"/>
            <a:ext cx="33130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 a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                  elk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5229360"/>
            <a:ext cx="655344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Je mag pen en papier gebru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140360" y="3141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pletten 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62A8-9A84-47A3-9DBF-0AD2BBB40EA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x ( 3 + 6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26920" y="4653000"/>
            <a:ext cx="3961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+ 6 = 9    2 x 9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ED1B-39FC-441C-875C-9F6A75B7E94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4653000"/>
            <a:ext cx="5185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3 x 2 = 6    12 +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C5D9-DE92-443E-8250-689A2A5548E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68360" y="2708280"/>
            <a:ext cx="61912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haakjes uit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er en gedeel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bij en Era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5280" y="907920"/>
            <a:ext cx="496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bij 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51640" y="4365720"/>
            <a:ext cx="129564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smiley_020"/>
          <p:cNvPicPr/>
          <p:nvPr/>
        </p:nvPicPr>
        <p:blipFill>
          <a:blip r:embed="rId3"/>
          <a:stretch/>
        </p:blipFill>
        <p:spPr>
          <a:xfrm>
            <a:off x="5364000" y="242100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1979640" y="4578840"/>
            <a:ext cx="19429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smiley_020"/>
          <p:cNvPicPr/>
          <p:nvPr/>
        </p:nvPicPr>
        <p:blipFill>
          <a:blip r:embed="rId4"/>
          <a:stretch/>
        </p:blipFill>
        <p:spPr>
          <a:xfrm>
            <a:off x="826920" y="5805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Vogel Fontyst"/>
          <p:cNvPicPr/>
          <p:nvPr/>
        </p:nvPicPr>
        <p:blipFill>
          <a:blip r:embed="rId5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52F2-25D7-486E-A043-35B476B5F18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6 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: 3 = 2    9 + 2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8E72-560A-43B7-B135-B646EF8417A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x 2  + 6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26920" y="4653000"/>
            <a:ext cx="489744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x 2 = 16    6 : 2 = 3   16 + 3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BB5C-B801-4235-A342-9D020BB589D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258920" y="1916280"/>
            <a:ext cx="18572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843280" y="5300640"/>
            <a:ext cx="280836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el suc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932360" y="2781360"/>
            <a:ext cx="28083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u nog ee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Telt mee als opdr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6725-CBB7-4460-B60F-B85F62E110B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914400" y="685800"/>
            <a:ext cx="3801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na krijg je een aantal oefenopg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708360" y="4724280"/>
            <a:ext cx="3888000" cy="1137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 nog ee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t mee als 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FCE4-F2F9-46BA-A119-605F67D59B1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900000" y="692280"/>
            <a:ext cx="3802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2 x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x 6 = 12    3 + 12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976A-2740-4AEE-89D0-3B8DBA7DAE8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x 2 = 6    8 + 6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C0D4-0DF5-4D74-9736-018DAFA1838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8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2 = 4    6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CABB-3C67-4037-9D80-FC69D55980F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+ 8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12 + 8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4AB2-CCF4-4CC3-A68E-BC4103963E1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15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 : 3 = 5    8 + 5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2686-DD40-468D-A5E6-0474E873C65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914400" y="685800"/>
            <a:ext cx="3801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eer Van D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d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708360" y="4941720"/>
            <a:ext cx="50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menigvuldigen en delen doe je in de volgorde dat je het tegen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walkingskeleton"/>
          <p:cNvPicPr/>
          <p:nvPr/>
        </p:nvPicPr>
        <p:blipFill>
          <a:blip r:embed="rId3"/>
          <a:stretch/>
        </p:blipFill>
        <p:spPr>
          <a:xfrm>
            <a:off x="0" y="2924280"/>
            <a:ext cx="14382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ancing_skeletons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7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ancing_skeletons"/>
          <p:cNvPicPr/>
          <p:nvPr/>
        </p:nvPicPr>
        <p:blipFill>
          <a:blip r:embed="rId5"/>
          <a:stretch/>
        </p:blipFill>
        <p:spPr>
          <a:xfrm>
            <a:off x="3924360" y="1916280"/>
            <a:ext cx="2232000" cy="1749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00232 L 0.92135 -0.00232 E">
                                      <p:cBhvr>
                                        <p:cTn id="15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4:48:49Z</dcterms:created>
  <dc:creator>Moniek Verhaaren</dc:creator>
  <dc:description/>
  <dc:language>en-US</dc:language>
  <cp:lastModifiedBy>Tavi Vromans</cp:lastModifiedBy>
  <dcterms:modified xsi:type="dcterms:W3CDTF">2014-09-30T07:25:42Z</dcterms:modified>
  <cp:revision>57</cp:revision>
  <dc:subject/>
  <dc:title>PowerPoint-presentatie</dc:title>
</cp:coreProperties>
</file>