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3AB1-DA82-4159-B90C-84F20A2CA40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 ons ga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om zowel de praktische handelingen als de zelfregie. Ook gaat het 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m het vermogen van mensen om zich zoveel mogelijk te redden m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hulp van vrienden, buren, familie en vrijwilligers: ‘samenredzaamheid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eindelijk draait het erom dat mensen een zo gewoon mogelijk l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iden. De definitie die wij hebben voor zelfredzaamheid: zie volgende 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7637-4F36-434D-9B29-2FADF06B4A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elfredzaamheid heeft verschillende betekeniss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normale activiteiten van het dagelijkse leven zelfstan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 kunnen doen, en allerlei problemen zelf te kunnen aanpakken, z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fessionele hulpverlening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 waarin iemand in staat is voor zichzelf te zorg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dagelijkse levensverrichtingen zelfstandig te do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als bijvoorbeeld wassen en aankled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vermogen om het leven in te richten zonder hulp van anderen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DD5B-5DE2-4985-9930-F361559CF61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8AB-9537-4A32-92DD-7FE2812D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FB8-5B4F-43C0-AC6E-781A43C6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C87-5248-4F0A-9A60-BF86C750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312-9779-46CA-9B0F-7DA2383D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E18D-A4DC-4CF5-9045-99697DFB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9E4D-DAFC-489F-8350-DC2847FB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B911-2936-462E-BF68-AD2A42CA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BE13-FD04-446C-97E9-05C12394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66ED-E345-4DEF-A6A1-ABB94431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A90B-7EF9-4443-9306-3A4F8623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9F38-A991-4874-B579-BB4B393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371-C0C3-485A-9B8B-83BB1929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3CC4-4333-46C2-937E-E8550BB7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64E6-FE65-471D-82B9-768EF6B3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5964-E23A-44A7-99A1-1C19B66E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C1F1-0AD9-4C5E-99E9-ECA67774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032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38600" y="20937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168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032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38600" y="3951360"/>
            <a:ext cx="232200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9C50-1DB3-4E58-95A1-0D0F036B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B2E-9E6F-48EE-963C-5AC04950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FE6-A3E5-425B-9141-2F35518D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673-B710-41F1-A5AD-FA5979D6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1142640"/>
            <a:ext cx="7212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153-1895-4C1F-A68C-B7FB1544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084-08EA-4CB4-AE93-E63B9E7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57440" y="39513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428-4B65-41C1-9717-8DD878D1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57440" y="2093760"/>
            <a:ext cx="351936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3951360"/>
            <a:ext cx="7211880" cy="16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F07-A625-4361-B99D-3BE01BC7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54BE-854D-42C7-9BEA-414AF799C2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33720" y="5410080"/>
            <a:ext cx="593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158920" y="522756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ts val="22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D2B4-3F6E-4060-A807-4EA1DBE944A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orgvoorbeter.nl/ouderenzorg/Zelfredzaamheid-bijscholing.html#zelfredzaamheid-technologi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Filmpj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9ee0"/>
                </a:solidFill>
                <a:uFillTx/>
                <a:latin typeface="Arial"/>
                <a:hlinkClick r:id="rId1"/>
              </a:rPr>
              <a:t>http://www.zorgvoorbeter.nl/ouderenzorg/Zelfredzaamheid-bijscholing.html#zelfredzaamheid-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8560" y="3500280"/>
            <a:ext cx="59389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Zelfredzaamheid en Zelfre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158560" y="4724280"/>
            <a:ext cx="593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5 novemb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preker"/>
          <p:cNvSpPr/>
          <p:nvPr/>
        </p:nvSpPr>
        <p:spPr>
          <a:xfrm>
            <a:off x="2158920" y="5084640"/>
            <a:ext cx="593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d:\iassistwe\NoorderpoortDocumentGenerator\templates\logos\slides\payoff_toekomst.gif"/>
          <p:cNvPicPr/>
          <p:nvPr/>
        </p:nvPicPr>
        <p:blipFill>
          <a:blip r:embed="rId1"/>
          <a:stretch/>
        </p:blipFill>
        <p:spPr>
          <a:xfrm>
            <a:off x="6437160" y="6229440"/>
            <a:ext cx="25909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Stelling 1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1680" y="2093400"/>
            <a:ext cx="72118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lute zelfredzaamheid bestaat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388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Letterlijk betekent</a:t>
            </a:r>
            <a:br>
              <a:rPr sz="3400"/>
            </a:b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 zelfredzaamheid: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zelf kunnen redd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427640" y="173160"/>
            <a:ext cx="471636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dzaamhei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INOT"/>
              </a:rPr>
              <a:t>Het vermogen van mensen om zichzelf te redden op alle levensterreinen met zo min mogelijk professionele ondersteuning en z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280" y="114264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ij zelfredzaamheid gaat het om de volgende levensterreinen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gbesteding (vrije tijd, zinvolle activitei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, psychisch en cognitief function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al net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onsit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s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dagelijkse levensverrich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bil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2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zelfregie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1680" y="2093760"/>
            <a:ext cx="72118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2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lfregie (zeggenschap over je eigen leven en ondersteuning) is een belangrijk onderdeel van zelfredzaam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000000"/>
                </a:solidFill>
                <a:latin typeface="Arial"/>
              </a:rPr>
              <a:t>De vier kernpunten van zelfregie zijn:</a:t>
            </a:r>
            <a:br>
              <a:rPr sz="3400"/>
            </a:b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773360"/>
            <a:ext cx="7211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aan van het positieve: wat kan ik wel als cliënt, waar ligt mijn kracht?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cliënt versterken door inzicht in zijn eigen drijfveren en situatie: op welke gebieden gaat het goed, op welke gebieden gaat het niet zo goed, wat wil ik nog of weer graag kunnen doen, waar ligt mijn motivat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eigenaarschap en de zeggenschap over ondersteuning en hulp zoveel mogelijk bij de cliënt laten/leggen: wat wil ik met mijn leven, waar wil ik aan werken, welke hulp heb ik daarbij nodig en hoe wil ik dat die hulp er uitzi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2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ersterken en inschakelen informele/sociale netwer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oster Zelredzaamheid en Vernieuwend zorgen"/>
          <p:cNvPicPr/>
          <p:nvPr/>
        </p:nvPicPr>
        <p:blipFill>
          <a:blip r:embed="rId1"/>
          <a:stretch/>
        </p:blipFill>
        <p:spPr>
          <a:xfrm>
            <a:off x="1835280" y="-7920"/>
            <a:ext cx="482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11:37Z</dcterms:created>
  <dc:creator>Ploeg,E.C.</dc:creator>
  <dc:description/>
  <dc:language>en-US</dc:language>
  <cp:lastModifiedBy>Kreuning,A.J.B.</cp:lastModifiedBy>
  <dcterms:modified xsi:type="dcterms:W3CDTF">2015-11-18T13:10:01Z</dcterms:modified>
  <cp:revision>25</cp:revision>
  <dc:subject/>
  <dc:title>Zelfredzaamheid en Zelfregie</dc:title>
</cp:coreProperties>
</file>