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B95E-A4D7-41B7-B4E5-103EA086C73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 ons ga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om zowel de praktische handelingen als de zelfregie. Ook gaat het 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m het vermogen van mensen om zich zoveel mogelijk te redden m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hulp van vrienden, buren, familie en vrijwilligers: ‘samenredzaamheid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iteindelijk draait het erom dat mensen een zo gewoon mogelijk l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iden. De definitie die wij hebben voor zelfredzaamheid: zie volgende 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6A99-B619-4132-BFD4-A897AF30768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elfredzaamheid heeft verschillende betekeniss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normale activiteiten van het dagelijkse leven zelfstan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e kunnen doen, en allerlei problemen zelf te kunnen aanpakken, zo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ofessionele hulpverlening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te waarin iemand in staat is voor zichzelf te zorg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dagelijkse levensverrichtingen zelfstandig te doe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oals bijvoorbeeld wassen en aankled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het leven in te richten zonder hulp van ander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67AC-B06F-492C-B4E8-B30F02701A5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9EA-0B27-4F40-907B-31C72CD7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097-3130-4962-8A54-1576594E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500-A66B-4026-B132-46472198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032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860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168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032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860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960-BC9D-4B28-9CED-B9C8A3AB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787C-7E51-47B2-BB3E-3C78F3D2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55AA-E3A2-42F3-B540-7302ADCD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7A37-422F-4F1A-AD9E-337F60BC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173F-C394-4E2B-AC24-9B078A80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1EFB-8E9E-4140-B821-C66EE402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47640" y="1142640"/>
            <a:ext cx="7212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72D3-2842-4E47-8F41-3749EF50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007B-F3D8-4669-ACFC-11165E56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8A9-A36E-46A6-88F1-3837507A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9D92-8AA3-4C5C-A4FC-A92424C6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72EF-E98B-42FC-B976-01C676CF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559C-C3B5-4169-97A2-517AC81D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D70F-278F-4F13-96C4-64483BAC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032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3860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6168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032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3860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D19E-6A20-48AA-B7DF-54BAD7D0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1BB8-5A59-4F13-9FDF-C31A3A0C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722-B767-46FA-A173-E858340F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05B-04C9-4704-B505-6B12F48E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1142640"/>
            <a:ext cx="7212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39A-960F-4639-B400-9E73FFE5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9A78-1A8F-4E14-A277-A8BFD04F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3FC-715D-424E-83AA-1A2E7C4B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CB7-EA38-4F9F-BAA1-D67AF357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1275-3BAD-4F03-9B5E-EE78675EA5F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33720" y="5410080"/>
            <a:ext cx="593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158920" y="522756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158920" y="522756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D977-FB49-4040-8744-279FA4BE14B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zorgvoorbeter.nl/ouderenzorg/Zelfredzaamheid-bijscholing.html#zelfredzaamheid-technologi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Filmpj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9ee0"/>
                </a:solidFill>
                <a:uFillTx/>
                <a:latin typeface="Arial"/>
                <a:hlinkClick r:id="rId1"/>
              </a:rPr>
              <a:t>http://www.zorgvoorbeter.nl/ouderenzorg/Zelfredzaamheid-bijscholing.html#zelfredzaamheid-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58560" y="3500280"/>
            <a:ext cx="59389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Zelfredzaamheid en Zelfregi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158560" y="4724280"/>
            <a:ext cx="5938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5 november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preker"/>
          <p:cNvSpPr/>
          <p:nvPr/>
        </p:nvSpPr>
        <p:spPr>
          <a:xfrm>
            <a:off x="2158920" y="508464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d:\iassistwe\NoorderpoortDocumentGenerator\templates\logos\slides\payoff_toekomst.gif"/>
          <p:cNvPicPr/>
          <p:nvPr/>
        </p:nvPicPr>
        <p:blipFill>
          <a:blip r:embed="rId1"/>
          <a:stretch/>
        </p:blipFill>
        <p:spPr>
          <a:xfrm>
            <a:off x="6437160" y="6229440"/>
            <a:ext cx="259092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Stelling 1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1680" y="2093400"/>
            <a:ext cx="721188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lute zelfredzaamheid bestaat ni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7280" y="1142640"/>
            <a:ext cx="838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Letterlijk betekent</a:t>
            </a:r>
            <a:br>
              <a:rPr sz="3400"/>
            </a:b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 zelfredzaamheid: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ezelf kunnen redd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427640" y="173160"/>
            <a:ext cx="4716360" cy="66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Zelfredzaamheid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INOT"/>
              </a:rPr>
              <a:t>Het vermogen van mensen om zichzelf te redden op alle levensterreinen met zo min mogelijk professionele ondersteuning en zo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280" y="114264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ij zelfredzaamheid gaat het om de volgende levensterreinen: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gbesteding (vrije tijd, zinvolle activitei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melijk, psychisch en cognitief function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al net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onsit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is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dagelijkse levensverrich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bil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anci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zelfregie</a:t>
            </a:r>
            <a:br>
              <a:rPr sz="3400"/>
            </a:b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lfregie (zeggenschap over je eigen leven en ondersteuning) is een belangrijk onderdeel van zelfredzaamh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De vier kernpunten van zelfregie zijn:</a:t>
            </a:r>
            <a:br>
              <a:rPr sz="3400"/>
            </a:b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4000" y="1773360"/>
            <a:ext cx="7211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gaan van het positieve: wat kan ik wel als cliënt, waar ligt mijn kracht?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cliënt versterken door inzicht in zijn eigen drijfveren en situatie: op welke gebieden gaat het goed, op welke gebieden gaat het niet zo goed, wat wil ik nog of weer graag kunnen doen, waar ligt mijn motivat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eigenaarschap en de zeggenschap over ondersteuning en hulp zoveel mogelijk bij de cliënt laten/leggen: wat wil ik met mijn leven, waar wil ik aan werken, welke hulp heb ik daarbij nodig en hoe wil ik dat die hulp er uitzi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versterken en inschakelen informele/sociale netwer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oster Zelredzaamheid en Vernieuwend zorgen"/>
          <p:cNvPicPr/>
          <p:nvPr/>
        </p:nvPicPr>
        <p:blipFill>
          <a:blip r:embed="rId1"/>
          <a:stretch/>
        </p:blipFill>
        <p:spPr>
          <a:xfrm>
            <a:off x="1835280" y="-7920"/>
            <a:ext cx="48243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5:11:37Z</dcterms:created>
  <dc:creator>Ploeg,E.C.</dc:creator>
  <dc:description/>
  <dc:language>en-US</dc:language>
  <cp:lastModifiedBy>Kreuning,A.J.B.</cp:lastModifiedBy>
  <dcterms:modified xsi:type="dcterms:W3CDTF">2015-11-18T13:10:01Z</dcterms:modified>
  <cp:revision>25</cp:revision>
  <dc:subject/>
  <dc:title>Zelfredzaamheid en Zelfregie</dc:title>
</cp:coreProperties>
</file>