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9252-ADFD-4181-A8BC-DA4157CA38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 ons g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om zowel de praktische handelingen als de zelfregie. Ook gaat het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het vermogen van mensen om zich zoveel mogelijk te redden m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hulp van vrienden, buren, familie en vrijwilligers: ‘samenredzaamhei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eindelijk draait het erom dat mensen een zo gewoon mogelijk l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iden. De definitie die wij hebben voor zelfredzaamheid: zie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3BD-69FE-46F6-BE41-A8E5DB97A78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lfredzaamheid heeft verschillende betekeniss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normale activiteiten van het dagelijkse leven zelfsta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 kunnen doen, en allerlei problemen zelf te kunnen aanpakken, z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fessionele hulpverlening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 waarin iemand in staat is voor zichzelf te zorg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dagelijkse levensverrichtingen zelfstandig te do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als bijvoorbeeld wassen en aankled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het leven in te richten zonder hulp van ander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B347-5567-4C6E-A716-2D5995680F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FE3-FF59-4867-8A8F-F333F3DE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25D-93CC-4D1F-BEE3-4A689125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143-1840-4C26-951C-FB902665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B1C-172F-4446-BA11-04541750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2D86-13AE-4EEA-A45B-D5F23D53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AE12-050F-4768-B14B-91A303F4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D158-20B6-4130-9404-82E8FE3A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884B-2E31-432F-8404-4A1C7ABD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1B95-E99B-4AB4-9C04-FEF02BC7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52E4-F402-4A9B-ACDE-94EA3848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25DE-DECF-4BB2-AA7C-56C9960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F37-17C6-4B83-9E3A-BE24E67F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5E8F-011C-499A-883D-CEA39FB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E43E-BA4E-4A45-A3B9-85374439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A9BF-6991-448A-B558-540A070A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8276-DCD1-462A-8B68-F02D4BB4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5BE9-CF01-4926-9C92-71EBA39F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4F0-D14D-40CE-969B-6ED3C6BD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35D-B6BD-428D-B86C-A25CC967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716-2948-4804-A184-631D9709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4D6-92B6-47AA-B3D0-E5199C7A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D84-4EB7-4AFF-9E00-91CA4856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837-7AB2-40F5-838A-EC4EED9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221-81EA-4C91-BC23-1A3EA57A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6DDD-6E17-4583-AD58-07E58F2A6C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33720" y="5410080"/>
            <a:ext cx="593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EE50-7744-4F3F-B621-B99746771AE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orgvoorbeter.nl/ouderenzorg/Zelfredzaamheid-bijscholing.html#zelfredzaamheid-technologi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Filmpj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ee0"/>
                </a:solidFill>
                <a:uFillTx/>
                <a:latin typeface="Arial"/>
                <a:hlinkClick r:id="rId1"/>
              </a:rPr>
              <a:t>http://www.zorgvoorbeter.nl/ouderenzorg/Zelfredzaamheid-bijscholing.html#zelfredzaamheid-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3500280"/>
            <a:ext cx="5938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Zelfredzaamheid en Zelfre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58560" y="4724280"/>
            <a:ext cx="59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nov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preker"/>
          <p:cNvSpPr/>
          <p:nvPr/>
        </p:nvSpPr>
        <p:spPr>
          <a:xfrm>
            <a:off x="2158920" y="508464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:\iassistwe\NoorderpoortDocumentGenerator\templates\logos\slides\payoff_toekomst.gif"/>
          <p:cNvPicPr/>
          <p:nvPr/>
        </p:nvPicPr>
        <p:blipFill>
          <a:blip r:embed="rId1"/>
          <a:stretch/>
        </p:blipFill>
        <p:spPr>
          <a:xfrm>
            <a:off x="6437160" y="6229440"/>
            <a:ext cx="25909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elling 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680" y="2093400"/>
            <a:ext cx="7211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lute zelfredzaamheid bestaat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38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Letterlijk betekent</a:t>
            </a:r>
            <a:br>
              <a:rPr sz="3400"/>
            </a:b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 zelfredzaamheid: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zelf kunnen red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427640" y="173160"/>
            <a:ext cx="471636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dzaamhei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INOT"/>
              </a:rPr>
              <a:t>Het vermogen van mensen om zichzelf te redden op alle levensterreinen met zo min mogelijk professionele ondersteuning en z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ij zelfredzaamheid gaat het om de volgende levensterreinen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gbesteding (vrije tijd, zinvolle activit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, psychisch en cognitief function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al net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on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s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dagelijkse levensverri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gie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regie (zeggenschap over je eigen leven en ondersteuning) is een belangrijk onderdeel van zelfredzaam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De vier kernpunten van zelfregie zijn: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773360"/>
            <a:ext cx="7211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aan van het positieve: wat kan ik wel als cliënt, waar ligt mijn kracht?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liënt versterken door inzicht in zijn eigen drijfveren en situatie: op welke gebieden gaat het goed, op welke gebieden gaat het niet zo goed, wat wil ik nog of weer graag kunnen doen, waar ligt mijn motivat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eigenaarschap en de zeggenschap over ondersteuning en hulp zoveel mogelijk bij de cliënt laten/leggen: wat wil ik met mijn leven, waar wil ik aan werken, welke hulp heb ik daarbij nodig en hoe wil ik dat die hulp er uitzi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ersterken en inschakelen informele/sociale netwer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ster Zelredzaamheid en Vernieuwend zorgen"/>
          <p:cNvPicPr/>
          <p:nvPr/>
        </p:nvPicPr>
        <p:blipFill>
          <a:blip r:embed="rId1"/>
          <a:stretch/>
        </p:blipFill>
        <p:spPr>
          <a:xfrm>
            <a:off x="1835280" y="-792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11:37Z</dcterms:created>
  <dc:creator>Ploeg,E.C.</dc:creator>
  <dc:description/>
  <dc:language>en-US</dc:language>
  <cp:lastModifiedBy>Kreuning,A.J.B.</cp:lastModifiedBy>
  <dcterms:modified xsi:type="dcterms:W3CDTF">2015-11-18T13:10:01Z</dcterms:modified>
  <cp:revision>25</cp:revision>
  <dc:subject/>
  <dc:title>Zelfredzaamheid en Zelfregie</dc:title>
</cp:coreProperties>
</file>