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6AE2-C3D3-41A6-B555-46CCFEBBE83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 ons ga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om zowel de praktische handelingen als de zelfregie. Ook gaat het 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het vermogen van mensen om zich zoveel mogelijk te redden m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hulp van vrienden, buren, familie en vrijwilligers: ‘samenredzaamhei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eindelijk draait het erom dat mensen een zo gewoon mogelijk l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iden. De definitie die wij hebben voor zelfredzaamheid: zie volgende 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282B-85EC-4EBE-A6DB-5A6C8FC177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elfredzaamheid heeft verschillende betekeniss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normale activiteiten van het dagelijkse leven zelfsta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 kunnen doen, en allerlei problemen zelf te kunnen aanpakken, z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fessionele hulpverlening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 waarin iemand in staat is voor zichzelf te zorg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dagelijkse levensverrichtingen zelfstandig te do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als bijvoorbeeld wassen en aankled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het leven in te richten zonder hulp van ander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B068-FD64-414A-906E-41B097034D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BC2-2B62-426D-B51E-978D898B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065-34DA-4F16-A4DF-F4423612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3E7-A6BC-4F85-80E5-63392EF5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958-A423-4621-97D9-522B5A3E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FFDF-50A8-46FD-A492-400F7672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7248-DD15-4A55-9071-F52D9B0D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651F-6317-4789-ABE5-1BF678BD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868B-3B6A-4F3D-9674-21EC9E38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3402-9F11-4112-A8E3-9DA20B4C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70AB-0AA6-432E-9E47-6AF33D63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BE6F-ACED-44BA-8961-9EE6F62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F4E-4235-4E15-BABB-2CECA99D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2876-1C88-481F-B0DE-2DC0C190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0DCE-CFF9-4686-B361-B29B9405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CA89-2737-472F-9187-FBDE5AF1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B041-B0C8-4630-AB3E-0E7878B1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3C79-6C30-4651-AECE-9F335B96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9F0-356C-476E-8B28-A879CF2C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7EB-D90E-407C-8A47-D4422A16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D75-4D87-496D-9DFC-077E9DA9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ECD-AA4A-451C-85A5-3DA4D2C7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008-B5DA-4CF4-BE86-E0B520C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3B7-0284-4D9C-B476-D7805B55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EFD-04CA-462D-9F3B-0840A406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DB4D-496C-4B5B-86DB-E8E742089C2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33720" y="5410080"/>
            <a:ext cx="593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AF6F-A7F7-4BB4-80C2-8E754B10838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orgvoorbeter.nl/ouderenzorg/Zelfredzaamheid-bijscholing.html#zelfredzaamheid-technologi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Filmpj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9ee0"/>
                </a:solidFill>
                <a:uFillTx/>
                <a:latin typeface="Arial"/>
                <a:hlinkClick r:id="rId1"/>
              </a:rPr>
              <a:t>http://www.zorgvoorbeter.nl/ouderenzorg/Zelfredzaamheid-bijscholing.html#zelfredzaamheid-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8560" y="3500280"/>
            <a:ext cx="5938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Zelfredzaamheid en Zelfre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58560" y="4724280"/>
            <a:ext cx="593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5 novemb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preker"/>
          <p:cNvSpPr/>
          <p:nvPr/>
        </p:nvSpPr>
        <p:spPr>
          <a:xfrm>
            <a:off x="2158920" y="508464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d:\iassistwe\NoorderpoortDocumentGenerator\templates\logos\slides\payoff_toekomst.gif"/>
          <p:cNvPicPr/>
          <p:nvPr/>
        </p:nvPicPr>
        <p:blipFill>
          <a:blip r:embed="rId1"/>
          <a:stretch/>
        </p:blipFill>
        <p:spPr>
          <a:xfrm>
            <a:off x="6437160" y="6229440"/>
            <a:ext cx="25909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Stelling 1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1680" y="2093400"/>
            <a:ext cx="72118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lute zelfredzaamheid bestaat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38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Letterlijk betekent</a:t>
            </a:r>
            <a:br>
              <a:rPr sz="3400"/>
            </a:b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 zelfredzaamheid: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zelf kunnen redd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427640" y="173160"/>
            <a:ext cx="471636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dzaamhei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INOT"/>
              </a:rPr>
              <a:t>Het vermogen van mensen om zichzelf te redden op alle levensterreinen met zo min mogelijk professionele ondersteuning en z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ij zelfredzaamheid gaat het om de volgende levensterreinen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gbesteding (vrije tijd, zinvolle activitei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, psychisch en cognitief function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al net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onsit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s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dagelijkse levensverrich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bil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gie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lfregie (zeggenschap over je eigen leven en ondersteuning) is een belangrijk onderdeel van zelfredzaam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De vier kernpunten van zelfregie zijn: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773360"/>
            <a:ext cx="7211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aan van het positieve: wat kan ik wel als cliënt, waar ligt mijn kracht?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cliënt versterken door inzicht in zijn eigen drijfveren en situatie: op welke gebieden gaat het goed, op welke gebieden gaat het niet zo goed, wat wil ik nog of weer graag kunnen doen, waar ligt mijn motivat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eigenaarschap en de zeggenschap over ondersteuning en hulp zoveel mogelijk bij de cliënt laten/leggen: wat wil ik met mijn leven, waar wil ik aan werken, welke hulp heb ik daarbij nodig en hoe wil ik dat die hulp er uitzi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ersterken en inschakelen informele/sociale netwer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oster Zelredzaamheid en Vernieuwend zorgen"/>
          <p:cNvPicPr/>
          <p:nvPr/>
        </p:nvPicPr>
        <p:blipFill>
          <a:blip r:embed="rId1"/>
          <a:stretch/>
        </p:blipFill>
        <p:spPr>
          <a:xfrm>
            <a:off x="1835280" y="-7920"/>
            <a:ext cx="482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11:37Z</dcterms:created>
  <dc:creator>Ploeg,E.C.</dc:creator>
  <dc:description/>
  <dc:language>en-US</dc:language>
  <cp:lastModifiedBy>Kreuning,A.J.B.</cp:lastModifiedBy>
  <dcterms:modified xsi:type="dcterms:W3CDTF">2015-11-18T13:10:01Z</dcterms:modified>
  <cp:revision>25</cp:revision>
  <dc:subject/>
  <dc:title>Zelfredzaamheid en Zelfregie</dc:title>
</cp:coreProperties>
</file>