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04F6-F432-4FAF-9A2C-02E1EB7559A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 ons ga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om zowel de praktische handelingen als de zelfregie. Ook gaat het 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m het vermogen van mensen om zich zoveel mogelijk te redden m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hulp van vrienden, buren, familie en vrijwilligers: ‘samenredzaamheid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iteindelijk draait het erom dat mensen een zo gewoon mogelijk l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iden. De definitie die wij hebben voor zelfredzaamheid: zie volgende 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A690-E577-4A2F-862F-410E8A5144A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elfredzaamheid heeft verschillende betekeniss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normale activiteiten van het dagelijkse leven zelfstan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e kunnen doen, en allerlei problemen zelf te kunnen aanpakken, zo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fessionele hulpverlening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te waarin iemand in staat is voor zichzelf te zorg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dagelijkse levensverrichtingen zelfstandig te do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oals bijvoorbeeld wassen en aankled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het leven in te richten zonder hulp van ander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620D-5CEB-4950-A791-A672D708157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877A-9436-4315-A01E-E232323D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C74-62F2-42E9-ADD3-13F6C4F0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765-BCBD-42B5-A583-8EC8D4A0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032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860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168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032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860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6DF-CC99-46A4-8340-1A446244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7132-35B7-4E10-9CA8-BAC0A669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D457-DFE6-45B6-B60E-120E98F7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7F03-F640-4CAE-8567-7D3BE290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43B2-94EA-48B1-82E1-00ECE0AE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692B-BF99-4F75-995C-53850457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47640" y="1142640"/>
            <a:ext cx="7212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959A-1AAE-4B71-B4C0-6FED9EDE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6AC6-E29B-4460-856E-BB2E65CD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B24-8E69-4765-A06D-0A24D466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F1FF-4309-44BA-A458-F23F09FB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6ADB-BA04-48DD-96ED-692B7A62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88EB-423E-4FC2-BEE0-DB70C5DE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A3AC-889F-4A55-BE7C-5D6BB51F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032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3860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6168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032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3860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B05D-3754-46BB-9513-02B00943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88B-6EDD-449B-99AA-A3646EA6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CA01-5CFC-415C-8B57-ACEFFAF0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18C-5303-4402-A592-35C41CAE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1142640"/>
            <a:ext cx="7212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D7E-8D3F-4CEF-B9DF-4D35EE3A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F37-8A51-4961-8080-B2C9EE2A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5EF-60AA-4FA9-89C6-E000B63B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350A-DA2F-4D56-A8DE-945AAA95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1BCC-4203-4912-A7DC-DA85C98F88D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33720" y="5410080"/>
            <a:ext cx="593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158920" y="522756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158920" y="522756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A59E-D903-410A-84ED-0A79BDBA20D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zorgvoorbeter.nl/ouderenzorg/Zelfredzaamheid-bijscholing.html#zelfredzaamheid-technologi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Filmpj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9ee0"/>
                </a:solidFill>
                <a:uFillTx/>
                <a:latin typeface="Arial"/>
                <a:hlinkClick r:id="rId1"/>
              </a:rPr>
              <a:t>http://www.zorgvoorbeter.nl/ouderenzorg/Zelfredzaamheid-bijscholing.html#zelfredzaamheid-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58560" y="3500280"/>
            <a:ext cx="59389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Zelfredzaamheid en Zelfreg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58560" y="4724280"/>
            <a:ext cx="5938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5 november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preker"/>
          <p:cNvSpPr/>
          <p:nvPr/>
        </p:nvSpPr>
        <p:spPr>
          <a:xfrm>
            <a:off x="2158920" y="508464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d:\iassistwe\NoorderpoortDocumentGenerator\templates\logos\slides\payoff_toekomst.gif"/>
          <p:cNvPicPr/>
          <p:nvPr/>
        </p:nvPicPr>
        <p:blipFill>
          <a:blip r:embed="rId1"/>
          <a:stretch/>
        </p:blipFill>
        <p:spPr>
          <a:xfrm>
            <a:off x="6437160" y="6229440"/>
            <a:ext cx="259092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Stelling 1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1680" y="2093400"/>
            <a:ext cx="72118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lute zelfredzaamheid bestaat n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838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Letterlijk betekent</a:t>
            </a:r>
            <a:br>
              <a:rPr sz="3400"/>
            </a:b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 zelfredzaamheid: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ezelf kunnen redd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427640" y="173160"/>
            <a:ext cx="471636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Zelfredzaamhei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INOT"/>
              </a:rPr>
              <a:t>Het vermogen van mensen om zichzelf te redden op alle levensterreinen met zo min mogelijk professionele ondersteuning en zo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ij zelfredzaamheid gaat het om de volgende levensterreinen: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gbesteding (vrije tijd, zinvolle activitei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, psychisch en cognitief function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al net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onsit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is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dagelijkse levensverrich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bil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zelfregie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lfregie (zeggenschap over je eigen leven en ondersteuning) is een belangrijk onderdeel van zelfredzaam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De vier kernpunten van zelfregie zijn: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4000" y="1773360"/>
            <a:ext cx="7211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gaan van het positieve: wat kan ik wel als cliënt, waar ligt mijn kracht?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cliënt versterken door inzicht in zijn eigen drijfveren en situatie: op welke gebieden gaat het goed, op welke gebieden gaat het niet zo goed, wat wil ik nog of weer graag kunnen doen, waar ligt mijn motivat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eigenaarschap en de zeggenschap over ondersteuning en hulp zoveel mogelijk bij de cliënt laten/leggen: wat wil ik met mijn leven, waar wil ik aan werken, welke hulp heb ik daarbij nodig en hoe wil ik dat die hulp er uitzi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ersterken en inschakelen informele/sociale netwer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oster Zelredzaamheid en Vernieuwend zorgen"/>
          <p:cNvPicPr/>
          <p:nvPr/>
        </p:nvPicPr>
        <p:blipFill>
          <a:blip r:embed="rId1"/>
          <a:stretch/>
        </p:blipFill>
        <p:spPr>
          <a:xfrm>
            <a:off x="1835280" y="-7920"/>
            <a:ext cx="48243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5:11:37Z</dcterms:created>
  <dc:creator>Ploeg,E.C.</dc:creator>
  <dc:description/>
  <dc:language>en-US</dc:language>
  <cp:lastModifiedBy>Kreuning,A.J.B.</cp:lastModifiedBy>
  <dcterms:modified xsi:type="dcterms:W3CDTF">2015-11-18T13:10:01Z</dcterms:modified>
  <cp:revision>25</cp:revision>
  <dc:subject/>
  <dc:title>Zelfredzaamheid en Zelfregie</dc:title>
</cp:coreProperties>
</file>