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2FDF-F222-476A-B8EE-C3365946458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 ons ga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om zowel de praktische handelingen als de zelfregie. Ook gaat het 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m het vermogen van mensen om zich zoveel mogelijk te redden m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hulp van vrienden, buren, familie en vrijwilligers: ‘samenredzaamhei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iteindelijk draait het erom dat mensen een zo gewoon mogelijk l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iden. De definitie die wij hebben voor zelfredzaamheid: zie volgende 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754A-1078-402F-8474-99C3E657C1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elfredzaamheid heeft verschillende betekeniss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normale activiteiten van het dagelijkse leven zelfstan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 kunnen doen, en allerlei problemen zelf te kunnen aanpakken, zo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fessionele hulpverlening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te waarin iemand in staat is voor zichzelf te zorg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dagelijkse levensverrichtingen zelfstandig te do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oals bijvoorbeeld wassen en aankled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het leven in te richten zonder hulp van ander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E38B-A1E0-430A-9024-2E023D0565E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D7D-052F-4DD0-8FFC-BFA41801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5F3-FCF1-40C6-B524-FCA0B34C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91B-AF83-4AA5-820D-EB4D4E03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550-5CD8-49E1-851C-125D9298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A8AA-9E0A-48D7-AC05-492D6A67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F1BA-4A71-4BE2-ADAB-F3740820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B3CF-0A8E-4D66-8C18-F43628B1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F19E-ECEE-45E3-B89B-0FB4E3A0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9E86-343C-4DD6-81C3-E789F7AE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E4F8-E112-4738-9BDD-DD5423BC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A69A-DA7B-4644-9970-B7AF7D6B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932-1526-4E67-9246-E4941F98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8306-2A18-45CB-909D-4AD1A967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1D24-C65F-467E-B39B-E91476E5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E127-FAC7-40DE-89C8-A27DC4AF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91F2-205F-4D4A-BFD3-6ABCA1BE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F603-A344-4FC4-BB16-C97D0FEF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206-9CDA-4846-B246-39E63439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380-E2E2-40B7-B5E0-42942199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066-87D7-4E12-877D-53EEAF2D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148-0A48-4DD4-8C47-D7E14773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6D2-1041-4C44-9D33-4D9DA774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037-9EB9-4DA8-B96B-F162089B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B2D-3635-4301-972C-CACA8CE5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9E02-139F-4F65-BB1F-8F80CB11D2C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33720" y="5410080"/>
            <a:ext cx="593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F174-E742-4217-9A0B-6225EA0DE8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orgvoorbeter.nl/ouderenzorg/Zelfredzaamheid-bijscholing.html#zelfredzaamheid-technologi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Filmpj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9ee0"/>
                </a:solidFill>
                <a:uFillTx/>
                <a:latin typeface="Arial"/>
                <a:hlinkClick r:id="rId1"/>
              </a:rPr>
              <a:t>http://www.zorgvoorbeter.nl/ouderenzorg/Zelfredzaamheid-bijscholing.html#zelfredzaamheid-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8560" y="3500280"/>
            <a:ext cx="59389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Zelfredzaamheid en Zelfre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58560" y="4724280"/>
            <a:ext cx="593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5 november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preker"/>
          <p:cNvSpPr/>
          <p:nvPr/>
        </p:nvSpPr>
        <p:spPr>
          <a:xfrm>
            <a:off x="2158920" y="508464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d:\iassistwe\NoorderpoortDocumentGenerator\templates\logos\slides\payoff_toekomst.gif"/>
          <p:cNvPicPr/>
          <p:nvPr/>
        </p:nvPicPr>
        <p:blipFill>
          <a:blip r:embed="rId1"/>
          <a:stretch/>
        </p:blipFill>
        <p:spPr>
          <a:xfrm>
            <a:off x="6437160" y="6229440"/>
            <a:ext cx="259092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Stelling 1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1680" y="2093400"/>
            <a:ext cx="72118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lute zelfredzaamheid bestaat n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38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Letterlijk betekent</a:t>
            </a:r>
            <a:br>
              <a:rPr sz="3400"/>
            </a:b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 zelfredzaamheid: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zelf kunnen redd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427640" y="173160"/>
            <a:ext cx="471636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dzaamhei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INOT"/>
              </a:rPr>
              <a:t>Het vermogen van mensen om zichzelf te redden op alle levensterreinen met zo min mogelijk professionele ondersteuning en zo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ij zelfredzaamheid gaat het om de volgende levensterreinen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gbesteding (vrije tijd, zinvolle activitei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, psychisch en cognitief function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al net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onsit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s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dagelijkse levensverrich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bil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gie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lfregie (zeggenschap over je eigen leven en ondersteuning) is een belangrijk onderdeel van zelfredzaam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De vier kernpunten van zelfregie zijn: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000" y="1773360"/>
            <a:ext cx="7211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gaan van het positieve: wat kan ik wel als cliënt, waar ligt mijn kracht?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cliënt versterken door inzicht in zijn eigen drijfveren en situatie: op welke gebieden gaat het goed, op welke gebieden gaat het niet zo goed, wat wil ik nog of weer graag kunnen doen, waar ligt mijn motivat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eigenaarschap en de zeggenschap over ondersteuning en hulp zoveel mogelijk bij de cliënt laten/leggen: wat wil ik met mijn leven, waar wil ik aan werken, welke hulp heb ik daarbij nodig en hoe wil ik dat die hulp er uitzi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ersterken en inschakelen informele/sociale netwer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oster Zelredzaamheid en Vernieuwend zorgen"/>
          <p:cNvPicPr/>
          <p:nvPr/>
        </p:nvPicPr>
        <p:blipFill>
          <a:blip r:embed="rId1"/>
          <a:stretch/>
        </p:blipFill>
        <p:spPr>
          <a:xfrm>
            <a:off x="1835280" y="-7920"/>
            <a:ext cx="4824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11:37Z</dcterms:created>
  <dc:creator>Ploeg,E.C.</dc:creator>
  <dc:description/>
  <dc:language>en-US</dc:language>
  <cp:lastModifiedBy>Kreuning,A.J.B.</cp:lastModifiedBy>
  <dcterms:modified xsi:type="dcterms:W3CDTF">2015-11-18T13:10:01Z</dcterms:modified>
  <cp:revision>25</cp:revision>
  <dc:subject/>
  <dc:title>Zelfredzaamheid en Zelfregie</dc:title>
</cp:coreProperties>
</file>