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17DC-867F-4021-A4BB-8CF4D6B1AAF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 ons ga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om zowel de praktische handelingen als de zelfregie. Ook gaat het 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m het vermogen van mensen om zich zoveel mogelijk te redden m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hulp van vrienden, buren, familie en vrijwilligers: ‘samenredzaamheid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Uiteindelijk draait het erom dat mensen een zo gewoon mogelijk l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iden. De definitie die wij hebben voor zelfredzaamheid: zie volgende 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6C20-E251-43D3-8228-71767A053A5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elfredzaamheid heeft verschillende betekeniss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normale activiteiten van het dagelijkse leven zelfstand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e kunnen doen, en allerlei problemen zelf te kunnen aanpakken, zo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rofessionele hulpverlening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te waarin iemand in staat is voor zichzelf te zorg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dagelijkse levensverrichtingen zelfstandig te doe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oals bijvoorbeeld wassen en aankled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het leven in te richten zonder hulp van ander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9F82-D68F-496C-A0D8-0C84528DA53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11E-98ED-4E74-A1E6-83A729CF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FB2-D082-4863-B8C3-ED5F936F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8828-11CE-4A94-89FE-1EFC1A81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032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860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168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032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860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A277-959F-4BAF-8C26-B67466ED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B399-8F85-40DA-B56F-EA868521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EC58-A69E-4239-B79F-BE107590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98E6-FFF1-4B17-ADEC-1A530A4C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830D-F3F9-4837-A2C9-812E4FE7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C4A1-7A7B-4048-93D5-F815C8F3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47640" y="1142640"/>
            <a:ext cx="7212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3014-7548-4BBD-B392-8104B7FA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B56F-43F6-49D9-B49D-56E8ABEE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B050-5ED5-48CB-AE97-B30797B6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4A21-7144-425E-82AB-41A59D9C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242E-74B6-4FC1-9E86-E4994B7E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8BD2-924F-46D1-B39F-520FBEAA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4B32-288D-4049-B84F-0C49A414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032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3860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6168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032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3860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6417-67DA-455D-8A47-5D899D4C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7BB-701E-486A-BD95-15D58690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D47-11ED-437F-AD6F-15922C98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6F37-5A96-48A6-80FA-612321C5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1142640"/>
            <a:ext cx="7212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2941-05DB-483D-8662-2B8EE0B8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BD7F-5C13-43D8-BD28-85C76FE6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D39-EA31-4FE7-952D-D445A1BA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1ECA-70BD-4A35-8282-BFA8299F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6ED9-11F7-4C4F-B76C-65606F893FC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133720" y="5410080"/>
            <a:ext cx="593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158920" y="522756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158920" y="522756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3616-00F5-4309-B83C-E1DE40BD3CE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zorgvoorbeter.nl/ouderenzorg/Zelfredzaamheid-bijscholing.html#zelfredzaamheid-technologi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Filmpj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9ee0"/>
                </a:solidFill>
                <a:uFillTx/>
                <a:latin typeface="Arial"/>
                <a:hlinkClick r:id="rId1"/>
              </a:rPr>
              <a:t>http://www.zorgvoorbeter.nl/ouderenzorg/Zelfredzaamheid-bijscholing.html#zelfredzaamheid-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58560" y="3500280"/>
            <a:ext cx="59389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Zelfredzaamheid en Zelfregi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158560" y="4724280"/>
            <a:ext cx="5938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5 november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preker"/>
          <p:cNvSpPr/>
          <p:nvPr/>
        </p:nvSpPr>
        <p:spPr>
          <a:xfrm>
            <a:off x="2158920" y="508464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d:\iassistwe\NoorderpoortDocumentGenerator\templates\logos\slides\payoff_toekomst.gif"/>
          <p:cNvPicPr/>
          <p:nvPr/>
        </p:nvPicPr>
        <p:blipFill>
          <a:blip r:embed="rId1"/>
          <a:stretch/>
        </p:blipFill>
        <p:spPr>
          <a:xfrm>
            <a:off x="6437160" y="6229440"/>
            <a:ext cx="259092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Stelling 1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1680" y="2093400"/>
            <a:ext cx="721188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solute zelfredzaamheid bestaat ni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7280" y="1142640"/>
            <a:ext cx="8388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Letterlijk betekent</a:t>
            </a:r>
            <a:br>
              <a:rPr sz="3400"/>
            </a:b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 zelfredzaamheid: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ezelf kunnen redd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427640" y="173160"/>
            <a:ext cx="4716360" cy="66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Zelfredzaamheid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INOT"/>
              </a:rPr>
              <a:t>Het vermogen van mensen om zichzelf te redden op alle levensterreinen met zo min mogelijk professionele ondersteuning en zo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280" y="114264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ij zelfredzaamheid gaat het om de volgende levensterreinen: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gbesteding (vrije tijd, zinvolle activitei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melijk, psychisch en cognitief function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al net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onsitu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is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ne dagelijkse levensverrich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bil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anci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zelfregie</a:t>
            </a:r>
            <a:br>
              <a:rPr sz="3400"/>
            </a:b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lfregie (zeggenschap over je eigen leven en ondersteuning) is een belangrijk onderdeel van zelfredzaamh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De vier kernpunten van zelfregie zijn:</a:t>
            </a:r>
            <a:br>
              <a:rPr sz="3400"/>
            </a:b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4000" y="1773360"/>
            <a:ext cx="7211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gaan van het positieve: wat kan ik wel als cliënt, waar ligt mijn kracht?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cliënt versterken door inzicht in zijn eigen drijfveren en situatie: op welke gebieden gaat het goed, op welke gebieden gaat het niet zo goed, wat wil ik nog of weer graag kunnen doen, waar ligt mijn motivat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eigenaarschap en de zeggenschap over ondersteuning en hulp zoveel mogelijk bij de cliënt laten/leggen: wat wil ik met mijn leven, waar wil ik aan werken, welke hulp heb ik daarbij nodig en hoe wil ik dat die hulp er uitzi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versterken en inschakelen informele/sociale netwer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Poster Zelredzaamheid en Vernieuwend zorgen"/>
          <p:cNvPicPr/>
          <p:nvPr/>
        </p:nvPicPr>
        <p:blipFill>
          <a:blip r:embed="rId1"/>
          <a:stretch/>
        </p:blipFill>
        <p:spPr>
          <a:xfrm>
            <a:off x="1835280" y="-7920"/>
            <a:ext cx="48243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5:11:37Z</dcterms:created>
  <dc:creator>Ploeg,E.C.</dc:creator>
  <dc:description/>
  <dc:language>en-US</dc:language>
  <cp:lastModifiedBy>Kreuning,A.J.B.</cp:lastModifiedBy>
  <dcterms:modified xsi:type="dcterms:W3CDTF">2015-11-18T13:10:01Z</dcterms:modified>
  <cp:revision>25</cp:revision>
  <dc:subject/>
  <dc:title>Zelfredzaamheid en Zelfregie</dc:title>
</cp:coreProperties>
</file>