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78B3-D87F-442B-B7C5-CB759E62B9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 ons ga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om zowel de praktische handelingen als de zelfregie. Ook gaat het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het vermogen van mensen om zich zoveel mogelijk te redden m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hulp van vrienden, buren, familie en vrijwilligers: ‘samenredzaamhei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eindelijk draait het erom dat mensen een zo gewoon mogelijk l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iden. De definitie die wij hebben voor zelfredzaamheid: zie volgende 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1AEF-4892-44BD-944D-1C9E5BE0989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lfredzaamheid heeft verschillende betekeniss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normale activiteiten van het dagelijkse leven zelfsta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 kunnen doen, en allerlei problemen zelf te kunnen aanpakken, z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fessionele hulpverlening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 waarin iemand in staat is voor zichzelf te zorg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dagelijkse levensverrichtingen zelfstandig te do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als bijvoorbeeld wassen en aankled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het leven in te richten zonder hulp van ander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EEF4-A6BE-4A2A-8344-3EEB33A7E6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65E-F359-493B-83CE-35120270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EF8-5276-42D6-AFAF-6FABE4CE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CBF-F438-4861-A246-0BE4D0DF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FFB-06F2-4A98-8BBB-7DA0CDDD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9345-67F2-49AA-B4E4-774F9695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D0A5-A29E-4E99-A678-3D5BDCA4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4DB7-F068-44C9-95D2-915DF176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AA98-98D9-4D69-A48C-D1F25072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0D52-8822-44DC-91C2-CA472DAF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8674-CAF6-4254-A1D6-EDE27A7B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B621-5329-4DC8-9929-45AB1E5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D2D-C159-41BC-BBF3-3E54DFDC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E1D4-BD63-4A3A-94F7-C6CD7B48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D7B-BDD8-49C5-A1ED-BA8C93D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C89F-53D1-4A20-B7E0-38C204A9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EE16-6322-4245-9180-481606F8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CF0E-7337-44C6-954F-20451FC5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2C3-4103-4700-885E-9E690292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1B2-CFF8-41FD-91E8-0E5E6405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B07-13C9-4E26-939A-2C9D284A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D98-DBCC-4A00-91FB-567B0114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2C6-127C-488D-A72C-E6574C0E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0C0-7B01-4FB7-9515-9F5D6A0A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888-3D39-4F4B-BD8D-6F56C4A5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3663-B313-4421-AE2D-015929B646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33720" y="5410080"/>
            <a:ext cx="593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765F-107F-49F2-81A3-4059D7FB3E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orgvoorbeter.nl/ouderenzorg/Zelfredzaamheid-bijscholing.html#zelfredzaamheid-technologi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Filmpj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ee0"/>
                </a:solidFill>
                <a:uFillTx/>
                <a:latin typeface="Arial"/>
                <a:hlinkClick r:id="rId1"/>
              </a:rPr>
              <a:t>http://www.zorgvoorbeter.nl/ouderenzorg/Zelfredzaamheid-bijscholing.html#zelfredzaamheid-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3500280"/>
            <a:ext cx="5938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Zelfredzaamheid en Zelfre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58560" y="4724280"/>
            <a:ext cx="59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 novem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preker"/>
          <p:cNvSpPr/>
          <p:nvPr/>
        </p:nvSpPr>
        <p:spPr>
          <a:xfrm>
            <a:off x="2158920" y="508464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:\iassistwe\NoorderpoortDocumentGenerator\templates\logos\slides\payoff_toekomst.gif"/>
          <p:cNvPicPr/>
          <p:nvPr/>
        </p:nvPicPr>
        <p:blipFill>
          <a:blip r:embed="rId1"/>
          <a:stretch/>
        </p:blipFill>
        <p:spPr>
          <a:xfrm>
            <a:off x="6437160" y="6229440"/>
            <a:ext cx="25909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elling 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680" y="2093400"/>
            <a:ext cx="7211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lute zelfredzaamheid bestaat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38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Letterlijk betekent</a:t>
            </a:r>
            <a:br>
              <a:rPr sz="3400"/>
            </a:b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 zelfredzaamheid: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zelf kunnen red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427640" y="173160"/>
            <a:ext cx="471636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dzaamhei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INOT"/>
              </a:rPr>
              <a:t>Het vermogen van mensen om zichzelf te redden op alle levensterreinen met zo min mogelijk professionele ondersteuning en z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ij zelfredzaamheid gaat het om de volgende levensterreinen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gbesteding (vrije tijd, zinvolle activit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, psychisch en cognitief function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al net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onsit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s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dagelijkse levensverri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gie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regie (zeggenschap over je eigen leven en ondersteuning) is een belangrijk onderdeel van zelfredzaam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De vier kernpunten van zelfregie zijn: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773360"/>
            <a:ext cx="7211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aan van het positieve: wat kan ik wel als cliënt, waar ligt mijn kracht?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cliënt versterken door inzicht in zijn eigen drijfveren en situatie: op welke gebieden gaat het goed, op welke gebieden gaat het niet zo goed, wat wil ik nog of weer graag kunnen doen, waar ligt mijn motivat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eigenaarschap en de zeggenschap over ondersteuning en hulp zoveel mogelijk bij de cliënt laten/leggen: wat wil ik met mijn leven, waar wil ik aan werken, welke hulp heb ik daarbij nodig en hoe wil ik dat die hulp er uitzi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ersterken en inschakelen informele/sociale netwer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oster Zelredzaamheid en Vernieuwend zorgen"/>
          <p:cNvPicPr/>
          <p:nvPr/>
        </p:nvPicPr>
        <p:blipFill>
          <a:blip r:embed="rId1"/>
          <a:stretch/>
        </p:blipFill>
        <p:spPr>
          <a:xfrm>
            <a:off x="1835280" y="-792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11:37Z</dcterms:created>
  <dc:creator>Ploeg,E.C.</dc:creator>
  <dc:description/>
  <dc:language>en-US</dc:language>
  <cp:lastModifiedBy>Kreuning,A.J.B.</cp:lastModifiedBy>
  <dcterms:modified xsi:type="dcterms:W3CDTF">2015-11-18T13:10:01Z</dcterms:modified>
  <cp:revision>25</cp:revision>
  <dc:subject/>
  <dc:title>Zelfredzaamheid en Zelfregie</dc:title>
</cp:coreProperties>
</file>