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28FE-D933-41C5-94A4-04DF7687D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7C50-F705-4B01-8159-D34CE755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FF86-653B-4DB9-993F-061C04B3E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266F-497A-4E6F-9AE8-6E9214E45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B59A-BCC6-46D5-B0CE-803BB75C6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4F25-59A4-4AE5-B151-1736A3A5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17DA-98C0-431A-BE32-563944C5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48EE-B23D-44FE-95A3-FB887DAD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374D-65F8-48FC-9300-51632411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0ED6-D04C-4999-8322-EAD6F850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F5A8-90DA-440A-B3D1-BB8A2C03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F486-FEDF-467B-A186-7954DC53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0689-EE85-46AF-A20B-F5AC54AD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F1702-FBD6-46A5-9AA3-F1420F6F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1960-4B2C-4652-A683-215D4E12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BC77-03A7-4AED-BE17-2BD00BC66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BA5A-BA79-41BC-B649-B74962747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56D5-23C1-4680-AB92-0524E21C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47C7-B018-4475-8978-EF3EB53F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A025-2DFE-4420-9C67-076E6348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539E-4DDD-4630-8CCB-8A23370B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753B-7A35-4AB7-B903-D18ACFD5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EC7B-7F5D-4AC4-B954-F275A279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F3B8-50BD-4A9A-9002-B8762AF2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B1C3-350E-4DE2-B5FE-6CEEF9B455E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F54B-2785-4C1D-BCAC-423297FE831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6666"/>
                </a:solidFill>
                <a:latin typeface="Arial"/>
              </a:rPr>
              <a:t>Thema’s van vandaag:</a:t>
            </a:r>
            <a:endParaRPr b="0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laasspoelen/ c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050920" y="2492280"/>
            <a:ext cx="532620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Verdana"/>
              </a:rPr>
              <a:t>Redenen hiervoor kunnen zijn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infec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lokaal toedienen van medicatie, bijvoorbeeld cytostatic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 verstopte of bijna verstopte blaaskathet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bloedstolsels na een oper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laasspoelen kan plaatsvinden met de hand ofwel met een open systeem (uro tainer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or het spoelen met een gesloten systeem is een driewegkatheter nodi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 spoelen met een open systeem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Doel: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doorgang van de verblijfskatheter open houden / toedienen medic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Bij wie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: Zorgvragers bij wie de blaas met een zakje moet worden gespoel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Verschillende redenen om de blaas te spoelen met zakjes: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Om de afvoer van urine in stand te houde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zichtbare hematurie in 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geproduceerde urine (met stolsel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gruis / afval in de blaas en de katheter, die dan verstopt kan raken.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spoelen om  medicatie toe te dien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cytostaticakuren met lokale werking bijv. bij blaastumo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reinigen van de blaas vanwege een zeer ernstige urineweginfectie, een pyur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4" descr="2086"/>
          <p:cNvPicPr/>
          <p:nvPr/>
        </p:nvPicPr>
        <p:blipFill>
          <a:blip r:embed="rId1"/>
          <a:stretch/>
        </p:blipFill>
        <p:spPr>
          <a:xfrm>
            <a:off x="5580000" y="3860640"/>
            <a:ext cx="2808360" cy="25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2700360" y="1268280"/>
            <a:ext cx="3382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Opdracht: mak in 2-t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Maken vragen pg 181: 1, 3, 4, 5,6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c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t is Katheteriseren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,waardoor de urine uit 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laas kan lop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zijn in verschillende soorten, maten 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rialen verkrijgbaar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èè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malig te katheteriser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erblijfskathete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uprapubis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nneer verblijfskatheter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5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Blaasspoel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4" descr="7"/>
          <p:cNvPicPr/>
          <p:nvPr/>
        </p:nvPicPr>
        <p:blipFill>
          <a:blip r:embed="rId1"/>
          <a:stretch/>
        </p:blipFill>
        <p:spPr>
          <a:xfrm>
            <a:off x="2268360" y="1628640"/>
            <a:ext cx="605016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A.R. Niemeijer</cp:lastModifiedBy>
  <dcterms:modified xsi:type="dcterms:W3CDTF">2016-06-22T11:24:35Z</dcterms:modified>
  <cp:revision>34</cp:revision>
  <dc:subject/>
  <dc:title>Indeling WCS=</dc:title>
</cp:coreProperties>
</file>