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AF2-94F1-4A6E-96BF-8C2F3285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CD1-DACF-4613-AE24-9CF94028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60F-B51D-46A2-A1F3-C8965DC9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880-2155-453C-A32C-5F3497FE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CC73-AAC8-4F56-AA0D-4AA2508F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62EC-C0A2-4F42-813C-53D5E9BD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45A8-543C-4C06-A4AC-34AEA6A9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5F6A-00D2-4701-92E0-1F96F881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07D0-2A80-4360-A6FF-DB8D8F32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EE14-DD82-4B9E-9291-8CE7F287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F7F8-BB6C-49A4-B3B1-55BFA319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FE4-914B-4370-B113-1158D76F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C842-7A11-4B06-896E-15984BEF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6D4F-74B9-4FF9-815B-20DD7FA2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300C-DB18-4DC4-BAAE-55076820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940E-95F7-43FF-9ACC-37530F09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88C4-221F-4804-A92F-347DCC59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F3D-B09B-4ADB-B318-2EA9B2F9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889-E819-46B2-B8C4-CE551A6C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1CF-6E86-4A95-931A-22FFD36A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C99-62A7-4D31-8CD5-8F416BDB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267-CD58-414C-BDEA-DC2DCFD9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27A-6F49-48E2-A8E3-891DA40E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00B-E5D0-41AB-9B33-E9BCB454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259D-1320-4FBB-A1B7-6A53DEF0E74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DE44-646B-463C-9CD3-0A802EBD75C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6666"/>
                </a:solidFill>
                <a:latin typeface="Arial"/>
              </a:rPr>
              <a:t>Thema’s van vandaag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/ c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de katheter, die dan verstopt 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Opdracht: mak in 2-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Maken vragen pg 181: 1, 3, 4, 5,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Katheterisere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,waardoor de urine uit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aas kan lop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zijn in verschillende soorten, maten 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rialen verkrijgbaa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 verblijfskatheter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06-22T11:24:35Z</dcterms:modified>
  <cp:revision>34</cp:revision>
  <dc:subject/>
  <dc:title>Indeling WCS=</dc:title>
</cp:coreProperties>
</file>