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E34-809C-44C9-9281-F1CC23FE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4DB-B4BC-4195-BD77-240739A6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30C-F56B-4EDB-853D-8304537B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62A-E18B-4DC9-AAE1-C51625EE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05C5-66F4-4270-A48B-80114DA1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0E76-BAC0-4C40-BA22-8D51F475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C1C2-97E8-4643-BA25-8729094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EB46-0118-4FD0-AA59-432EA981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49B8-C309-4743-89D9-1EA2AE39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2982-0027-4FB1-A5E4-CDA71F43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B529-2AE3-40C9-A89C-0C2BDF3E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095-1B44-4743-A12E-FFF1A47F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8AA4-9C83-4C7B-A992-2C8DDB7C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5FF6-D2F3-44F8-B80E-7C262A1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28AA-3B5B-44AF-97F0-1DD7F4FF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ED9C-B6A6-426D-B595-58D61858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116C-699A-40DB-BC16-8851801D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501-FE47-4B39-811D-F25C15ED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FD4-0325-428E-9AC7-DDEE0CB5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651-6F08-466B-833D-44EDF812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935-998E-4AA0-B4C7-DC6758BD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EB7-B0E8-4527-ACA4-22BBB3C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B7F-7095-4375-8398-8721CFC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782-D990-4145-A91B-38A4864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2074-E528-4B55-B174-29030CC866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563C-BCFC-4CDF-AB69-C810D6F97D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6666"/>
                </a:solidFill>
                <a:latin typeface="Arial"/>
              </a:rPr>
              <a:t>Thema’s van vandaag: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/ c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de katheter, die dan verstopt 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Opdracht: mak in 2-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Maken vragen pg 181: 1, 3, 4, 5,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t is Katheterisere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,waardoor de urine uit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aas kan lop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zijn in verschillende soorten, maten 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rialen verkrijgba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 verblijfskatheter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06-22T11:24:35Z</dcterms:modified>
  <cp:revision>34</cp:revision>
  <dc:subject/>
  <dc:title>Indeling WCS=</dc:title>
</cp:coreProperties>
</file>