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2D8-861C-4707-9577-A71F3775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8E6-A537-4B39-9714-7AF6182A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0D8-F9FC-487F-B20F-6DC50E18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70B-2680-4D6C-B654-F6A071C5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5230-0F32-4A78-9052-66D2C187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D2F7-92F8-403D-984E-0D86B6E1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1605-BF02-4279-BC30-1509C701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7AD8-7436-4C60-887E-D3FF96D3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548C-42AF-4E79-81D7-4B028A2C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AFED-C989-4CB6-ACC5-5EEB2A94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1CEC-0996-41A3-8EE6-AF7BF113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F4D-DD48-445E-B2FC-31921AB6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E716-942B-4BE0-A88F-132F22C2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2901-DF33-4AD6-A513-6104B919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98C4-2E00-41FA-BEB2-50F65061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25A2-08B9-4D88-A6BD-E45B411A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3DC4-6C63-4650-A36C-9A94552D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F5E-4D59-446F-825E-B351676F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5DC-5B2D-4F6A-A57F-2C900D87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035-F4AD-457E-9B5C-1F0CA1DE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5AB-4550-4064-926E-3A27AB5B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593-A8A4-4213-B967-0508C8A5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73B-FEF0-4706-B665-8FB03C85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111-B470-4D42-BE38-401F8BF1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022A-64A4-462F-B577-3060813941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FC41-21EF-4177-ABF8-D4C7C63D0DA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6666"/>
                </a:solidFill>
                <a:latin typeface="Arial"/>
              </a:rPr>
              <a:t>Thema’s van vandaag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/ c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de katheter, die dan verstopt 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Opdracht: mak in 2-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Maken vragen pg 181: 1, 3, 4, 5,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Katheteriser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,waardoor de urine uit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aas kan lop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zijn in verschillende soorten, maten 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rialen verkrijgba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 verblijfskatheter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06-22T11:24:35Z</dcterms:modified>
  <cp:revision>34</cp:revision>
  <dc:subject/>
  <dc:title>Indeling WCS=</dc:title>
</cp:coreProperties>
</file>