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D9F-34B0-404D-A7A5-CDA2E4EC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235-127C-44B2-8647-6A5AF184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3FB-B73D-483F-B70D-09E1A4F6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888-3907-4B6B-8125-8DF129D3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CAF3-C5EC-48EF-BD67-E733C30C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CE2C-DCF7-46C9-B513-66C7BFBE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1565-1CB9-407B-B2D2-35BBA50D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97D3-E1A5-4BE7-8423-15C9EFFE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F380-43D9-41EA-99A7-7802A6D6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254F-A33F-4055-9C92-DC895572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54CD-404D-4E9F-B1A0-92E9526C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363-F28F-4C14-9807-93F27EE6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EBF1-A828-4C7B-A7F3-F2DE6C8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8C33-A9B6-4C90-8A16-2F1D254C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73BB-245D-4D40-9F75-23D0CF9D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DFA4-1390-476C-A6F6-FDF2D994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52DC-57CD-43FA-A6EF-39974AF9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542-9AEF-40A2-AC4D-C6861546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C07-6C2F-4FF8-975D-D3F961AE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179-4F4C-4F22-AD62-E3C0D5FA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9C0-1A55-49B2-AC80-0D16392E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6D8-4922-455F-A2C8-1A6EB77D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EBB-4BCC-4316-995D-80737D19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9C2-171F-4D5D-9F97-0174DBC4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46E6-2F0E-4013-8D1D-FE398CB6DDE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BBE0-4E08-45A7-9C57-4D1E65909FD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6666"/>
                </a:solidFill>
                <a:latin typeface="Arial"/>
              </a:rPr>
              <a:t>Thema’s van vandaag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/ c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de katheter, die dan verstopt 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Opdracht: mak in 2-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Maken vragen pg 181: 1, 3, 4, 5,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Katheteriser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,waardoor de urine uit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aas kan lop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zijn in verschillende soorten, maten 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rialen verkrijgba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 verblijfskatheter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06-22T11:24:35Z</dcterms:modified>
  <cp:revision>34</cp:revision>
  <dc:subject/>
  <dc:title>Indeling WCS=</dc:title>
</cp:coreProperties>
</file>