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FDA-E690-45F4-8D6C-2D125BDD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98A-9A90-4350-9D35-62772717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583B-52F6-4849-B773-69C8E1F0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987-48C1-44A3-B3C1-B9367B59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A2D0-05CE-480E-B395-DFE7340C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C3FA-CE74-4879-B744-664F5CC1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A916-EEC1-4558-9E80-3E3E7335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C0C2-19C0-46BD-8F21-B31ED273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07EE-C589-4DF4-A170-0367DB08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C3C2-651B-43E7-8B95-0A1D716B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F6A4-7EC7-4019-A359-0E58C1A1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177-9D2A-4CF7-A1BE-89FFA035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AD38-FA50-4232-9C40-27AABDF9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0DE4-4D5A-4B18-B8F2-5B7F77C1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26AC-E696-4320-B25E-54DA524E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F169-DF4A-43A9-AA6B-71535C61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25EB-D847-428A-BF25-F6A8A69F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240-82AD-4C08-A340-EF6633B2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867-26C7-4F1C-BF91-C2AED640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2AF-AE89-4EA9-98A3-F087D529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608-DE9C-4DEE-B639-E220CD3A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63C-8AE0-4B78-939C-3CC281AC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E33-8B89-4F33-9286-1BD39504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58C-2BF8-4453-93A1-BF7ED1C1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04AE-AEF2-45BA-AF81-D111C9528A0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51BC-62F3-429F-BD53-F109EFDC820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6666"/>
                </a:solidFill>
                <a:latin typeface="Arial"/>
              </a:rPr>
              <a:t>Thema’s van vandaag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/ c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de katheter, die dan verstopt 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Opdracht: mak in 2-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Maken vragen pg 181: 1, 3, 4, 5,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Katheterisere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,waardoor de urine uit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aas kan lop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zijn in verschillende soorten, maten 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rialen verkrijgbaa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 verblijfskatheter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06-22T11:24:35Z</dcterms:modified>
  <cp:revision>34</cp:revision>
  <dc:subject/>
  <dc:title>Indeling WCS=</dc:title>
</cp:coreProperties>
</file>