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DFC3C-CE83-475C-BF00-45BC3104642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oorstelformuli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17A6F-1659-46CE-B082-51E9AD0457D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0B1B-B279-4700-90C7-799BB4672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F009-BB96-4C53-8622-9EBE30B73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5453-0150-4239-8856-784BD272B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4091-A67D-49F6-97C6-FEF0174AF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4F24-A97F-48FA-BC5E-D8D7D17A6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588E-ACF9-4559-80FE-C17712AD4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0145-B2C8-4B47-8905-64A00B667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44C8-5FA9-4BAE-9068-1BE708B9B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8BA8-6180-4830-9B29-379296507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DE21-2517-4B63-9147-D0D9929D9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76AB-B99B-47C9-A79F-F944C0DC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91E0-B5DB-441D-A855-55CA861F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5E20E-9260-4C6E-98CF-FE2A4032C64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664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8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8000" spc="-1" strike="noStrike">
                <a:solidFill>
                  <a:srgbClr val="000000"/>
                </a:solidFill>
                <a:latin typeface="Arial"/>
              </a:rPr>
              <a:t>BPV</a:t>
            </a:r>
            <a:br>
              <a:rPr sz="4000"/>
            </a:br>
            <a:br>
              <a:rPr sz="4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1"/>
          <p:cNvSpPr/>
          <p:nvPr/>
        </p:nvSpPr>
        <p:spPr>
          <a:xfrm>
            <a:off x="3629160" y="2800440"/>
            <a:ext cx="1885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3"/>
          <p:cNvSpPr/>
          <p:nvPr/>
        </p:nvSpPr>
        <p:spPr>
          <a:xfrm>
            <a:off x="3629160" y="2800440"/>
            <a:ext cx="1885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5"/>
          <p:cNvSpPr/>
          <p:nvPr/>
        </p:nvSpPr>
        <p:spPr>
          <a:xfrm>
            <a:off x="135000" y="-27000"/>
            <a:ext cx="188604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Afbeelding 1" descr=""/>
          <p:cNvPicPr/>
          <p:nvPr/>
        </p:nvPicPr>
        <p:blipFill>
          <a:blip r:embed="rId1"/>
          <a:stretch/>
        </p:blipFill>
        <p:spPr>
          <a:xfrm>
            <a:off x="5219640" y="2803680"/>
            <a:ext cx="2787840" cy="3716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C:\Users\rok\Documents\GroupWise\2012-12-05 14.14.12.jpg"/>
          <p:cNvPicPr/>
          <p:nvPr/>
        </p:nvPicPr>
        <p:blipFill>
          <a:blip r:embed="rId2"/>
          <a:stretch/>
        </p:blipFill>
        <p:spPr>
          <a:xfrm>
            <a:off x="1835280" y="3300480"/>
            <a:ext cx="2020680" cy="2695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rok\AppData\Local\Temp\XPgrpwise\2012-12-04 10.37.02.jpg"/>
          <p:cNvPicPr/>
          <p:nvPr/>
        </p:nvPicPr>
        <p:blipFill>
          <a:blip r:embed="rId3"/>
          <a:stretch/>
        </p:blipFill>
        <p:spPr>
          <a:xfrm>
            <a:off x="4203720" y="657360"/>
            <a:ext cx="270360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FIJNE </a:t>
            </a:r>
            <a:br>
              <a:rPr sz="4000"/>
            </a:b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en </a:t>
            </a:r>
            <a:br>
              <a:rPr sz="4000"/>
            </a:b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LEERZAME BPV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Even voorstellen</a:t>
            </a: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PV- coördin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 voorstelformulier goedkeu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 formulieren verwer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 vragen rondom BPV beantwo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ormuli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tact bedrij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ennismaking - meeloopd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stelformulier (mailen, goedkeur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processenformu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K (inleveren coa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agenoverz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oor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Kennism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spraak op het bedr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et je telefoon 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et op je uiterlijk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t neem je me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vraagformuli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processen formul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eriode(s) BPV / d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PV opdra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k een lijst met wat je wil vragen/zeg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Inhoud gespr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voor soort bedrij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zaam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tij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ding/scho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elefoongeb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PV opdrach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ten en drin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verige z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P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aktijkovereenkom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ekenen in driev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drijf/school/jijz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POK inleveren vóór aanvang BPV bij de c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Belangr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oblemen met BPV zoeken -&gt; c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PV-formulier kan afgewezen 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ormulieren op tijd inlev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ëindig nooit een stage zonder overl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Afronding BP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oor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agenoverz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lag/opdrach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leveren volgens afspraak c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Maak KOPIË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1787400" y="142560"/>
            <a:ext cx="24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10"/>
          <p:cNvSpPr/>
          <p:nvPr/>
        </p:nvSpPr>
        <p:spPr>
          <a:xfrm>
            <a:off x="1787400" y="5356080"/>
            <a:ext cx="244800" cy="13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7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84360" y="1052640"/>
          <a:ext cx="8064360" cy="4748040"/>
        </p:xfrm>
        <a:graphic>
          <a:graphicData uri="http://schemas.openxmlformats.org/drawingml/2006/table">
            <a:tbl>
              <a:tblPr/>
              <a:tblGrid>
                <a:gridCol w="2690640"/>
                <a:gridCol w="2683080"/>
                <a:gridCol w="2690640"/>
              </a:tblGrid>
              <a:tr h="36612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óór aanvang BP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te 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jdstip van in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leveren bi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5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oorstelformulier en werkprocessenformul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a mail BP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aktijkovereenkomst (PO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óór aanvang BP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 afloop BP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te 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jdstip van in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leveren bi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PV-opdrachten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indbeoordeling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genoverzicht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6T13:10:42Z</dcterms:created>
  <dc:creator>Systeembeheer</dc:creator>
  <dc:description/>
  <dc:language>en-US</dc:language>
  <cp:lastModifiedBy>Kengy Roux</cp:lastModifiedBy>
  <dcterms:modified xsi:type="dcterms:W3CDTF">2015-09-10T13:23:30Z</dcterms:modified>
  <cp:revision>41</cp:revision>
  <dc:subject/>
  <dc:title>Ziekten en afwijkingen aan het skelet</dc:title>
</cp:coreProperties>
</file>