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16E1-096D-4583-BFC2-376FBF6F18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AE8B-3557-44AB-BE1A-47A9534CED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F94-67A1-4C24-BD06-24051E6B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17F-9EB5-4C66-BD2E-74FFEDA1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9D6-776D-424D-B39D-5D781AF7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9F5-76A6-408A-8DDC-3F463F11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5A8-975E-4AF4-BBBC-FE2CA1A3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AEB-BAC4-4289-8277-670A9E51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E12-91C7-4173-AC55-E5D57D34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105-4153-415B-924D-0D3F49DC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4FF-5438-4E00-B96E-CD9A4E2D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7AA-FB40-4BBA-B680-B8B54D0F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5C9-B5B6-4BA2-99CA-FABE84CF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864-A834-4058-AAC2-60FFB43C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ECD1-002A-46AD-94CE-BC1F874D99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fbeelding 1" descr=""/>
          <p:cNvPicPr/>
          <p:nvPr/>
        </p:nvPicPr>
        <p:blipFill>
          <a:blip r:embed="rId1"/>
          <a:stretch/>
        </p:blipFill>
        <p:spPr>
          <a:xfrm>
            <a:off x="5219640" y="2803680"/>
            <a:ext cx="2787840" cy="371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rok\Documents\GroupWise\2012-12-05 14.14.12.jpg"/>
          <p:cNvPicPr/>
          <p:nvPr/>
        </p:nvPicPr>
        <p:blipFill>
          <a:blip r:embed="rId2"/>
          <a:stretch/>
        </p:blipFill>
        <p:spPr>
          <a:xfrm>
            <a:off x="1835280" y="3300480"/>
            <a:ext cx="2020680" cy="26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rok\AppData\Local\Temp\XPgrpwise\2012-12-04 10.37.02.jpg"/>
          <p:cNvPicPr/>
          <p:nvPr/>
        </p:nvPicPr>
        <p:blipFill>
          <a:blip r:embed="rId3"/>
          <a:stretch/>
        </p:blipFill>
        <p:spPr>
          <a:xfrm>
            <a:off x="4203720" y="657360"/>
            <a:ext cx="27036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 coö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oorstelformulier goedke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formulieren ver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vraag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voor soor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genover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" y="1052640"/>
          <a:ext cx="806436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683080"/>
                <a:gridCol w="2690640"/>
              </a:tblGrid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Kengy Roux</cp:lastModifiedBy>
  <dcterms:modified xsi:type="dcterms:W3CDTF">2015-09-10T13:23:30Z</dcterms:modified>
  <cp:revision>41</cp:revision>
  <dc:subject/>
  <dc:title>Ziekten en afwijkingen aan het skelet</dc:title>
</cp:coreProperties>
</file>