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8178-65FB-4C25-82A9-1C0983B4D49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2E53-9487-4A35-9D5B-8F7720100AA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1AE-30D1-413F-A829-01DB755C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F5E-C5EC-457C-9A7E-E6C893BC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AB1-EE54-42AF-9F97-3FC75695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217-466B-4328-A594-D92E3E38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F75-765C-4865-8ACC-E9F1F062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79A-C840-4C79-948D-5BA1FD1D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7A1-880E-4CA8-A32C-C73A4188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B9D-5C48-419C-92D1-0FAB5F57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955-FD67-43A4-8BAF-60E3D83A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BE3-A908-4860-80DF-2D244269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5D3-201B-415F-9BBE-98C6FB67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E03-478B-434E-8F30-58D3E5F9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A18B-B5CA-42FA-9F7E-FE25FE256F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Afbeelding 1" descr=""/>
          <p:cNvPicPr/>
          <p:nvPr/>
        </p:nvPicPr>
        <p:blipFill>
          <a:blip r:embed="rId1"/>
          <a:stretch/>
        </p:blipFill>
        <p:spPr>
          <a:xfrm>
            <a:off x="5219640" y="2803680"/>
            <a:ext cx="2787840" cy="371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rok\Documents\GroupWise\2012-12-05 14.14.12.jpg"/>
          <p:cNvPicPr/>
          <p:nvPr/>
        </p:nvPicPr>
        <p:blipFill>
          <a:blip r:embed="rId2"/>
          <a:stretch/>
        </p:blipFill>
        <p:spPr>
          <a:xfrm>
            <a:off x="1835280" y="3300480"/>
            <a:ext cx="2020680" cy="269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rok\AppData\Local\Temp\XPgrpwise\2012-12-04 10.37.02.jpg"/>
          <p:cNvPicPr/>
          <p:nvPr/>
        </p:nvPicPr>
        <p:blipFill>
          <a:blip r:embed="rId3"/>
          <a:stretch/>
        </p:blipFill>
        <p:spPr>
          <a:xfrm>
            <a:off x="4203720" y="657360"/>
            <a:ext cx="27036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 coö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oorstelformulier goedke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formulieren ver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vraag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voor soor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" y="1052640"/>
          <a:ext cx="806436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683080"/>
                <a:gridCol w="2690640"/>
              </a:tblGrid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Kengy Roux</cp:lastModifiedBy>
  <dcterms:modified xsi:type="dcterms:W3CDTF">2015-09-10T13:23:30Z</dcterms:modified>
  <cp:revision>41</cp:revision>
  <dc:subject/>
  <dc:title>Ziekten en afwijkingen aan het skelet</dc:title>
</cp:coreProperties>
</file>