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E0D4-6643-4BE5-9B71-E5E408D1F4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D78E-5C66-483D-8F6D-7293771817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8BB-B206-4B92-A2E4-75908892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B04-7982-4D87-B1F9-AAC2B6DD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3F8-68DA-46C5-A556-2CF19B95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B94-F450-4BEE-93CC-7FAD95C2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51B-B062-4102-B1A1-45782E1D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F3C-7C27-4681-9DD3-3817948A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3D8-B02B-48EF-A470-EBC10BE5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56E-A440-47CD-B740-B82CB602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A2B-145B-4961-8683-39D5AB78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EC0-8D68-4C35-B77A-E0FB13B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824-0F41-45D9-B3EE-1B3C1D5D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708-0146-4219-ACC9-6102D20A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33FD-E315-407A-82D7-CB3B232DD7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1" descr=""/>
          <p:cNvPicPr/>
          <p:nvPr/>
        </p:nvPicPr>
        <p:blipFill>
          <a:blip r:embed="rId1"/>
          <a:stretch/>
        </p:blipFill>
        <p:spPr>
          <a:xfrm>
            <a:off x="5219640" y="2803680"/>
            <a:ext cx="2787840" cy="371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rok\Documents\GroupWise\2012-12-05 14.14.12.jpg"/>
          <p:cNvPicPr/>
          <p:nvPr/>
        </p:nvPicPr>
        <p:blipFill>
          <a:blip r:embed="rId2"/>
          <a:stretch/>
        </p:blipFill>
        <p:spPr>
          <a:xfrm>
            <a:off x="1835280" y="3300480"/>
            <a:ext cx="202068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rok\AppData\Local\Temp\XPgrpwise\2012-12-04 10.37.02.jpg"/>
          <p:cNvPicPr/>
          <p:nvPr/>
        </p:nvPicPr>
        <p:blipFill>
          <a:blip r:embed="rId3"/>
          <a:stretch/>
        </p:blipFill>
        <p:spPr>
          <a:xfrm>
            <a:off x="4203720" y="657360"/>
            <a:ext cx="27036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 coö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oorstelformulier goedk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formulieren ver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vraag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soor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052640"/>
          <a:ext cx="806436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683080"/>
                <a:gridCol w="2690640"/>
              </a:tblGrid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Kengy Roux</cp:lastModifiedBy>
  <dcterms:modified xsi:type="dcterms:W3CDTF">2015-09-10T13:23:30Z</dcterms:modified>
  <cp:revision>41</cp:revision>
  <dc:subject/>
  <dc:title>Ziekten en afwijkingen aan het skelet</dc:title>
</cp:coreProperties>
</file>