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94D-F78A-4FAF-910E-6B359BA9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CF8-221D-41D1-AB7B-6628D531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7FA-0E10-47AC-8997-9701B914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461-4732-4142-B87C-5280D5EF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485-7FF5-48F3-8B8A-02C8C723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E74-E1B8-46D4-919F-972A6AC5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F7A-B53D-40DA-8029-E9F39FA4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A51-D726-48E9-9555-FF934740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9286-1E75-4771-9D18-33897628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0B2F-ADAC-4E59-916C-6BF71B42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1A2B-9B40-4A3F-B3CE-E16984DC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8EA-66EE-4154-9250-1ACE59D3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CE1B-1765-4206-8B3B-7143C86F122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oun suffixes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5280" y="1123920"/>
          <a:ext cx="8280360" cy="475308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E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8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es a j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 and 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44" name="Tekstvak 4"/>
          <p:cNvSpPr/>
          <p:nvPr/>
        </p:nvSpPr>
        <p:spPr>
          <a:xfrm>
            <a:off x="3952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oun Suffixes (achtervoegsels bij zelfstandige naamwoor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58:36Z</dcterms:created>
  <dc:creator>Gebruiker</dc:creator>
  <dc:description/>
  <dc:language>en-US</dc:language>
  <cp:lastModifiedBy>Gebruiker</cp:lastModifiedBy>
  <dcterms:modified xsi:type="dcterms:W3CDTF">2013-09-01T19:09:48Z</dcterms:modified>
  <cp:revision>2</cp:revision>
  <dc:subject/>
  <dc:title>Noun suffixes </dc:title>
</cp:coreProperties>
</file>