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1D93-3AA0-4AD6-8418-EF5C8E137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000B-962A-4C58-8907-03C3487C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99EA-4128-45A7-AD46-6E377793F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7EDE-F53A-45FA-AFD5-14480548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AC09-0C9B-4BC9-B094-541001A7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F3A4-7377-468C-99EC-226958B7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0E7C-ED3E-4D4E-8A6A-B7C0C4BB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5507-032F-4A0D-B022-1D40F121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25C0-1D4F-47CD-9808-4046D293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D832-67A5-4029-BE95-308A86D9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A412-CC22-4ADB-AE89-DE8733BE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2CA8-35CC-4652-A6D8-A415D7A7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1BE7-7E45-4A68-BC27-33482ACDEFF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ast simple past perfect answers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TB p. 20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3178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5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ad done, had been, hadn’t killed, had hidden, had sa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 use the past simple to talk about an event that took place at a particular time in the pa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 use the past perfect when we need to make clean that an event took place BEFORE another past even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kstvak 3"/>
          <p:cNvSpPr/>
          <p:nvPr/>
        </p:nvSpPr>
        <p:spPr>
          <a:xfrm>
            <a:off x="3708360" y="1557360"/>
            <a:ext cx="50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5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hen Mike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arrived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t the station, the train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lef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he programme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finished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when Tessa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turned o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he T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hen they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g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home, the dog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eate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heir ste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verybody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gone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me when they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g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o the part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 5D TB p. 20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a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w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idn’t retur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ve ha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oo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arriv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fou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d escap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d me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s 3a/3b/3c WB p.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130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kstvak 3"/>
          <p:cNvSpPr/>
          <p:nvPr/>
        </p:nvSpPr>
        <p:spPr>
          <a:xfrm>
            <a:off x="1835280" y="1628640"/>
            <a:ext cx="316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ealise, had l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ad, had m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dn’t know, had said, was cr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ot, had star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sn’t working, had forgot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aw, had,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kstvak 4"/>
          <p:cNvSpPr/>
          <p:nvPr/>
        </p:nvSpPr>
        <p:spPr>
          <a:xfrm>
            <a:off x="5724360" y="1628640"/>
            <a:ext cx="3419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. h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4. b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5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6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7. ha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8. be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9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10. d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11. w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6:34:32Z</dcterms:created>
  <dc:creator>Gebruiker</dc:creator>
  <dc:description/>
  <dc:language>en-US</dc:language>
  <cp:lastModifiedBy>Gebruiker</cp:lastModifiedBy>
  <dcterms:modified xsi:type="dcterms:W3CDTF">2013-11-10T16:51:34Z</dcterms:modified>
  <cp:revision>2</cp:revision>
  <dc:subject/>
  <dc:title>Dia 1</dc:title>
</cp:coreProperties>
</file>