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384-8D08-4BF5-80C5-55E9F03F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F21-E65B-4229-9E8A-B1060533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8F9-9259-45E6-ABE5-B9C888F5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B4B-883D-4966-800B-7C67BA31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52E-1E18-45DA-863A-6A87A7C7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5E3-6F6D-4FAB-B0F5-572BD5CF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34B-C13D-4936-A0C4-61654F16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D00-1D9E-450E-AC43-33649BEA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000-8383-4872-8B51-C004A43C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81B-D28F-4DDF-9056-4FE39B22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4E0-450C-4974-9695-DD0CEEF3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766-2235-4502-8CDD-407E53CD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D6C8-81AF-469B-A16A-2B6AEFD561C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lternativeteaching.files.wordpress.com/2013/06/546682_457833490923207_576466024_n.jpg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773760"/>
        </p:xfrm>
        <a:graphic>
          <a:graphicData uri="http://schemas.openxmlformats.org/drawingml/2006/table">
            <a:tbl>
              <a:tblPr/>
              <a:tblGrid>
                <a:gridCol w="2411280"/>
                <a:gridCol w="368460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goodb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a pr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so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out 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a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d say…. (ik zou zeggen dat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other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jo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someone off (become angry with some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tr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ec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say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tell someone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i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was 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ut 90% of what w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n’t spok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one’s body languag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lls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how they are feeling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l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he was tir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TCH EQUIV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g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23:33Z</dcterms:created>
  <dc:creator>Gebruiker</dc:creator>
  <dc:description/>
  <dc:language>en-US</dc:language>
  <cp:lastModifiedBy>Gebruiker</cp:lastModifiedBy>
  <dcterms:modified xsi:type="dcterms:W3CDTF">2013-09-22T14:36:32Z</dcterms:modified>
  <cp:revision>4</cp:revision>
  <dc:subject/>
  <dc:title>Dia 1</dc:title>
</cp:coreProperties>
</file>