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CD42-DE8A-4A72-84A0-FC7325D4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E80-8F41-42EB-A02E-CC57DAF9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B71B-F339-4D9D-A15A-589407E6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A0F-A6C2-4CCF-8D0B-77CF341C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C6C-019B-4A88-96C3-C93F20D6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284F-51D0-44D2-9034-623ECF1F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D44-D233-4C9E-909C-6716CE08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074-B8BA-446C-913D-106D42CD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F76-9907-42BD-9960-EC9018A9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FB3-8F72-44F6-A148-C329B3D7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57F-6891-47D7-8C17-6C893397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2CF-08E3-44DB-B467-251C093D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E1D0-D870-471E-A4E4-96532A7F2BC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oun suffixes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5280" y="1123920"/>
          <a:ext cx="8280360" cy="475308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E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8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es a j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 and 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44" name="Tekstvak 4"/>
          <p:cNvSpPr/>
          <p:nvPr/>
        </p:nvSpPr>
        <p:spPr>
          <a:xfrm>
            <a:off x="3952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oun Suffixes (achtervoegsels bij zelfstandige naamwoor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58:36Z</dcterms:created>
  <dc:creator>Gebruiker</dc:creator>
  <dc:description/>
  <dc:language>en-US</dc:language>
  <cp:lastModifiedBy>Gebruiker</cp:lastModifiedBy>
  <dcterms:modified xsi:type="dcterms:W3CDTF">2013-09-01T19:09:48Z</dcterms:modified>
  <cp:revision>2</cp:revision>
  <dc:subject/>
  <dc:title>Noun suffixes </dc:title>
</cp:coreProperties>
</file>