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6B1C-EC46-4292-B871-1B511F29D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20AA-9063-4EC5-AAC6-6BFC1AE2C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FAE5-94BF-4E9A-AB14-FAEF97F25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55C1-E585-45ED-8087-70D97233F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6005-A60B-448A-BA05-F219A344E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87A8-5FB4-4F38-9E82-85814968E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EF51-F53A-4F8F-818A-1C33B8BCD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850B-48EA-4DD3-A455-3632EE908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08B0-5131-48F6-B55B-84776E460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F163-D7D3-4B3B-AB5D-E900A20DB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6EEC-7803-4346-9395-7AED3B9E1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7216-FBBE-4145-82F2-FB9CFD590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1C194-FB6A-4B0D-8008-38828340971F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alternativeteaching.files.wordpress.com/2013/06/546682_457833490923207_576466024_n.jpg"/>
          <p:cNvPicPr/>
          <p:nvPr/>
        </p:nvPicPr>
        <p:blipFill>
          <a:blip r:embed="rId1"/>
          <a:stretch/>
        </p:blipFill>
        <p:spPr>
          <a:xfrm>
            <a:off x="395280" y="0"/>
            <a:ext cx="8569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0" y="0"/>
          <a:ext cx="9144000" cy="6773760"/>
        </p:xfrm>
        <a:graphic>
          <a:graphicData uri="http://schemas.openxmlformats.org/drawingml/2006/table">
            <a:tbl>
              <a:tblPr/>
              <a:tblGrid>
                <a:gridCol w="2411280"/>
                <a:gridCol w="3684600"/>
                <a:gridCol w="304812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A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L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8371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ith specific nouns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y goodby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y a pray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y sor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y thank yo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y it out lou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y it aga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’d say…. (ik zou zeggen dat…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ith other specific nouns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ll a l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ll a jok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ll a sto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ll the dif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ll someone off (become angry with someon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ll the tru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ll a secr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615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You say someth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You tell someone someth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AMP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ex </a:t>
                      </a:r>
                      <a:r>
                        <a:rPr b="1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said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he was tir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800"/>
                      </a:b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bout 90% of what we </a:t>
                      </a:r>
                      <a:r>
                        <a:rPr b="1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say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isn’t spoken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meone’s body language </a:t>
                      </a:r>
                      <a:r>
                        <a:rPr b="1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tells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ou how they are feeling.</a:t>
                      </a:r>
                      <a:br>
                        <a:rPr sz="1800"/>
                      </a:b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ex </a:t>
                      </a:r>
                      <a:r>
                        <a:rPr b="1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told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me he was tired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61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UTCH EQUIVAL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eg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rtelle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ST TEN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l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2T14:23:33Z</dcterms:created>
  <dc:creator>Gebruiker</dc:creator>
  <dc:description/>
  <dc:language>en-US</dc:language>
  <cp:lastModifiedBy>Gebruiker</cp:lastModifiedBy>
  <dcterms:modified xsi:type="dcterms:W3CDTF">2013-09-22T14:36:32Z</dcterms:modified>
  <cp:revision>4</cp:revision>
  <dc:subject/>
  <dc:title>Dia 1</dc:title>
</cp:coreProperties>
</file>