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6743B-90CB-42F1-9D7D-8587318A5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6F828-31DD-4B14-B1A6-83D9674F6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1766C-AD63-4ACA-90D7-665085140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F38FA-C3C8-4B9E-8033-4718B316A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D6697-9D8E-4722-8BF5-AD80B02B6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D7C41-A722-4F69-A808-54FCA9305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599FD-2E6D-4014-8229-AFBC777E7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7979D-6AD3-4428-82DA-633BCA485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0FE86-5E90-4D1D-B21C-3C23C3812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48D26-3D6F-45CD-A55C-21B4B7A74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FE967-338D-4909-BDDF-E527DD7C0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1B2EE-C1D8-438A-9077-32523A8E5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3DB12-A372-465A-B338-8EEC2C3D4534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324000" y="333360"/>
          <a:ext cx="8496000" cy="6264360"/>
        </p:xfrm>
        <a:graphic>
          <a:graphicData uri="http://schemas.openxmlformats.org/drawingml/2006/table">
            <a:tbl>
              <a:tblPr/>
              <a:tblGrid>
                <a:gridCol w="1698480"/>
                <a:gridCol w="1700280"/>
                <a:gridCol w="1698480"/>
                <a:gridCol w="1700280"/>
                <a:gridCol w="1698480"/>
              </a:tblGrid>
              <a:tr h="5986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uperlatives (overtreffende trap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380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SYLL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Één lettergreep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RMU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+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+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</a:tr>
              <a:tr h="718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EA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EAT</a:t>
                      </a:r>
                      <a:r>
                        <a:rPr b="1" lang="nl-NL" sz="1800" spc="-1" strike="noStrike" u="sng">
                          <a:solidFill>
                            <a:srgbClr val="ff0000"/>
                          </a:solidFill>
                          <a:uFillTx/>
                          <a:latin typeface="Calibri"/>
                        </a:rPr>
                        <a:t>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EAT</a:t>
                      </a:r>
                      <a:r>
                        <a:rPr b="1" lang="nl-NL" sz="1800" spc="-1" strike="noStrike" u="sng">
                          <a:solidFill>
                            <a:srgbClr val="ff0000"/>
                          </a:solidFill>
                          <a:uFillTx/>
                          <a:latin typeface="Calibri"/>
                        </a:rPr>
                        <a:t>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</a:tr>
              <a:tr h="48600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398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TWO SYLLABLES</a:t>
                      </a:r>
                      <a:br>
                        <a:rPr sz="1800"/>
                      </a:b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lettergrepen of meer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RMU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mo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mo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6a6a6"/>
                    </a:solidFill>
                  </a:tcPr>
                </a:tc>
              </a:tr>
              <a:tr h="838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CIT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MORE 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CIT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MOST </a:t>
                      </a:r>
                      <a:br>
                        <a:rPr sz="1800"/>
                      </a:b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CIT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6a6a6"/>
                    </a:solidFill>
                  </a:tcPr>
                </a:tc>
              </a:tr>
              <a:tr h="485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7440">
                <a:tc gridSpan="2"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CE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f7f7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OO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T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S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f7f7f"/>
                    </a:solidFill>
                  </a:tcPr>
                </a:tc>
              </a:tr>
              <a:tr h="48564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OR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OR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f7f7f"/>
                    </a:solidFill>
                  </a:tcPr>
                </a:tc>
              </a:tr>
              <a:tr h="4860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UNN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UNNI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UNNI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f7f7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" name=""/>
          <p:cNvGraphicFramePr/>
          <p:nvPr/>
        </p:nvGraphicFramePr>
        <p:xfrm>
          <a:off x="179280" y="476280"/>
          <a:ext cx="8713800" cy="4876920"/>
        </p:xfrm>
        <a:graphic>
          <a:graphicData uri="http://schemas.openxmlformats.org/drawingml/2006/table">
            <a:tbl>
              <a:tblPr/>
              <a:tblGrid>
                <a:gridCol w="1743120"/>
                <a:gridCol w="1741680"/>
                <a:gridCol w="1743120"/>
                <a:gridCol w="1742760"/>
                <a:gridCol w="1743120"/>
              </a:tblGrid>
              <a:tr h="5144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omparativ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RMU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s …. 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…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re… th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st…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7f7f"/>
                    </a:solidFill>
                  </a:tcPr>
                </a:tc>
              </a:tr>
              <a:tr h="1812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AMP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me isn’t 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s big as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Madr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me is </a:t>
                      </a:r>
                      <a:r>
                        <a:rPr b="1" i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autifu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me is 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re beautiful than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lo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me is the most beautiful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city in Ital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812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 am 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s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old 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s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Lis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sa is 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tellig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 am 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re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intelligent than Lis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 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st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intelligent girl in class is Susan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01T18:35:21Z</dcterms:created>
  <dc:creator>Gebruiker</dc:creator>
  <dc:description/>
  <dc:language>en-US</dc:language>
  <cp:lastModifiedBy>Gebruiker</cp:lastModifiedBy>
  <dcterms:modified xsi:type="dcterms:W3CDTF">2013-09-01T19:10:43Z</dcterms:modified>
  <cp:revision>4</cp:revision>
  <dc:subject/>
  <dc:title>Dia 1</dc:title>
</cp:coreProperties>
</file>