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1BE4-50DB-4BCA-AB0C-1D9DC69A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8D83-D793-43A6-A1AB-8AFEB0A2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8A33-6E98-42F6-B798-A5D2FA5A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01DC-9C34-4DCE-82BB-A33F47F2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C457-3E83-4FE0-B392-C3133113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54A8-7D7D-49D7-BA05-1215508E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EC08-0FB8-4E7B-8909-07AD2890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308F-236F-4D12-9DEA-0F68324C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E043-307A-4B09-9738-0E121F20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9EF6-4AE4-496C-95A4-A83C636B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30DA-267C-4460-90F3-6B517764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5AFE-C908-4F51-8181-9742A177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B6FD-664B-416C-B06B-93754680BC4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alternativeteaching.files.wordpress.com/2013/06/546682_457833490923207_576466024_n.jpg"/>
          <p:cNvPicPr/>
          <p:nvPr/>
        </p:nvPicPr>
        <p:blipFill>
          <a:blip r:embed="rId1"/>
          <a:stretch/>
        </p:blipFill>
        <p:spPr>
          <a:xfrm>
            <a:off x="395280" y="0"/>
            <a:ext cx="856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773760"/>
        </p:xfrm>
        <a:graphic>
          <a:graphicData uri="http://schemas.openxmlformats.org/drawingml/2006/table">
            <a:tbl>
              <a:tblPr/>
              <a:tblGrid>
                <a:gridCol w="2411280"/>
                <a:gridCol w="3684600"/>
                <a:gridCol w="3048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3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specific noun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goodby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a pr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so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thank 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it out lo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it ag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d say…. (ik zou zeggen dat…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other specific noun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l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jo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the 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someone off (become angry with some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the tr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sec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1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say some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tell someone some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id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e was ti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out 90% of what we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y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sn’t spoke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one’s body language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lls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how they are feeling.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old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 he was tire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TCH EQUIVAL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g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tell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 T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l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2T14:23:33Z</dcterms:created>
  <dc:creator>Gebruiker</dc:creator>
  <dc:description/>
  <dc:language>en-US</dc:language>
  <cp:lastModifiedBy>Gebruiker</cp:lastModifiedBy>
  <dcterms:modified xsi:type="dcterms:W3CDTF">2013-09-22T14:36:32Z</dcterms:modified>
  <cp:revision>4</cp:revision>
  <dc:subject/>
  <dc:title>Dia 1</dc:title>
</cp:coreProperties>
</file>