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8868-BA98-4867-BC8C-D98999D3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C885-C818-42D5-B696-681DA996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DC6A-3266-4F1F-BEB1-799ABC598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8067-4566-44CB-9AAC-2B5633783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A931-0DB9-4232-A813-12F6931D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14BA-5E3C-41B0-A8CF-BE12151D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9A97-2146-412A-B689-6F6DEE1A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E838-4BAA-4B0D-85B7-36F2FCA2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B5AE-D48E-4111-8476-03EFB1BE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BD0A-E011-4D45-BF41-39FBE880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EA8A-14B4-431E-BF17-72D8930F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8549-CD9D-4655-AEEB-38002E62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F432-79A2-408D-A976-219714D814DE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esent simple vs Present continuous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50920" y="1700280"/>
          <a:ext cx="7416720" cy="4851360"/>
        </p:xfrm>
        <a:graphic>
          <a:graphicData uri="http://schemas.openxmlformats.org/drawingml/2006/table">
            <a:tbl>
              <a:tblPr/>
              <a:tblGrid>
                <a:gridCol w="2471760"/>
                <a:gridCol w="2473200"/>
                <a:gridCol w="247176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si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continu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(formu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/she/it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/you/we/they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/is/ar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rb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te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chool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k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smell of gr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I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isten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the teacher right now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its &amp; facts, in the 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THE MOMENT, in the present. (right no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lling exce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=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sh/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lent ‘e’ rem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gambling (to gamb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the present ten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 parent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 Washington bu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'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jus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sit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" name="Wolkvormige toelichting 4"/>
          <p:cNvSpPr/>
          <p:nvPr/>
        </p:nvSpPr>
        <p:spPr>
          <a:xfrm>
            <a:off x="7272360" y="981000"/>
            <a:ext cx="1871640" cy="1440000"/>
          </a:xfrm>
          <a:prstGeom prst="cloudCallout">
            <a:avLst>
              <a:gd name="adj1" fmla="val -22851"/>
              <a:gd name="adj2" fmla="val 8203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Verb = 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Ww=werkwo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8:08:16Z</dcterms:created>
  <dc:creator>Gebruiker</dc:creator>
  <dc:description/>
  <dc:language>en-US</dc:language>
  <cp:lastModifiedBy>Gebruiker</cp:lastModifiedBy>
  <dcterms:modified xsi:type="dcterms:W3CDTF">2013-08-25T08:52:56Z</dcterms:modified>
  <cp:revision>9</cp:revision>
  <dc:subject/>
  <dc:title>Dia 1</dc:title>
</cp:coreProperties>
</file>