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375-3A09-4BC8-A123-F0E0914C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B30-4EAF-46E3-8167-05C9AECF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06B-2662-477A-85E8-40BEDACA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4A0-DDD3-40F0-977C-4989E7D4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062-68C7-46AB-A245-E9B16262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A8A-A311-4F1B-A441-0C91075C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645-5D81-4585-9B87-BDDE626D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81F-D06F-4B12-95A7-8CC8A687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F37-534E-471A-9077-0334A4A4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854-7E66-4AA3-A890-02A61CF3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F0B-13C5-459E-A163-53106B15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C3F-B28B-43CD-BBDF-442A8019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E029-B84C-4831-ABFF-280E05C8DB0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oun suffix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1123920"/>
          <a:ext cx="8280360" cy="47530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E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es a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 and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4" name="Tekstvak 4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oun Suffixes (achtervoegsels bij zelfstandige naamwoor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58:36Z</dcterms:created>
  <dc:creator>Gebruiker</dc:creator>
  <dc:description/>
  <dc:language>en-US</dc:language>
  <cp:lastModifiedBy>Gebruiker</cp:lastModifiedBy>
  <dcterms:modified xsi:type="dcterms:W3CDTF">2013-09-01T19:09:48Z</dcterms:modified>
  <cp:revision>2</cp:revision>
  <dc:subject/>
  <dc:title>Noun suffixes </dc:title>
</cp:coreProperties>
</file>