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DA48-EB7E-40C3-AAC9-6995564F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CB4E-5563-4E89-96D0-19245F6D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98F9-470E-46D9-8A16-695B2BDE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B147-6FB2-48C3-B2A1-0CBED3F4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C4FC-06C8-4C93-BBF1-22F81C58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0D59-864D-45F6-8023-D5FD659F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A4C4-986F-4D6D-8A3C-F801FDFD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4C86-FA0C-4680-891B-2C396D32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7BDE-2B0A-40D3-977F-2BA00E3C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BC81-B280-46BB-8A7B-BF5961CE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2BB0-9E42-467D-AFCB-7088271F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99D9-68C8-4640-AAD8-3B3153AC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CAB5-2229-42E6-AF22-031F38DA7E3B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oun suffixes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95280" y="1123920"/>
          <a:ext cx="8280360" cy="4753080"/>
        </p:xfrm>
        <a:graphic>
          <a:graphicData uri="http://schemas.openxmlformats.org/drawingml/2006/table">
            <a:tbl>
              <a:tblPr/>
              <a:tblGrid>
                <a:gridCol w="2070000"/>
                <a:gridCol w="2070360"/>
                <a:gridCol w="2070000"/>
                <a:gridCol w="2070000"/>
              </a:tblGrid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SE 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W 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84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tes a jo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r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rna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52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ption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uns from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c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cel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uns from verbs and ad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44" name="Tekstvak 4"/>
          <p:cNvSpPr/>
          <p:nvPr/>
        </p:nvSpPr>
        <p:spPr>
          <a:xfrm>
            <a:off x="395280" y="476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Noun Suffixes (achtervoegsels bij zelfstandige naamwoord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58:36Z</dcterms:created>
  <dc:creator>Gebruiker</dc:creator>
  <dc:description/>
  <dc:language>en-US</dc:language>
  <cp:lastModifiedBy>Gebruiker</cp:lastModifiedBy>
  <dcterms:modified xsi:type="dcterms:W3CDTF">2013-09-01T19:09:48Z</dcterms:modified>
  <cp:revision>2</cp:revision>
  <dc:subject/>
  <dc:title>Noun suffixes </dc:title>
</cp:coreProperties>
</file>