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FBA-9931-4D0E-B25B-2A98C43B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E64-9AAA-467C-B05A-70A57D21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9BA8-5E6F-48E8-9695-6F98E2E5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449-1B42-4256-B9A3-CEBDAB47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361-8A9A-4204-A0EE-E923685A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E6D-38A1-4A78-99BE-BD66E96E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9D4-30B7-433F-824A-C6791911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8FC-4FC5-4F41-ADD8-282F0148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E4F1-F029-4CAF-9662-BC637D35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49A-FE9F-4A61-B251-A6646AF7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9DF-A62A-446B-9C34-4CEF22A1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90B-6ACD-43E1-929B-CDB7E1E5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335D-BF31-4D5C-831C-07C47933E3E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052640"/>
          <a:ext cx="8569080" cy="5626080"/>
        </p:xfrm>
        <a:graphic>
          <a:graphicData uri="http://schemas.openxmlformats.org/drawingml/2006/table">
            <a:tbl>
              <a:tblPr/>
              <a:tblGrid>
                <a:gridCol w="1638000"/>
                <a:gridCol w="3875400"/>
                <a:gridCol w="305568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period of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--|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lowed by a specific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 --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have lived in Den Bosch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 years and then we moved to O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loved football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was four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don’t live in Den Bosch any more (for 2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still love foot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5 ye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uration=5 year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09 (starting point =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39528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r and since with the present 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23:25Z</dcterms:created>
  <dc:creator>Gebruiker</dc:creator>
  <dc:description/>
  <dc:language>en-US</dc:language>
  <cp:lastModifiedBy>Gebruiker</cp:lastModifiedBy>
  <dcterms:modified xsi:type="dcterms:W3CDTF">2013-09-01T19:11:12Z</dcterms:modified>
  <cp:revision>2</cp:revision>
  <dc:subject/>
  <dc:title>Dia 1</dc:title>
</cp:coreProperties>
</file>