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CCCE-D2D5-42F0-82CD-DDB08E7D3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2F75-9C05-4A11-AE90-9F0771FF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3957-F99D-4250-AA02-E3B958D24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6892-44CE-4697-A7A1-D4D0088CA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89F3-7AB5-4AAC-A9C4-4E7DBEAF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4962-056D-4825-8E9B-8D4F7CFE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6094-4C8D-43E5-A936-A14C7EE1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5839-07FB-403C-8C5E-02EF654E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30F2-B12F-4B89-9E11-F18A152E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7EF6-4006-415C-AF4D-5106AD1B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91F5-D83C-47D0-B95C-F12CBB25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0CE9-0544-4749-BB87-DB3069C8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6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787D-5447-4930-A729-913D8FDBE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resent Simpl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use  the </a:t>
            </a: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Present Simp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or things which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always true, or are true for a long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He goes to work by b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a habit. (They are true sometimes, always, usually etc……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I usually have dinner at 6 o’c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he sometimes drinks coff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000"/>
            </a:br>
            <a:r>
              <a:rPr b="0" lang="en-GB" sz="4000" spc="-1" strike="noStrike">
                <a:solidFill>
                  <a:srgbClr val="009999"/>
                </a:solidFill>
                <a:latin typeface="Arial"/>
              </a:rPr>
              <a:t>Negative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411280" y="1600200"/>
          <a:ext cx="4105440" cy="4199040"/>
        </p:xfrm>
        <a:graphic>
          <a:graphicData uri="http://schemas.openxmlformats.org/drawingml/2006/table">
            <a:tbl>
              <a:tblPr/>
              <a:tblGrid>
                <a:gridCol w="4105440"/>
              </a:tblGrid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Text Box 24"/>
          <p:cNvSpPr/>
          <p:nvPr/>
        </p:nvSpPr>
        <p:spPr>
          <a:xfrm>
            <a:off x="2195640" y="184464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’</a:t>
            </a:r>
            <a:r>
              <a:rPr b="1" lang="en-GB" sz="3600" spc="-1" strike="noStrike">
                <a:solidFill>
                  <a:srgbClr val="009999"/>
                </a:solidFill>
                <a:latin typeface="Times New Roman"/>
              </a:rPr>
              <a:t>m  not 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1" lang="en-GB" sz="3600" spc="-1" strike="noStrike">
                <a:solidFill>
                  <a:srgbClr val="009999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7"/>
          <p:cNvSpPr/>
          <p:nvPr/>
        </p:nvSpPr>
        <p:spPr>
          <a:xfrm>
            <a:off x="2556000" y="278136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he  </a:t>
            </a: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isn’t wo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9"/>
          <p:cNvSpPr/>
          <p:nvPr/>
        </p:nvSpPr>
        <p:spPr>
          <a:xfrm>
            <a:off x="2463840" y="4241880"/>
            <a:ext cx="412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You  </a:t>
            </a: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aren’t workin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‘to work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50920" y="1600200"/>
          <a:ext cx="8893080" cy="4525920"/>
        </p:xfrm>
        <a:graphic>
          <a:graphicData uri="http://schemas.openxmlformats.org/drawingml/2006/table">
            <a:tbl>
              <a:tblPr/>
              <a:tblGrid>
                <a:gridCol w="2913120"/>
                <a:gridCol w="3147840"/>
                <a:gridCol w="283212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ork</a:t>
                      </a: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m not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work</a:t>
                      </a: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sn’t work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ork</a:t>
                      </a: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ren’t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ositive 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476360" y="1600200"/>
          <a:ext cx="5975280" cy="4592520"/>
        </p:xfrm>
        <a:graphic>
          <a:graphicData uri="http://schemas.openxmlformats.org/drawingml/2006/table">
            <a:tbl>
              <a:tblPr/>
              <a:tblGrid>
                <a:gridCol w="5975280"/>
              </a:tblGrid>
              <a:tr h="14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m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I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      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He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She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It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we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you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they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estion </a:t>
            </a:r>
            <a:br>
              <a:rPr sz="2800"/>
            </a:br>
            <a:r>
              <a:rPr b="1" lang="en-GB" sz="3200" spc="-1" strike="noStrike">
                <a:solidFill>
                  <a:srgbClr val="3366ff"/>
                </a:solidFill>
                <a:latin typeface="Arial"/>
              </a:rPr>
              <a:t>?  </a:t>
            </a:r>
            <a:r>
              <a:rPr b="1" lang="en-GB" sz="2400" spc="-1" strike="noStrike">
                <a:solidFill>
                  <a:srgbClr val="9966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627280" y="1600200"/>
          <a:ext cx="3529080" cy="4740120"/>
        </p:xfrm>
        <a:graphic>
          <a:graphicData uri="http://schemas.openxmlformats.org/drawingml/2006/table">
            <a:tbl>
              <a:tblPr/>
              <a:tblGrid>
                <a:gridCol w="3529080"/>
              </a:tblGrid>
              <a:tr h="15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m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ear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s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 wear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re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ear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gative  </a:t>
            </a:r>
            <a:r>
              <a:rPr b="1" lang="en-GB" sz="4400" spc="-1" strike="noStrike">
                <a:solidFill>
                  <a:srgbClr val="00cc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187280" y="1600200"/>
          <a:ext cx="7056720" cy="4592520"/>
        </p:xfrm>
        <a:graphic>
          <a:graphicData uri="http://schemas.openxmlformats.org/drawingml/2006/table">
            <a:tbl>
              <a:tblPr/>
              <a:tblGrid>
                <a:gridCol w="7056720"/>
              </a:tblGrid>
              <a:tr h="14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 am</a:t>
                      </a:r>
                      <a:r>
                        <a:rPr b="1" lang="en-GB" sz="2800" spc="-1" strike="noStrike">
                          <a:solidFill>
                            <a:srgbClr val="00ff99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’m 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                               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s 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sn’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                                  i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                               we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are 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aren’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                             th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413000"/>
          <a:ext cx="8291520" cy="4627440"/>
        </p:xfrm>
        <a:graphic>
          <a:graphicData uri="http://schemas.openxmlformats.org/drawingml/2006/table">
            <a:tbl>
              <a:tblPr/>
              <a:tblGrid>
                <a:gridCol w="2743200"/>
                <a:gridCol w="3100320"/>
                <a:gridCol w="2448000"/>
              </a:tblGrid>
              <a:tr h="161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ear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m 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not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’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n’t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n’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resent Continuo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use the </a:t>
            </a: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Present Continuou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or things whi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happening </a:t>
            </a:r>
            <a:r>
              <a:rPr b="0" lang="en-GB" sz="3200" spc="-1" strike="noStrike" u="sng">
                <a:solidFill>
                  <a:srgbClr val="ff0066"/>
                </a:solidFill>
                <a:uFillTx/>
                <a:latin typeface="Arial"/>
              </a:rPr>
              <a:t>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It’s raining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 in the </a:t>
            </a:r>
            <a:r>
              <a:rPr b="0" lang="en-GB" sz="3200" spc="-1" strike="noStrike" u="sng">
                <a:solidFill>
                  <a:srgbClr val="ff0066"/>
                </a:solidFill>
                <a:uFillTx/>
                <a:latin typeface="Arial"/>
              </a:rPr>
              <a:t>near futu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I’m going home at 9o’cloc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8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to work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usually 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______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London.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s week he’ 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________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t home.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059280" y="2708280"/>
            <a:ext cx="14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3492360" y="3860640"/>
            <a:ext cx="239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Times New Roman"/>
              </a:rPr>
              <a:t>s work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/Present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 usually wear trousers to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day ……………..a d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195640" y="2708280"/>
            <a:ext cx="27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Times New Roman"/>
              </a:rPr>
              <a:t>I’m wearing</a:t>
            </a:r>
            <a:r>
              <a:rPr b="1" lang="en-GB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Simple or Present Continu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to rain’</a:t>
            </a:r>
            <a:br>
              <a:rPr sz="3200"/>
            </a:b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 often ______ in win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___________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340000" y="3213000"/>
            <a:ext cx="18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ra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116000" y="4365720"/>
            <a:ext cx="30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It’s rai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 or Present Si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to speak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_______ good Engl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day, he __________ Ger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547640" y="2708280"/>
            <a:ext cx="26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pea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700360" y="3860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’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 spe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 or Present Si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to work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usually _______ in Lond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day, he _________ at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3132000" y="2708280"/>
            <a:ext cx="19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700360" y="38815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’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 wor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000"/>
            </a:b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Positive 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411280" y="1600200"/>
          <a:ext cx="4032360" cy="4606920"/>
        </p:xfrm>
        <a:graphic>
          <a:graphicData uri="http://schemas.openxmlformats.org/drawingml/2006/table">
            <a:tbl>
              <a:tblPr/>
              <a:tblGrid>
                <a:gridCol w="4032360"/>
              </a:tblGrid>
              <a:tr h="108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3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3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Text Box 25"/>
          <p:cNvSpPr/>
          <p:nvPr/>
        </p:nvSpPr>
        <p:spPr>
          <a:xfrm>
            <a:off x="3704760" y="3213000"/>
            <a:ext cx="225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4142160" y="5013360"/>
            <a:ext cx="232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r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000"/>
            </a:br>
            <a:r>
              <a:rPr b="1" lang="en-GB" sz="4000" spc="-1" strike="noStrike">
                <a:solidFill>
                  <a:srgbClr val="3366ff"/>
                </a:solidFill>
                <a:latin typeface="Arial"/>
              </a:rPr>
              <a:t>Questi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484360" y="1600200"/>
          <a:ext cx="4319640" cy="4270320"/>
        </p:xfrm>
        <a:graphic>
          <a:graphicData uri="http://schemas.openxmlformats.org/drawingml/2006/table">
            <a:tbl>
              <a:tblPr/>
              <a:tblGrid>
                <a:gridCol w="431964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32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m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  work</a:t>
                      </a:r>
                      <a:r>
                        <a:rPr b="1" lang="en-GB" sz="32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Text Box 28"/>
          <p:cNvSpPr/>
          <p:nvPr/>
        </p:nvSpPr>
        <p:spPr>
          <a:xfrm>
            <a:off x="2627280" y="278136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i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she   </a:t>
            </a: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work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627280" y="4365720"/>
            <a:ext cx="42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are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work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9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22:43:26Z</dcterms:created>
  <dc:creator>Carola Lubberding</dc:creator>
  <dc:description/>
  <dc:language>en-US</dc:language>
  <cp:lastModifiedBy>lbd</cp:lastModifiedBy>
  <dcterms:modified xsi:type="dcterms:W3CDTF">2013-08-27T07:03:25Z</dcterms:modified>
  <cp:revision>26</cp:revision>
  <dc:subject/>
  <dc:title>EFL Resource</dc:title>
</cp:coreProperties>
</file>