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255-A117-46CA-9964-B1438EF2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6C0-F52E-4E80-8811-337DC525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953-0CF4-4CB5-A9B1-51886A87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3D4-03AA-4E5A-BE75-60A1F766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CCC-FBB1-47A4-80AE-ABE0C8E4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268-BB2B-42C9-A2A8-752C61A8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6F1-0D8D-4D98-A269-03AB6CAD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FFC-DAE1-45FF-94EC-AEDB4564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BB2-8C79-4903-98CC-5E53A1EE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669B-7711-4EA8-BBC1-6E77D6E6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A79-2BD9-485A-921B-EACB7DFF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2E8-E5FA-4869-ACA4-2FF26989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39A0-E84A-4092-9CBD-C7278F0D46C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lternativeteaching.files.wordpress.com/2013/06/546682_457833490923207_576466024_n.jpg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773760"/>
        </p:xfrm>
        <a:graphic>
          <a:graphicData uri="http://schemas.openxmlformats.org/drawingml/2006/table">
            <a:tbl>
              <a:tblPr/>
              <a:tblGrid>
                <a:gridCol w="2411280"/>
                <a:gridCol w="3684600"/>
                <a:gridCol w="3048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goodb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a pr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so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thank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out 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a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d say…. (ik zou zeggen dat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other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jo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someone off (become angry with some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tr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ec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say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tell someone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i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 was t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out 90% of what w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n’t spok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one’s body languag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lls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how they are feeling.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ol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he was tir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TCH EQUIVA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g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ell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4:23:33Z</dcterms:created>
  <dc:creator>Gebruiker</dc:creator>
  <dc:description/>
  <dc:language>en-US</dc:language>
  <cp:lastModifiedBy>Gebruiker</cp:lastModifiedBy>
  <dcterms:modified xsi:type="dcterms:W3CDTF">2013-09-22T14:36:32Z</dcterms:modified>
  <cp:revision>4</cp:revision>
  <dc:subject/>
  <dc:title>Dia 1</dc:title>
</cp:coreProperties>
</file>