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8B0-2BD6-4F07-8868-82BC375C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236-0DF5-48CA-B641-1500552D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CA06-25BB-433F-8DC8-513E4277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61F5-F3F8-4FBD-ADDE-423FE50B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9994-BF0B-4401-BBE6-8F0B66AA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C773-3B05-49E8-A075-40EAE19C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47A-F8C7-4849-9E0B-D12A9AF7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E81-9D1B-4506-A800-9CD40AA9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DCC0-392E-4803-BB84-933240CF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AE03-B507-46EF-AA44-1936335B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7DF-3048-43C1-96F6-DCC438D4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3372-811F-42AB-897A-CCF7F0C6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F144-BBD5-48A5-877D-8839C94D9DE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oun suffixes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95280" y="1123920"/>
          <a:ext cx="8280360" cy="4753080"/>
        </p:xfrm>
        <a:graphic>
          <a:graphicData uri="http://schemas.openxmlformats.org/drawingml/2006/table">
            <a:tbl>
              <a:tblPr/>
              <a:tblGrid>
                <a:gridCol w="2070000"/>
                <a:gridCol w="2070360"/>
                <a:gridCol w="2070000"/>
                <a:gridCol w="207000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SE 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 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8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es a j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52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ns from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ns from verbs and 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44" name="Tekstvak 4"/>
          <p:cNvSpPr/>
          <p:nvPr/>
        </p:nvSpPr>
        <p:spPr>
          <a:xfrm>
            <a:off x="395280" y="476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oun Suffixes (achtervoegsels bij zelfstandige naamwoor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58:36Z</dcterms:created>
  <dc:creator>Gebruiker</dc:creator>
  <dc:description/>
  <dc:language>en-US</dc:language>
  <cp:lastModifiedBy>Gebruiker</cp:lastModifiedBy>
  <dcterms:modified xsi:type="dcterms:W3CDTF">2013-09-01T19:09:48Z</dcterms:modified>
  <cp:revision>2</cp:revision>
  <dc:subject/>
  <dc:title>Noun suffixes </dc:title>
</cp:coreProperties>
</file>