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CE41-5C86-4088-AFF5-1D6B0D92A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2EA3-59AF-4B4B-BD27-2FE7A4F1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77B6-D97C-4BA5-8E05-4F2C8B4F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3594-2B13-4F30-8929-7DF36A88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D7FF-01C5-4173-A9F8-875FB274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5CEE-01B8-4C69-84A3-9045FBB2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E91B-24AE-4380-85AE-D5536684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6BF4-01E2-4C98-9DC8-7C8ED822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A048-57BF-4ECA-BDDD-BEAAE91A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1C03-91FC-427B-9DD7-BC7B7504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1910-FC92-43C7-BEC8-5CE44836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3D65-B74E-4F50-9ECF-582E2481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6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4E98-0898-4DD3-B644-FEB9E791B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esent Simpl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use  the </a:t>
            </a: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Present Simp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things which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always true, or are true for a lo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He goes to work by 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a habit. (They are true sometimes, always, usually etc……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I usually have dinner at 6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he sometimes drinks coff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Negativ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411280" y="1600200"/>
          <a:ext cx="4105440" cy="4199040"/>
        </p:xfrm>
        <a:graphic>
          <a:graphicData uri="http://schemas.openxmlformats.org/drawingml/2006/table">
            <a:tbl>
              <a:tblPr/>
              <a:tblGrid>
                <a:gridCol w="410544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24"/>
          <p:cNvSpPr/>
          <p:nvPr/>
        </p:nvSpPr>
        <p:spPr>
          <a:xfrm>
            <a:off x="2195640" y="184464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’</a:t>
            </a:r>
            <a:r>
              <a:rPr b="1" lang="en-GB" sz="3600" spc="-1" strike="noStrike">
                <a:solidFill>
                  <a:srgbClr val="009999"/>
                </a:solidFill>
                <a:latin typeface="Times New Roman"/>
              </a:rPr>
              <a:t>m  not 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009999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2556000" y="2781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he  </a:t>
            </a: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isn’t 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2463840" y="4241880"/>
            <a:ext cx="412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You  </a:t>
            </a: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aren’t work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‘to work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0920" y="1600200"/>
          <a:ext cx="8893080" cy="4525920"/>
        </p:xfrm>
        <a:graphic>
          <a:graphicData uri="http://schemas.openxmlformats.org/drawingml/2006/table">
            <a:tbl>
              <a:tblPr/>
              <a:tblGrid>
                <a:gridCol w="2913120"/>
                <a:gridCol w="3147840"/>
                <a:gridCol w="283212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m no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sn’t wor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ren’t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sitive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76360" y="1600200"/>
          <a:ext cx="5975280" cy="4592520"/>
        </p:xfrm>
        <a:graphic>
          <a:graphicData uri="http://schemas.openxmlformats.org/drawingml/2006/table">
            <a:tbl>
              <a:tblPr/>
              <a:tblGrid>
                <a:gridCol w="597528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I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     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H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Sh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It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w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you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they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stion </a:t>
            </a:r>
            <a:br>
              <a:rPr sz="2800"/>
            </a:br>
            <a:r>
              <a:rPr b="1" lang="en-GB" sz="3200" spc="-1" strike="noStrike">
                <a:solidFill>
                  <a:srgbClr val="3366ff"/>
                </a:solidFill>
                <a:latin typeface="Arial"/>
              </a:rPr>
              <a:t>?  </a:t>
            </a:r>
            <a:r>
              <a:rPr b="1" lang="en-GB" sz="24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627280" y="1600200"/>
          <a:ext cx="3529080" cy="474012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15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s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re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gative  </a:t>
            </a:r>
            <a:r>
              <a:rPr b="1" lang="en-GB" sz="4400" spc="-1" strike="noStrike">
                <a:solidFill>
                  <a:srgbClr val="00cc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87280" y="1600200"/>
          <a:ext cx="7056720" cy="4592520"/>
        </p:xfrm>
        <a:graphic>
          <a:graphicData uri="http://schemas.openxmlformats.org/drawingml/2006/table">
            <a:tbl>
              <a:tblPr/>
              <a:tblGrid>
                <a:gridCol w="705672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am</a:t>
                      </a:r>
                      <a:r>
                        <a:rPr b="1" lang="en-GB" sz="2800" spc="-1" strike="noStrike">
                          <a:solidFill>
                            <a:srgbClr val="00ff99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’m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                               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s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sn’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                              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                               we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re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ren’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                             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413000"/>
          <a:ext cx="8291520" cy="4627440"/>
        </p:xfrm>
        <a:graphic>
          <a:graphicData uri="http://schemas.openxmlformats.org/drawingml/2006/table">
            <a:tbl>
              <a:tblPr/>
              <a:tblGrid>
                <a:gridCol w="2743200"/>
                <a:gridCol w="3100320"/>
                <a:gridCol w="2448000"/>
              </a:tblGrid>
              <a:tr h="161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m 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no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n’t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n’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esent Continuo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use the 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Present Continuo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ings whi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happening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It’s rain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in the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near futu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I’m going home at 9o’clo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work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usually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______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London.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week he’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________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t home.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059280" y="2708280"/>
            <a:ext cx="14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492360" y="3860640"/>
            <a:ext cx="23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Times New Roman"/>
              </a:rPr>
              <a:t>s wor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/Presen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 usually wear trousers to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 ……………..a d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195640" y="2708280"/>
            <a:ext cx="27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Times New Roman"/>
              </a:rPr>
              <a:t>I’m wearing</a:t>
            </a:r>
            <a:r>
              <a:rPr b="1" lang="en-GB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Simple or Present Continu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o rain’</a:t>
            </a:r>
            <a:br>
              <a:rPr sz="3200"/>
            </a:b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often ______ in wi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___________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340000" y="321300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r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116000" y="436572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t’s r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or Present Si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speak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_______ good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, he __________ Ger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47640" y="270828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pea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700360" y="386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spe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or Present Si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work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usually _______ in Lond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, he _________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132000" y="2708280"/>
            <a:ext cx="19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700360" y="38815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wor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Positive 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411280" y="1600200"/>
          <a:ext cx="4032360" cy="460692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108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 Box 25"/>
          <p:cNvSpPr/>
          <p:nvPr/>
        </p:nvSpPr>
        <p:spPr>
          <a:xfrm>
            <a:off x="3704760" y="3213000"/>
            <a:ext cx="22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4142160" y="5013360"/>
            <a:ext cx="23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r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1" lang="en-GB" sz="4000" spc="-1" strike="noStrike">
                <a:solidFill>
                  <a:srgbClr val="3366ff"/>
                </a:solidFill>
                <a:latin typeface="Arial"/>
              </a:rPr>
              <a:t>Questi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484360" y="1600200"/>
          <a:ext cx="4319640" cy="4270320"/>
        </p:xfrm>
        <a:graphic>
          <a:graphicData uri="http://schemas.openxmlformats.org/drawingml/2006/table">
            <a:tbl>
              <a:tblPr/>
              <a:tblGrid>
                <a:gridCol w="431964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 work</a:t>
                      </a:r>
                      <a:r>
                        <a:rPr b="1" lang="en-GB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28"/>
          <p:cNvSpPr/>
          <p:nvPr/>
        </p:nvSpPr>
        <p:spPr>
          <a:xfrm>
            <a:off x="2627280" y="2781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i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she   </a:t>
            </a: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627280" y="4365720"/>
            <a:ext cx="42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are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22:43:26Z</dcterms:created>
  <dc:creator>Carola Lubberding</dc:creator>
  <dc:description/>
  <dc:language>en-US</dc:language>
  <cp:lastModifiedBy>lbd</cp:lastModifiedBy>
  <dcterms:modified xsi:type="dcterms:W3CDTF">2013-08-27T07:03:25Z</dcterms:modified>
  <cp:revision>26</cp:revision>
  <dc:subject/>
  <dc:title>EFL Resource</dc:title>
</cp:coreProperties>
</file>