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54B4-740C-4AA7-B671-8FDE6195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01D7-2FAD-49CD-8C9D-164B054E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4F1B-AEE3-42C2-8B0F-78F21334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983-A89E-47A5-B818-D3F4332C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A3A0-7B45-40E9-9DAA-FB438B00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80AE-4FD2-4B17-A211-F17F45D7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7AAB-C570-47B4-B4BA-1ABC622F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936-9377-4E86-8B2F-ED0B9558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384C-81EB-4757-BAC8-DFA42A87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78A-161A-4497-8474-60B6557B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43A1-5F70-4B36-9D72-0CFD26E8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5B5-FDF1-469F-B3E3-843D6158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355E-50B7-47B0-9257-B47D49E4C61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st simple past perfect answer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B p. 20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3178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d done, had been, hadn’t killed, had hidden, had sa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simple to talk about an event that took place at a particular time in the pa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perfect when we need to make clean that an event took place BEFORE another past even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kstvak 3"/>
          <p:cNvSpPr/>
          <p:nvPr/>
        </p:nvSpPr>
        <p:spPr>
          <a:xfrm>
            <a:off x="3708360" y="1557360"/>
            <a:ext cx="50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Mike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arrived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t the station, the train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lef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he programme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finished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when Tessa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turned o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 T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home, the dog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eate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ir st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verybody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gone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me 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o the par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5D TB p. 20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w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n’t retur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ve h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oo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rriv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fou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escap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m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s 3a/3b/3c WB p.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130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3"/>
          <p:cNvSpPr/>
          <p:nvPr/>
        </p:nvSpPr>
        <p:spPr>
          <a:xfrm>
            <a:off x="1835280" y="1628640"/>
            <a:ext cx="316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alise, had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ad, had 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dn’t know, had said, was cr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ot, had sta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sn’t working, had forgot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aw, had,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4"/>
          <p:cNvSpPr/>
          <p:nvPr/>
        </p:nvSpPr>
        <p:spPr>
          <a:xfrm>
            <a:off x="5724360" y="1628640"/>
            <a:ext cx="341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h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b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7. ha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8. be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9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0. d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1. w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6:34:32Z</dcterms:created>
  <dc:creator>Gebruiker</dc:creator>
  <dc:description/>
  <dc:language>en-US</dc:language>
  <cp:lastModifiedBy>Gebruiker</cp:lastModifiedBy>
  <dcterms:modified xsi:type="dcterms:W3CDTF">2013-11-10T16:51:34Z</dcterms:modified>
  <cp:revision>2</cp:revision>
  <dc:subject/>
  <dc:title>Dia 1</dc:title>
</cp:coreProperties>
</file>