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5A36-81C1-46DA-AF7E-3050526B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9DFA-24BA-49C7-8BAE-83CBD110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F8CC-0F70-4D5D-B7D9-42A099DB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758A-6341-4969-A74C-CB8E2C2D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0BBE-351A-43B5-A7A3-E0ED10D0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425B-CB1F-4DE9-B933-981A880C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E6B6-DA94-4961-AB20-D24CBC5A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4F5F-7AA1-401F-B4BF-3CC92308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C9F5-32A7-4FD0-AB39-834715E2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4C96-FE45-421B-A843-C4448F17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DB16-BD1A-442C-A420-C0F67C64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11DA-6E7D-41B6-8B1F-86421064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D1D4-CA7F-4798-969D-87F600005C2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33360"/>
          <a:ext cx="8496000" cy="6264360"/>
        </p:xfrm>
        <a:graphic>
          <a:graphicData uri="http://schemas.openxmlformats.org/drawingml/2006/table">
            <a:tbl>
              <a:tblPr/>
              <a:tblGrid>
                <a:gridCol w="1698480"/>
                <a:gridCol w="1700280"/>
                <a:gridCol w="1698480"/>
                <a:gridCol w="1700280"/>
                <a:gridCol w="1698480"/>
              </a:tblGrid>
              <a:tr h="598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erlatives (overtreffende tra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SY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Één lettergree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71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486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TWO SYLLABLES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lettergrepen of me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83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 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485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5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6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79280" y="476280"/>
          <a:ext cx="8713800" cy="4876920"/>
        </p:xfrm>
        <a:graphic>
          <a:graphicData uri="http://schemas.openxmlformats.org/drawingml/2006/table">
            <a:tbl>
              <a:tblPr/>
              <a:tblGrid>
                <a:gridCol w="1743120"/>
                <a:gridCol w="1741680"/>
                <a:gridCol w="1743120"/>
                <a:gridCol w="1742760"/>
                <a:gridCol w="1743120"/>
              </a:tblGrid>
              <a:tr h="5144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ara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…. 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…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812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n’t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big 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ad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beautiful than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the most beautiful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ity in It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8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ld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a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lli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than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girl in class is Susa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35:21Z</dcterms:created>
  <dc:creator>Gebruiker</dc:creator>
  <dc:description/>
  <dc:language>en-US</dc:language>
  <cp:lastModifiedBy>Gebruiker</cp:lastModifiedBy>
  <dcterms:modified xsi:type="dcterms:W3CDTF">2013-09-01T19:10:43Z</dcterms:modified>
  <cp:revision>4</cp:revision>
  <dc:subject/>
  <dc:title>Dia 1</dc:title>
</cp:coreProperties>
</file>