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4172-0A4E-400A-9948-001839F026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nl-NL" sz="1200" spc="-1" strike="noStrike">
                <a:solidFill>
                  <a:srgbClr val="000000"/>
                </a:solidFill>
                <a:latin typeface="Calibri"/>
              </a:rPr>
              <a:t>Stickygrammar.blogspot.c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F5B0-6F3B-40C5-A2EF-3BF7C889A2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349A-398B-4D56-93D3-5D881DC0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D9DA-FC54-478B-8463-5AF980F2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CC07-51D7-463B-837B-AD9DA650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E9B3-D7A9-4026-BCD2-912C489C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06B0-09EE-4C6D-8EFB-C66B8EEF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AD3F-7FD0-4B74-A190-0F946244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90C2-8341-4A50-B3A1-477301AF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8075-42A1-49E4-A606-EBE35C01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D97F-9406-4C52-8440-6E903FA5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7066-90BD-48F3-978B-10FB7BA8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66F9-7CF9-4E88-9D8C-597E3CAA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E040-F551-4D7B-84CF-418204D7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1221-1F2C-45FF-B3A7-5B5D8224B2C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Gerund/to-infinitive</a:t>
            </a: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	</a:t>
            </a: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332000" y="1136520"/>
          <a:ext cx="7488000" cy="5232600"/>
        </p:xfrm>
        <a:graphic>
          <a:graphicData uri="http://schemas.openxmlformats.org/drawingml/2006/table">
            <a:tbl>
              <a:tblPr/>
              <a:tblGrid>
                <a:gridCol w="3744720"/>
                <a:gridCol w="374328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en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ongezo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r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ngels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ek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2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Smoking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bad for y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learning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to speak</a:t>
                      </a:r>
                      <a:r>
                        <a:rPr b="0" lang="nl-NL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 houd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loten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n taxi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 ne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enjoy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danc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decided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to get</a:t>
                      </a:r>
                      <a:r>
                        <a:rPr b="1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a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d u het erg </a:t>
                      </a: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 te wachte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uld you </a:t>
                      </a:r>
                      <a:r>
                        <a:rPr b="0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mind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6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waiting</a:t>
                      </a:r>
                      <a:r>
                        <a:rPr b="1" lang="nl-NL" sz="16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7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do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 enjoy to d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uld you mind to wa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e decided getting a ta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’m learning speaking Du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2" descr="http://cdn.deepjapan.org/content/images/.user/_image1_1_Oj0YJg1411868031180.jpg"/>
          <p:cNvPicPr/>
          <p:nvPr/>
        </p:nvPicPr>
        <p:blipFill>
          <a:blip r:embed="rId1"/>
          <a:stretch/>
        </p:blipFill>
        <p:spPr>
          <a:xfrm>
            <a:off x="395280" y="5300640"/>
            <a:ext cx="971640" cy="982800"/>
          </a:xfrm>
          <a:prstGeom prst="rect">
            <a:avLst/>
          </a:prstGeom>
          <a:ln w="0">
            <a:noFill/>
          </a:ln>
        </p:spPr>
      </p:pic>
      <p:sp>
        <p:nvSpPr>
          <p:cNvPr id="51" name="Vermenigvuldigen 6"/>
          <p:cNvSpPr/>
          <p:nvPr/>
        </p:nvSpPr>
        <p:spPr>
          <a:xfrm>
            <a:off x="2050920" y="5877000"/>
            <a:ext cx="217440" cy="216000"/>
          </a:xfrm>
          <a:custGeom>
            <a:avLst/>
            <a:gdLst/>
            <a:ahLst/>
            <a:rect l="l" t="t" r="r" b="b"/>
            <a:pathLst>
              <a:path w="217488" h="215900">
                <a:moveTo>
                  <a:pt x="34348" y="69873"/>
                </a:moveTo>
                <a:lnTo>
                  <a:pt x="70123" y="33835"/>
                </a:lnTo>
                <a:lnTo>
                  <a:pt x="108744" y="72174"/>
                </a:lnTo>
                <a:lnTo>
                  <a:pt x="147365" y="33835"/>
                </a:lnTo>
                <a:lnTo>
                  <a:pt x="183140" y="69873"/>
                </a:lnTo>
                <a:lnTo>
                  <a:pt x="144783" y="107950"/>
                </a:lnTo>
                <a:lnTo>
                  <a:pt x="183140" y="146027"/>
                </a:lnTo>
                <a:lnTo>
                  <a:pt x="147365" y="182065"/>
                </a:lnTo>
                <a:lnTo>
                  <a:pt x="108744" y="143726"/>
                </a:lnTo>
                <a:lnTo>
                  <a:pt x="70123" y="182065"/>
                </a:lnTo>
                <a:lnTo>
                  <a:pt x="34348" y="146027"/>
                </a:lnTo>
                <a:lnTo>
                  <a:pt x="72705" y="107950"/>
                </a:lnTo>
                <a:lnTo>
                  <a:pt x="34348" y="69873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Vermenigvuldigen 7"/>
          <p:cNvSpPr/>
          <p:nvPr/>
        </p:nvSpPr>
        <p:spPr>
          <a:xfrm>
            <a:off x="6732720" y="587700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33900" y="69807"/>
                </a:moveTo>
                <a:lnTo>
                  <a:pt x="69807" y="33900"/>
                </a:lnTo>
                <a:lnTo>
                  <a:pt x="107950" y="72043"/>
                </a:lnTo>
                <a:lnTo>
                  <a:pt x="146093" y="33900"/>
                </a:lnTo>
                <a:lnTo>
                  <a:pt x="182000" y="69807"/>
                </a:lnTo>
                <a:lnTo>
                  <a:pt x="143857" y="107950"/>
                </a:lnTo>
                <a:lnTo>
                  <a:pt x="182000" y="146093"/>
                </a:lnTo>
                <a:lnTo>
                  <a:pt x="146093" y="182000"/>
                </a:lnTo>
                <a:lnTo>
                  <a:pt x="107950" y="143857"/>
                </a:lnTo>
                <a:lnTo>
                  <a:pt x="69807" y="182000"/>
                </a:lnTo>
                <a:lnTo>
                  <a:pt x="33900" y="146093"/>
                </a:lnTo>
                <a:lnTo>
                  <a:pt x="72043" y="107950"/>
                </a:lnTo>
                <a:lnTo>
                  <a:pt x="33900" y="69807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Vermenigvuldigen 8"/>
          <p:cNvSpPr/>
          <p:nvPr/>
        </p:nvSpPr>
        <p:spPr>
          <a:xfrm>
            <a:off x="2916360" y="616572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33900" y="69807"/>
                </a:moveTo>
                <a:lnTo>
                  <a:pt x="69807" y="33900"/>
                </a:lnTo>
                <a:lnTo>
                  <a:pt x="107950" y="72043"/>
                </a:lnTo>
                <a:lnTo>
                  <a:pt x="146093" y="33900"/>
                </a:lnTo>
                <a:lnTo>
                  <a:pt x="182000" y="69807"/>
                </a:lnTo>
                <a:lnTo>
                  <a:pt x="143857" y="107950"/>
                </a:lnTo>
                <a:lnTo>
                  <a:pt x="182000" y="146093"/>
                </a:lnTo>
                <a:lnTo>
                  <a:pt x="146093" y="182000"/>
                </a:lnTo>
                <a:lnTo>
                  <a:pt x="107950" y="143857"/>
                </a:lnTo>
                <a:lnTo>
                  <a:pt x="69807" y="182000"/>
                </a:lnTo>
                <a:lnTo>
                  <a:pt x="33900" y="146093"/>
                </a:lnTo>
                <a:lnTo>
                  <a:pt x="72043" y="107950"/>
                </a:lnTo>
                <a:lnTo>
                  <a:pt x="33900" y="69807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Vermenigvuldigen 9"/>
          <p:cNvSpPr/>
          <p:nvPr/>
        </p:nvSpPr>
        <p:spPr>
          <a:xfrm>
            <a:off x="6732720" y="616572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33900" y="69807"/>
                </a:moveTo>
                <a:lnTo>
                  <a:pt x="69807" y="33900"/>
                </a:lnTo>
                <a:lnTo>
                  <a:pt x="107950" y="72043"/>
                </a:lnTo>
                <a:lnTo>
                  <a:pt x="146093" y="33900"/>
                </a:lnTo>
                <a:lnTo>
                  <a:pt x="182000" y="69807"/>
                </a:lnTo>
                <a:lnTo>
                  <a:pt x="143857" y="107950"/>
                </a:lnTo>
                <a:lnTo>
                  <a:pt x="182000" y="146093"/>
                </a:lnTo>
                <a:lnTo>
                  <a:pt x="146093" y="182000"/>
                </a:lnTo>
                <a:lnTo>
                  <a:pt x="107950" y="143857"/>
                </a:lnTo>
                <a:lnTo>
                  <a:pt x="69807" y="182000"/>
                </a:lnTo>
                <a:lnTo>
                  <a:pt x="33900" y="146093"/>
                </a:lnTo>
                <a:lnTo>
                  <a:pt x="72043" y="107950"/>
                </a:lnTo>
                <a:lnTo>
                  <a:pt x="33900" y="69807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"/>
          <p:cNvSpPr/>
          <p:nvPr/>
        </p:nvSpPr>
        <p:spPr>
          <a:xfrm>
            <a:off x="4572000" y="1319040"/>
            <a:ext cx="0" cy="496440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Gerunds or infinitives? So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2920" y="1096560"/>
            <a:ext cx="885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ant ________ (break) fre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When I’m home everything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ems ________ (be) righ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‘Cause all of the stars, are fading away, jus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y ________ (no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ry) you’ll see them some day. Take what you need and be on your way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op ________ (cry) your heart ou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 Listen do you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ant _________ (know) a secret. Do you promis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 (not/tell). Closer let me whisper in your ear say the words you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ng _________ (hear) I’m in love with yo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n’t help _________ (fall) in love with yo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Keep _________ (roll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. Take my strong advice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member _________ always_________ (think) twic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. Make my way back home when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rn _________ (fly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. But how can you complain, if it’s the way it’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ant _________ (b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.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ied my best _________ (feed) her appetite, Keep her coming every night, so hard to keep her satisfied. Kept playing love like it was just a game, pretending _________ (feel) the same. Then turn around and leave agai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99"/>
                </a:solidFill>
                <a:latin typeface="Calibri"/>
              </a:rPr>
              <a:t>Gerunds/to-infini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e love, w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t _________ (share) it, it leaves you baby if you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n’t care for 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. W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rted _________ (live) in an old house, my mom gave birth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we were checking it ou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. The tiger’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iting _________ (be) tamed, sing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. I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on't mind _________ (spend) every day out on your corner i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ouring rain. Look for the girl with the broken smile, ask her if s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nts _________ (stay) awhi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. Losing my religio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ying _________ (keep) up with you and I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't know if I can do 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. Today I don't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eel like _________ (do) anything, I just want _________ (lay) in my bed. Don't feel like _________ (pick) up my phone, so leave a message at the tone 'cause today I swear I'm not doing anything. Nothing at al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7. I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n’t stand _________ (lose) yo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. Soul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rts _________ (spin) again, I can't stop _________ (feel). No, I won't stop _________ (feel) and the fun's not fun anymore I can't stop _________ (feel) No, I won't stop _________ (feel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.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member _________ (let) her into your heart then you can start _________ (make) it bet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. I neve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t _________ (hurt) you, I never meant _________ (lie) so this is goodbye this is goodby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13:48:46Z</dcterms:created>
  <dc:creator>lbd</dc:creator>
  <dc:description/>
  <dc:language>en-US</dc:language>
  <cp:lastModifiedBy>Carola Lubberding</cp:lastModifiedBy>
  <dcterms:modified xsi:type="dcterms:W3CDTF">2015-03-17T07:19:25Z</dcterms:modified>
  <cp:revision>7</cp:revision>
  <dc:subject/>
  <dc:title>Dia 1</dc:title>
</cp:coreProperties>
</file>