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BD8E-2253-42A7-9F5A-6190996CD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E7AA-1376-461B-9A70-6CE2946A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6601-4C3E-4010-8694-360F6E1B2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8039-6B3B-41DC-9B86-DB88D09FC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5917-9801-47FB-8265-577BE3A6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CC15-91EE-459C-A38F-F6F94C0E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7749-3D77-4553-BE7E-4356C46F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41CE-0C7A-4603-BE81-D6A3582A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E7E0-7905-48E0-B91B-F3DD40D9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DE59-1428-43A2-B5B3-29C4AD27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E323-0E5B-4BCC-800B-C163120C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2852-4E9A-4D5F-A2E7-FB2BE86C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43A5-31B6-4F2E-A992-25DE2450EE22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1052640"/>
          <a:ext cx="8569080" cy="5626080"/>
        </p:xfrm>
        <a:graphic>
          <a:graphicData uri="http://schemas.openxmlformats.org/drawingml/2006/table">
            <a:tbl>
              <a:tblPr/>
              <a:tblGrid>
                <a:gridCol w="1638000"/>
                <a:gridCol w="3875400"/>
                <a:gridCol w="3055680"/>
              </a:tblGrid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ve/has + past participl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f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ve/has + past participl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si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period of time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|---------------|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llowed by a specific time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|------------- --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have lived in Den Bosch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 years and then we moved to Os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ve loved football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c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 was four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Y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don’t live in Den Bosch any more (for 2 yea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still love footb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ve been a fan of Katy Perry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5 yea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duration=5 years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ve been a fan of Katy Perry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c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009 (starting point = 200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2" name="Tekstvak 2"/>
          <p:cNvSpPr/>
          <p:nvPr/>
        </p:nvSpPr>
        <p:spPr>
          <a:xfrm>
            <a:off x="395280" y="260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For and since with the present 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23:25Z</dcterms:created>
  <dc:creator>Gebruiker</dc:creator>
  <dc:description/>
  <dc:language>en-US</dc:language>
  <cp:lastModifiedBy>Gebruiker</cp:lastModifiedBy>
  <dcterms:modified xsi:type="dcterms:W3CDTF">2013-09-01T19:11:12Z</dcterms:modified>
  <cp:revision>2</cp:revision>
  <dc:subject/>
  <dc:title>Dia 1</dc:title>
</cp:coreProperties>
</file>