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4E43-177B-4DB9-96DA-A758C703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376B-7BCC-4054-AE63-71879189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B9BC-3278-4D24-AAA3-FFA7D1C4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9D5-46D7-4859-A5FC-A3937944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F4B2-3254-4170-A54C-F0C19E36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2145-6570-419F-940F-F3E3FAD5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224-D8E3-4AF6-9454-71830D45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1D94-C310-4752-9487-3B6F4039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C4CD-0A39-4F0B-AE4C-A9C676E8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E96EB-E99F-4C78-A389-8D91E7B3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222C5-82FB-455C-B98A-2C4BB17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E61-2F49-448A-8960-4F04ECE2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DEFE-C9B3-447F-9DB2-AEB6BE5A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6834-1114-4EAE-A64B-F380A00B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762A-CBAC-429B-AF4D-199D95D7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27FA1-CB21-4930-AB3C-15C55AF0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A21F-0B29-4623-B009-D952BD6F0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6B5-FC58-453F-9579-964E700E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D33-4250-4AD4-8F1B-0F82B854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9815-2FC5-484E-9397-04ADE8FE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5D90-2EEB-444B-9A09-1DB7A5A6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FB15-90DD-4D45-AF31-50191F1E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E6C-C471-46D5-9397-E767B107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773-CF69-4FAA-954C-2823DD8B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alibri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F5599-4D06-42C5-856A-AEC60E9DF196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alibri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A8AA-AC28-4AC4-B367-D468BD95C8AF}" type="slidenum">
              <a:rPr b="1" lang="nl-NL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Calibri"/>
              </a:rPr>
              <a:t>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Calibri"/>
              </a:rPr>
              <a:t>Alleen wat je moet weten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1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je hebt in de zin m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meer dan één werkwoo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 mak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us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zijn/worden/hebben + voltooid deelwoor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verf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huil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slap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oltooide tijd (2)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wee soort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oltooide tijd: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genwoordig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teg.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006666"/>
                </a:solidFill>
                <a:uFillTx/>
                <a:latin typeface="Calibri"/>
              </a:rPr>
              <a:t>Voltooid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oltooi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er staat een voltooid deelwoord in de z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leden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= zijn/worden/hebben in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insdag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naar Gouda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aa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e speeltuin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uwe schommels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kreg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ord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I: De spelregels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anderd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zijn kledingstijl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kledingstijl van de man 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ande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Ik-vorm + t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tegenwoordige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ee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ij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je, jij, u, hij, zij, het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oe werkt 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erleden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n de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 wil je in de verl. tijd zett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-3016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ind de stam van het betreffende werkwoord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-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an het werkwoord af te hal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t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Uitleg werkwoordspelling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EL II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spelregels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mis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hu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pr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verdo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Zit de laatste letter van de stam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ie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Schrijf d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stam + 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bran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, mi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huisde, praa</a:t>
            </a:r>
            <a:r>
              <a:rPr b="0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, verdoofde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't K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o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fsch</a:t>
            </a:r>
            <a:r>
              <a:rPr b="0" lang="nl-NL" sz="3600" spc="-1" strike="noStrike">
                <a:solidFill>
                  <a:srgbClr val="006666"/>
                </a:solidFill>
                <a:latin typeface="Calibri"/>
              </a:rPr>
              <a:t>i</a:t>
            </a: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p in de voltooid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erleden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e(n)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(n)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't Kofschip in de voltooide tij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of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beantwoor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d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brief binnen twee dag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Gisteren wach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de jongens samen op hun bu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nog nooit gebeu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r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W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bb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ons die dag erg vermaa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inde DEEL II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Samengevat!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Let op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tijden van persoonsvorme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vier tijden: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teg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, </a:t>
            </a:r>
            <a:r>
              <a:rPr b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olt. verl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Er zijn twee spelregels: 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k-vorm + t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tegenwoordig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	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't K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o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fsch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i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: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verleden tijd + voltooide tijd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t gaat er mis bij het spell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raakt in de war door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overbodige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informati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et niet i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welk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en zin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past daarom een taalregel toe op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verkeerde tij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hebt moeite met het vinden van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sta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Je werk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gehaast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indefinite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indefinite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indefinite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EL I: de tijde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Voltooid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Waar moet je op letten?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aantal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werkwoorden in de zi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ijd waarin 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Het aantal werkwoorden in de zin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bro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oud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van vogels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Daa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n oom ooit op vakanti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gewee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et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zo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mo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zij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.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De tijd waarin de persoonsvorm staat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ij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Van 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kreeg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ik een cadeautje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ee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zus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ad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mij een cadeautje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gegev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ee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i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Hij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is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niet dat Peter de ring </a:t>
            </a:r>
            <a:r>
              <a:rPr b="1" i="1" lang="nl-NL" sz="2800" spc="-1" strike="noStrike">
                <a:solidFill>
                  <a:srgbClr val="003366"/>
                </a:solidFill>
                <a:latin typeface="Calibri"/>
              </a:rPr>
              <a:t>vergeten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was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Tegenwoordige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tegenwoordige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en het is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bezig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aapt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Calibri"/>
              </a:rPr>
              <a:t>Verleden tijd</a:t>
            </a:r>
            <a:endParaRPr b="1" lang="en-US" sz="3600" spc="-1" strike="noStrike">
              <a:solidFill>
                <a:srgbClr val="006666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iermee wordt bedoeld: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de persoonsvorm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staat in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de verleden tijd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Het gebeurde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eerder dan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; het </a:t>
            </a:r>
            <a:r>
              <a:rPr b="1" lang="nl-NL" sz="2800" spc="-1" strike="noStrike">
                <a:solidFill>
                  <a:srgbClr val="003366"/>
                </a:solidFill>
                <a:latin typeface="Calibri"/>
              </a:rPr>
              <a:t>is al gebeurd</a:t>
            </a:r>
            <a:r>
              <a:rPr b="0" lang="nl-NL" sz="2800" spc="-1" strike="noStrike">
                <a:solidFill>
                  <a:srgbClr val="003366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Mijn vader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verf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 het tuinhek lichtgroen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Piet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huilde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, maar Liesje </a:t>
            </a:r>
            <a:r>
              <a:rPr b="0" i="1" lang="nl-NL" sz="2800" spc="-1" strike="noStrike" u="sng">
                <a:solidFill>
                  <a:srgbClr val="003366"/>
                </a:solidFill>
                <a:uFillTx/>
                <a:latin typeface="Calibri"/>
              </a:rPr>
              <a:t>sliep</a:t>
            </a:r>
            <a:r>
              <a:rPr b="0" i="1" lang="nl-NL" sz="2800" spc="-1" strike="noStrike">
                <a:solidFill>
                  <a:srgbClr val="003366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1:25:40Z</dcterms:created>
  <dc:creator>Snst</dc:creator>
  <dc:description/>
  <dc:language>en-US</dc:language>
  <cp:lastModifiedBy>Linda Schaafsma</cp:lastModifiedBy>
  <dcterms:modified xsi:type="dcterms:W3CDTF">2015-02-17T15:42:52Z</dcterms:modified>
  <cp:revision>119</cp:revision>
  <dc:subject/>
  <dc:title>Werkwoordspelling</dc:title>
</cp:coreProperties>
</file>