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5CA-5DB2-422D-AB7F-E1434BFB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4E2-ACBE-4473-A9D0-D2A7BC13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024-D5F0-4B77-8BEE-CE517285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0593-3850-4D8A-8E29-106A490B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21E8-4510-4573-81D2-7A24A536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80B9-C473-4145-8BEB-2FBC992D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BFD4-40FE-4F36-BA98-34676272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8FAC-6280-4D82-A3EC-C4489678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D020-024D-4C17-AE86-EF4751ED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1DE1-143F-4BA1-9F55-547E415E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C425-DFD9-48CC-9B81-5CDB3493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2027-DD2B-42FF-8B0B-6767C3FD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91C1-81BD-4E72-BCC7-BB9CD3B2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5886-8605-40C0-A165-C2BD85E8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BD7C-5502-4D06-A0D0-B480B48E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5F58-4A6F-4277-8ED1-2BF91C75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2E95-6A7E-4D47-ABE4-E62C084A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C63-07C1-4F55-AC77-807BCF13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E19C-1CFC-45B6-9013-AF6A35DA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5B5-8273-4DCB-8D08-62BD92EC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7F0F-CBFF-40C8-B325-9A5A877A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A5B-E2A3-430A-BE06-E816DB68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7730-C389-443A-AF42-48439932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759-70B2-4BF1-9334-2DDFE19A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0EB6-5CA7-48BC-ACE9-1737DE970084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23A6-93ED-498D-B624-2ECFB660DD04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Calibri"/>
              </a:rPr>
              <a:t>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Calibri"/>
              </a:rPr>
              <a:t>Alleen wat je moet weten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1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je hebt in de zin m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meer dan één werkwoo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 mak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us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zijn/worden/hebben + voltooid deelwoor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verf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huil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slap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2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wee soort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oltooide tijd: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genwoordig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teg.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leden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ord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d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Ik-vorm + t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tegenwoordige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ee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ij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je, jij, u, hij, zij, h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verl.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stam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t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Uitleg 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I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spelregels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ie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, m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huisde, pra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doofde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oltooid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erleden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(n)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oltooide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beantwoor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brief binnen twee dag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Gisteren wach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de jongens samen op hun bu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nog nooit gebeu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r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W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b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ons die dag erg vermaa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Samengevat!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Let op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ijden van persoonsvorm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vier tijden: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twee spelregels: 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 +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t gaat er mis bij het spell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raakt in de war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overbodig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formati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et niet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welk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en zin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past daarom een taalregel toe op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keerd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hebt moeite met het vinden v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rk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gehaas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: de tijde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ar moet je op lett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 waarin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et aantal werkwoorden in de zi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bro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oud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van vogel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a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oom ooit op vakanti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gewee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zo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mo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ij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 tijd waarin de persoonsvorm sta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ij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ee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e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i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is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ezig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aap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erder da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;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s al gebeu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iep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1:25:40Z</dcterms:created>
  <dc:creator>Snst</dc:creator>
  <dc:description/>
  <dc:language>en-US</dc:language>
  <cp:lastModifiedBy>Linda Schaafsma</cp:lastModifiedBy>
  <dcterms:modified xsi:type="dcterms:W3CDTF">2015-02-17T15:42:52Z</dcterms:modified>
  <cp:revision>119</cp:revision>
  <dc:subject/>
  <dc:title>Werkwoordspelling</dc:title>
</cp:coreProperties>
</file>