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E26-71FE-47F8-A929-92836ED6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DE3-8C28-46CA-92A5-E75DFE08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9CE-A1C0-4910-B344-3125E872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756-84B1-4D91-827E-9EF6F09A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B6DA-5687-46C6-9C88-C776FBE8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1864-5395-45A6-879A-CFA3A37F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6CE4-9724-4650-864B-D18631D0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743E-4263-4705-9F5A-04678990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B3CD-BC4B-45C0-8AE7-B9E25F7D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CCA9-4C41-4DD6-AB9C-406D9378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BAB6-E97C-482E-B92F-C5F5B440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998-02AF-4806-9EF1-66A79034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BAF4-C082-442F-B376-1A7BE98E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3464-E7D9-46D6-853B-A0DAA509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AA50-6724-46DD-B1B6-53C71A8F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DFAC-9C5A-4AFC-B721-F8420E09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C625-C612-4872-B18D-D331A2AE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41C-114A-4072-9AC6-9C0559EE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8DD-DF53-41D2-B67C-AFB4CBAB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33EA-8EFA-47D6-96C1-CAA35CB9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129-B3FC-4742-87C7-F27C3839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249-8716-464A-B95A-D856F258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E60-90F2-4BE4-8059-479A001A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15D-56D3-4731-BCCC-FC4E833E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221F-BBD1-4AD0-B01C-6409F87B508D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1469-E018-43C1-8763-6180633DB8EA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Calibri"/>
              </a:rPr>
              <a:t>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Calibri"/>
              </a:rPr>
              <a:t>Alleen wat je moet weten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1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je hebt in de zin m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meer dan één werkwoo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 mak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us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zijn/worden/hebben + voltooid deelwoor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verf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huil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slap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2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wee soort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oltooide tijd: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genwoordig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teg.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leden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ord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d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Ik-vorm + t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tegenwoordige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ee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ij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je, jij, u, hij, zij, h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verl.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stam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t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Uitleg 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I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spelregels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, m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huisde, pra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doofde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oltooid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erleden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(n)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oltooide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beantwoor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brief binnen twee dag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Gisteren wach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de jongens samen op hun bu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nog nooit gebeu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r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W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b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ons die dag erg vermaa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Samengevat!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Let op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ijden van persoonsvorm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vier tijden: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twee spelregels: 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 +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t gaat er mis bij het spell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raakt in de war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overbodig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formati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et niet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welk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en zin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past daarom een taalregel toe op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keerd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hebt moeite met het vinden v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rk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gehaas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: de tijde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ar moet je op lett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 waarin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et aantal werkwoorden in de zi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bro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oud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van vogel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a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oom ooit op vakanti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gewee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zo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mo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ij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 tijd waarin de persoonsvorm sta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ij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ee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e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i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is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ezig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aap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erder da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;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s al gebeu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iep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1:25:40Z</dcterms:created>
  <dc:creator>Snst</dc:creator>
  <dc:description/>
  <dc:language>en-US</dc:language>
  <cp:lastModifiedBy>Linda Schaafsma</cp:lastModifiedBy>
  <dcterms:modified xsi:type="dcterms:W3CDTF">2015-02-17T15:42:52Z</dcterms:modified>
  <cp:revision>119</cp:revision>
  <dc:subject/>
  <dc:title>Werkwoordspelling</dc:title>
</cp:coreProperties>
</file>