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F42C-F36D-4953-BA57-3ABFFFB6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7C2D-2967-4914-8C04-4F70EBF7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60A1-985E-40B6-9DF7-9ACEBC06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71A9-7D20-4B6B-B444-ED80FCC2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7A84-D0DE-4D49-B223-049311A9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46AB-DEBC-4FF9-901C-568BCAE5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41D9-4EE1-4E79-9F4D-514AEA8C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0DAC-0C86-488A-8051-ECBEB47F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D2F2-145C-4FA5-B57B-88952268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D0ED-7E3A-4B5D-99DC-35DCB90C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B5EB-8770-4102-AE7A-44A9EA4E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7B62-F43D-471A-8EAE-1B070B0F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0168-D545-42EE-BF48-2FAC9CFE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9896-815D-4D29-852B-5E090A6E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C984-D206-4C3A-AD01-CF5A86E5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E8D6-8DCC-4A2F-A34B-D721B44C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47C6-77E3-4E31-ACCD-E4EFA4D8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E65D-04EF-4A0C-8B1A-71C9E9B0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011E-0C6B-4903-A9F8-D09C50EA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635F-7D2C-430A-90A8-6B452911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023E-922B-4581-A31E-AEC0942A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BC20-D1CD-4D6F-8C04-61BCFB85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B79D-E449-4FB0-BEE4-6BD622A6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3EA3-F3BB-4A8F-9EBF-08528109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3E31-8ACA-42A6-816C-5FFCC60D269D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017C-E20A-468A-A013-B87257DE9698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Calibri"/>
              </a:rPr>
              <a:t>Werkwoordspelling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Calibri"/>
              </a:rPr>
              <a:t>Alleen wat je moet weten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oltooide tijd (1)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je hebt in de zin me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meer dan één werkwoo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 mak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us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zijn/worden/hebben + voltooid deelwoor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verf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huil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slap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oltooide tijd (2)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wee soort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oltooide tijd: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6666"/>
                </a:solidFill>
                <a:uFillTx/>
                <a:latin typeface="Calibri"/>
              </a:rPr>
              <a:t>Voltooid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 tegenwoordig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er staat een voltooid deelwoord in de z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egenwoordig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zijn/worden/hebben in teg.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insdag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b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naar Gouda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aa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e speeltuin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uwe schommels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kreg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6666"/>
                </a:solidFill>
                <a:uFillTx/>
                <a:latin typeface="Calibri"/>
              </a:rPr>
              <a:t>Voltooid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er staat een voltooid deelwoord in de z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leden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zijn/worden/hebben in verleden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insdag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a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naar Gouda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aa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e speeltuin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a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uwe schommels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kreg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inde DEEL I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I: de spelregels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k-vorm + 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ander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zijn kledingstijl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kledingstijl van 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ord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and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I: De spelregels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anderde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zijn kledingstijl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kledingstijl van 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and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oe werkt Ik-vorm + t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 wil je in de tegenwoordige tijd zett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ind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betreffende werkwoord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werkwoord af te hal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ee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bij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je, jij, u, hij, zij, he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oe werkt 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n de verleden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n de voltooid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 wil je in de verl. tijd zett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ind de stam van het betreffende werkwoord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werkwoord af te hal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Zit de laatste letter van de stam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d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 + t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Uitleg werkwoordspelling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EL 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ijd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EL II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spelregels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Zit de laatste letter van de stam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ie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d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 + d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, m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, verhuisde, pra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, verdoofde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oltooid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't Kofschip in de verleden tij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e(n)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of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't Kofschip in de voltooide tij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of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beantwoor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n brief binnen twee dag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Gisteren wach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de jongens samen op hun bus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at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nog nooit gebeu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r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W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bb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ons die dag erg vermaa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inde DEEL II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Samengevat!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Let op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ijden van persoonsvorm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n 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aantal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werkwoorden in de zi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vier tijden: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eg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l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. teg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. verl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twee spelregels: 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k-vorm + t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genwoordig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erleden tijd + voltooid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Wat gaat er mis bij het spellen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raakt in de war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overbodige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informati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weet niet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welk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en zin staat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past daarom een taalregel toe op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keerd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hebt moeite met het vinden v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sta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werk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gehaas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: de tijden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e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Waar moet je op letten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aantal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werkwoorden in de zi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ijd waarin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et aantal werkwoorden in de zin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bro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oud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van vogels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aa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n oom ooit op vakanti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gewees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et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zo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mo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ij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.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 tijd waarin de persoonsvorm sta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Van 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rijg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een cadeautj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Van 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reeg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een cadeautj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een cadeautje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ev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a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een cadeautje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ev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ee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t dat Peter de ring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verg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is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t dat Peter de ring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verg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a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Tegenwoordig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 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gebeur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n het is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bezig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uil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laap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 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gebeur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erder da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; 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s al gebeu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f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uil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liep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1:25:40Z</dcterms:created>
  <dc:creator>Snst</dc:creator>
  <dc:description/>
  <dc:language>en-US</dc:language>
  <cp:lastModifiedBy>Linda Schaafsma</cp:lastModifiedBy>
  <dcterms:modified xsi:type="dcterms:W3CDTF">2015-02-17T15:42:52Z</dcterms:modified>
  <cp:revision>119</cp:revision>
  <dc:subject/>
  <dc:title>Werkwoordspelling</dc:title>
</cp:coreProperties>
</file>