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5931-9AD7-4197-B472-1CE9210F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C75A-ED61-4C6A-B108-6625D706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35AA-B2D3-48F9-AE08-6B0B3302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2FEA-740A-4749-A4B3-96F675BF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33F4-FB82-49EB-AD75-C7C3D54F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E88A-3DFA-480E-9701-97BC3DE7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2AB5-1E3A-4ACE-8C86-93E34461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A4F3-4C28-444C-90D1-DC19A8D9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B62E-1C10-4F10-A4B8-E9BA1D1A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EE79-E307-4023-81B1-061E86AD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5A6C-A240-4843-A0A1-B7F4F86C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34F5-271C-4EDF-B236-48429D1F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6F00-9425-445F-9142-67961950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ED19-1DA7-40B6-942C-703F2B88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9CD1-E54F-4643-B5FE-BCB4143E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360B-B0F9-4783-BDA9-E7E50622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F821-B505-4EEC-BBE9-9DEBA142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DE37-E4C0-4D88-AF71-BA92C800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F2C3-96F1-45B3-A834-31DEDB21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5F76-6225-4E5B-AE57-7B2AE026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EB3-4127-46E6-B525-70050D46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C62D-E1C8-4F33-8297-F488254D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0B3F-E3D2-4A2B-90E2-7F06DF61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A0C4-ADFA-4B9F-A7C5-ABC2184F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CCA8-920A-4B81-AFA1-2EB48AF0C3EC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46C7-BB50-45E4-88BE-320BAAE41FF3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Calibri"/>
              </a:rPr>
              <a:t>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Calibri"/>
              </a:rPr>
              <a:t>Alleen wat je moet weten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1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je hebt in de zin m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meer dan één werkwoo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 mak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us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zijn/worden/hebben + voltooid deelwoor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verf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huil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slap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2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wee soort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oltooide tijd: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genwoordig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teg.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leden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ord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d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Ik-vorm + t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tegenwoordige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ee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ij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je, jij, u, hij, zij, h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verl.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stam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t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Uitleg 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I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spelregels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ie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, m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huisde, pra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doofde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oltooid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erleden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(n)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oltooide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beantwoor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brief binnen twee dag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Gisteren wach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de jongens samen op hun bu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nog nooit gebeu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r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W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b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ons die dag erg vermaa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Samengevat!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Let op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ijden van persoonsvorm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vier tijden: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twee spelregels: 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 +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t gaat er mis bij het spell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raakt in de war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overbodig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formati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et niet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welk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en zin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past daarom een taalregel toe op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keerd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hebt moeite met het vinden v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rk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gehaas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: de tijde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ar moet je op lett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 waarin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et aantal werkwoorden in de zi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bro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oud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van vogel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a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oom ooit op vakanti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gewee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zo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mo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ij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 tijd waarin de persoonsvorm sta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ij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ee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e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i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is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ezig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aap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erder da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;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s al gebeu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iep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1:25:40Z</dcterms:created>
  <dc:creator>Snst</dc:creator>
  <dc:description/>
  <dc:language>en-US</dc:language>
  <cp:lastModifiedBy>Linda Schaafsma</cp:lastModifiedBy>
  <dcterms:modified xsi:type="dcterms:W3CDTF">2015-02-17T15:42:52Z</dcterms:modified>
  <cp:revision>119</cp:revision>
  <dc:subject/>
  <dc:title>Werkwoordspelling</dc:title>
</cp:coreProperties>
</file>