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4F2-9E4A-4E30-A956-D4477BE3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EB2-44A8-478A-93CF-7D36CD3D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793-31AB-49DD-B260-4B88A5F6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82F-251C-438B-81D6-5CD73F8E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0040-A64D-4BA2-9D04-1D1B72B0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9A08-67CD-43C0-A21E-428BA583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4226-189A-414A-BFE6-D52B53F7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3B20-CCA8-498A-80CB-1F739473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350D-E2F6-45FB-9106-EC852FB8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5F7D-117C-4A9F-8EF6-239CCDA1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D963-CAD0-48EF-9C58-E903BA95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8C8-9985-4629-B74C-3452C25F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3A3F-53BD-489D-AFFB-88CC753E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7D4C-674E-4E18-ABE4-A2BF65DD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EE91-E243-4EEF-9940-C187490B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7359-07C0-49E9-9B2D-B4739158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A9B8-9F9B-40BA-B6A4-A3B95ECF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77B-5CAE-43FF-9A90-8796957F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292-1E89-4A10-9C82-A7D7B9BD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780-7DEE-477A-B151-6BDCDCEC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FDE-44C6-4303-AFCC-A7363980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728-D19A-4107-96CD-A59EFAE2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E43-90EA-4BE3-A3F2-89F9FC4A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E40-105E-4593-A536-1B45AAB3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166A-8892-46F7-9714-FC8F72DE84B2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8A41-5DBF-418B-BA5A-B0723BE346FE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Calibri"/>
              </a:rPr>
              <a:t>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Calibri"/>
              </a:rPr>
              <a:t>Alleen wat je moet weten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1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je hebt in de zin m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meer dan één werkwoo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 mak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us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zijn/worden/hebben + voltooid deelwoor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verf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huil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slap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2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wee soort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oltooide tijd: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genwoordig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teg.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leden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ord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d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Ik-vorm + t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tegenwoordige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ee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ij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je, jij, u, hij, zij, h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verl.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stam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t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Uitleg 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I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spelregels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, m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huisde, pra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doofde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oltooid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erleden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(n)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oltooide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beantwoor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brief binnen twee dag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Gisteren wach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de jongens samen op hun bu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nog nooit gebeu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r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W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b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ons die dag erg vermaa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Samengevat!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Let op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ijden van persoonsvorm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vier tijden: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twee spelregels: 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 +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t gaat er mis bij het spell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raakt in de war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overbodig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formati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et niet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welk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en zin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past daarom een taalregel toe op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keerd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hebt moeite met het vinden v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rk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gehaas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: de tijde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ar moet je op lett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 waarin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et aantal werkwoorden in de zi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bro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oud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van vogel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a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oom ooit op vakanti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gewee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zo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mo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ij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 tijd waarin de persoonsvorm sta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ij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ee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e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i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is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ezig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aap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erder da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;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s al gebeu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iep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1:25:40Z</dcterms:created>
  <dc:creator>Snst</dc:creator>
  <dc:description/>
  <dc:language>en-US</dc:language>
  <cp:lastModifiedBy>Linda Schaafsma</cp:lastModifiedBy>
  <dcterms:modified xsi:type="dcterms:W3CDTF">2015-02-17T15:42:52Z</dcterms:modified>
  <cp:revision>119</cp:revision>
  <dc:subject/>
  <dc:title>Werkwoordspelling</dc:title>
</cp:coreProperties>
</file>