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30D8-DD14-4315-AE3A-748DF615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DB0E-63EB-4A9B-A2EB-686C5B60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8A4-E864-4978-96DE-A74C8DA7E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128-A901-41C6-B179-30AE68E2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DBFC-B97C-40EC-B17B-F6696F92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EA3D-587F-49F6-A9A1-0D5DBED3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247E-CE27-43C1-BCDD-8DBBDE8F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1260-648E-49AE-BDA8-2495D6A6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2B0D-2D01-4842-9D4D-3ACA23CA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BBB2-233B-4878-9938-1AE9C464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FB16-064D-471A-8C03-779726B8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264-A462-44E6-8122-B09E38C9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FF1D-29C9-4695-BBF6-EDF629EF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F84B-D76D-4441-98B8-C26556B2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CBA3-2E98-47D1-A680-07702CB4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3FC1-6233-4BED-998D-425F26F8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E0F2-4210-4A19-BBB7-52407238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4E51-F2DE-4CF2-8A18-A0D14AF9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A65F-FC3E-4A9A-A149-CD100A30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71D-FE90-4197-89E4-BF86060D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9C54-4F6C-4BE5-9E93-8D76ABC8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FE49-050E-4401-B334-0289FFBC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BD0-94C5-4B75-8231-6F6FCF16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522B-39CF-4CF0-9C0A-2DA9C7F9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A219-D7E2-4869-B872-23DB66DBE011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B23C-4EAE-48AD-A983-27B958807E59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Calibri"/>
              </a:rPr>
              <a:t>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Calibri"/>
              </a:rPr>
              <a:t>Alleen wat je moet weten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1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je hebt in de zin m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meer dan één werkwoo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 mak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us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zijn/worden/hebben + voltooid deelwoor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verf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huil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slap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2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wee soort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oltooide tijd: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genwoordig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teg.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leden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ord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d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Ik-vorm + t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tegenwoordige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ee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ij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je, jij, u, hij, zij, h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verl.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stam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t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Uitleg 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I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spelregels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ie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, m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huisde, pra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doofde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oltooid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erleden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(n)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oltooide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beantwoor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brief binnen twee dag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Gisteren wach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de jongens samen op hun bu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nog nooit gebeu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r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W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b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ons die dag erg vermaa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Samengevat!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Let op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ijden van persoonsvorm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vier tijden: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twee spelregels: 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 +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t gaat er mis bij het spell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raakt in de war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overbodig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formati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et niet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welk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en zin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past daarom een taalregel toe op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keerd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hebt moeite met het vinden v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rk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gehaas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: de tijde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ar moet je op lett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 waarin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et aantal werkwoorden in de zi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bro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oud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van vogel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a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oom ooit op vakanti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gewee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zo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mo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ij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 tijd waarin de persoonsvorm sta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ij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ee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e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i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is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ezig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aap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erder da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;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s al gebeu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iep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1:25:40Z</dcterms:created>
  <dc:creator>Snst</dc:creator>
  <dc:description/>
  <dc:language>en-US</dc:language>
  <cp:lastModifiedBy>Linda Schaafsma</cp:lastModifiedBy>
  <dcterms:modified xsi:type="dcterms:W3CDTF">2015-02-17T15:42:52Z</dcterms:modified>
  <cp:revision>119</cp:revision>
  <dc:subject/>
  <dc:title>Werkwoordspelling</dc:title>
</cp:coreProperties>
</file>