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4CFA-EF70-4EAF-BF9C-5BB275727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330F-1904-4E4E-B898-B8441075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4C7C-0603-4AE2-B1B1-7A00E8C50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50CF-5207-49D8-8D3C-CCA625F12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DF1B-E12F-4DD2-BD20-125350599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AD76-4375-4CDD-9FAF-21ADD7A9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CE3D-59FA-4385-806D-6F2D6777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7E85-0EFB-4F87-B359-2D203B7E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ED96-CD89-45E0-8F51-819D3ECB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CC57-CDB5-417F-AA3F-4BA0F82B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1904-F5E7-467D-94ED-8197554D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3E7C-BE88-4301-9637-0E88A32C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0066-264C-420B-A5E2-D2F920CE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513C-D598-48A9-B775-DEFE666F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9D57-F090-45DE-9669-590AB832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AB4A-9B24-4E1F-8F32-74C7F3062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061E-520F-444A-B453-4382D17C1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DE3C0-C673-4571-A20A-8DEF96D8A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89BEC-E002-4B5F-AFA0-3ECB2DC5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A29CB-CE04-4306-9784-8ECF10F2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A998B-6DA9-4D75-988E-7FFA3199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2202D-10D3-4D2C-97CB-B6D6446D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A988-2AC3-412C-BE66-624AFEB7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F2B44-C5F4-4EE5-AAD4-9B015BFA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8F40D-7449-458C-AF20-7320BF52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E85C3-12D2-4903-A33E-08EF8C26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E4489-ECE8-4B4E-AFEC-27D467D7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D5BD0-4203-4D48-970C-C99E5D8C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75A07-988F-4F95-9E16-2438792FB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9C9E7-AD9B-4AAA-918D-4A58F69A4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F9C36-E075-49E4-9116-BE88F7B20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07B1F-6089-4B1F-88DC-78F949EE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1999A-8CBB-4CE5-87D9-B804DCCF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6923-3330-4851-A75E-2F4B5397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93DBD-AA27-402D-8F8C-71279E6A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F8E64-3FA9-45CE-A6B2-076DD248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0F3C3-995A-464D-99E1-143F3CEE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AA714-DCE0-4C14-A026-A914D440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06675-0155-4C9F-88F5-CC1DD106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B375A-9158-4FFA-824C-C4CC27BD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E92ED-E0D1-4200-A574-500D781C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D45C9-67B9-48D6-8A80-3875D790D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7703E-D9C8-4DCD-AB29-E1FB629B5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8AFD0-5B44-446E-A526-F1A24B1C2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6460-E642-4212-AB33-85C2682A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89581-D979-4663-BED7-F313578F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8C256-312A-433F-AE97-2600F8AF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CB7B3-D9FA-4344-A173-592AF4FE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D2F1B-7962-4D27-BB86-80EF4E4E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A6289-BAB6-47B1-BE54-37FD33F0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1E6AE-B3FC-40B1-9494-FF8EDFC3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822D9-BE09-4F3D-9118-E6A64D6D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4F3DE-5130-4259-A22B-94D5F60F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E6F80-F009-42CA-B702-C4E1C257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BA7F3-BB4F-4AD9-815F-1578F6EDE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02CB-8E41-4EE7-91C1-8805B5CD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BA82B-8FF8-4875-913C-CA7A2C712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1B261-407A-4645-8861-6EAD31F47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678AD-568D-4957-94A2-A0CDFD9D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330C4-16BF-4EEA-B9D1-1F6C64C1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B2DC8-2C4F-4B27-B73C-FB042792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32522-2322-4C1C-A258-C057D37D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07251-CCA4-4072-845D-66094E79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47CA4-D91B-4199-A1F4-6FFA4B83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C4706-B1F4-45E1-98A9-AAB21CF8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A3739-3508-45EE-8911-B0F76AFD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98EB-AF6B-4E1C-856D-0E132C0B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42CBA-2A38-49CE-86AB-89B146AA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D3657-0738-4DC7-8F64-F8B4850B1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C3D4D-BD24-4D64-974C-94A6158A0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1DB49-F9F9-4A0C-8BCC-1054D055A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9D2E4-14E1-4534-94AA-1C92DB70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11DE6-4157-44F2-8E79-4F93A2F2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42624-F829-46C7-904E-817A89C8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370EE-89AA-4855-8EF0-0E21FDB8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C1523-6E9F-4351-ACE8-D8C386DC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6C38E-2188-4A3A-A6DE-51DE855B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90CF-D3DA-40C1-AC5E-9EA8A857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E6008-6E33-4724-84FD-AC00EC93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B9FCD-C45D-4B24-8CB3-2E3DA9D2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B3DE0-92AD-4AD3-8788-622E8F50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BD64A-E4FA-40DF-8FD2-E67C37CA4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A7BD0-2003-483A-8880-62C62F1D4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CD2D-38C0-4896-AF75-272A00D1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74FE-AEBD-4F10-89DE-787A4D4EB46D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58C3-0B2F-4510-9A41-0AAE49537C09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BD1D-57E6-46AD-819F-74B6462FF78C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F145-D28B-4279-BE3C-70CD529C9836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C3BB-1CD3-458D-89CB-4A58F6412E3B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2171-1B91-4A58-A53F-163B3D443A74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43D2-6E10-49E9-8A9D-ADF95FFB6528}" type="slidenum">
              <a:rPr b="0" lang="nl-NL" sz="1000" spc="-1" strike="noStrike">
                <a:solidFill>
                  <a:srgbClr val="073e87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Wat gaan we doen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7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7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Taakgebied en deskundigheid van de verpleegkundig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7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et beroepsprofiel en beroepscode</a:t>
            </a: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	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7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7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7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7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Welkom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Opdracht: pg 36, vraag 9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Noem drie gedragsregels uit de beroepscode die volgens jou belangrijk zijn voor de verpleegkundige beroepsuitoefening. Bespreek dit met een mede studen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Nabespreking in de le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Het beroepsprofiel en de beroepsco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684360" y="1773000"/>
            <a:ext cx="75960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De opleiding tot verpleegkundige kent 2 kerntaken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1. het bieden van zorg en begeleiding in het verpleegkundig proces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2. Uitvoeren van organisatie- en professie gebonden tak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Wat vindt jij dat je allemaal zou moeten kunnen als aankomende verpleegkundige? Schrijf voor je zelf eens op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Taakgebied en deskundigheid van de verpleegkundig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In het kwalificatiedossier  MBO verpleegkundige staan allerlei kwaliteiten beschreven die jij als verpleegkundige moet bezitten. Zoek de site op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ier staan 12 kwaliteiten. Lees dit eens rustig doo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Maak in tweetallen vervolgens opdracht 7, pg 35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Nabespreking tijdens de le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BO –V 5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MBO-V 4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erzorgende IG 3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elpende Zorg en welzijn 2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Zorghulp 1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Wie zijn er werkzaam in de gezondheidszorg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Disciplines: andere beroepen zoals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Fysiotherapeu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Art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Gespecialiseerde arts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Ergotherapeu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Logopedist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Dieetist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Etc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Wie zijn er werkzaam in de gezonheidszorg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Algemeen ziekenhui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V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GGZ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Gehandicaptenzor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Gezondheidszorgcentra(huisarts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De werkvelden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Welk werkveld spreekt jou het meeste aan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Maak opdracht 8, pg 35 uit het boek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Nabespreking in de le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755640" y="270792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De verpleegkundige heeft een groot werkveld en is werkzaam binnen verschillende gebieden. Wij noemen dit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Intramuraal: zorg binnen een instell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emimuraal: gedeeltelijke zorg binnen een instell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Transmuraal: meerdere hulpverleners bijv in de thuiszor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Extramuraal: zorg buiten de muren van een instell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edenk een voorbeeld per setting/werkveld en welke type zorgvrager je tegen kunt komen per gebied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Opdracht 6, pg 35 nabespreken in de le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Opdracht 7: zoek via de website Calibris de 12 kwaliteiten op. Deze info heb je nodig om opdracht 7 te maken, pg 34, boek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2T13:58:38Z</dcterms:created>
  <dc:creator>LMARTIJN</dc:creator>
  <dc:description/>
  <dc:language>en-US</dc:language>
  <cp:lastModifiedBy>A.R. Niemeijer</cp:lastModifiedBy>
  <dcterms:modified xsi:type="dcterms:W3CDTF">2015-09-14T12:52:22Z</dcterms:modified>
  <cp:revision>78</cp:revision>
  <dc:subject/>
  <dc:title>Maken verpleegpla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