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5BF-07D4-40B1-95F6-E7AA53E4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6FE-3307-420D-BC3F-B3E5888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E64-F3A8-465D-8340-FA463D6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A86-0E0E-41E4-9FFE-7006AF1A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63B5-9361-4D26-B339-B86EFCF0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BAA-15F7-4085-809D-8E20E299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B4BF-8BA9-4B33-8F56-80DB87A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188E-2240-4B01-96EB-2A6BF6E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F5D-8557-4379-8B47-4792D57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818C-58D9-4964-87A2-48A2DE1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DAE6-7A53-4AC3-8B94-CFB1CFA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278-B8D3-4AB7-85D4-6CF14FB6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4FE-D1F9-42EA-8339-2DE8919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14C-5432-4661-A1EB-03E32B6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0B9C-73D8-4FDF-BA4B-A8E43C20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5EF8-E77A-4482-BF5C-2D794B85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648-02C2-48F1-9C1A-9517ACB8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1689-63B3-4594-AE8A-35DA8915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EA50-CE7E-47D6-8F64-CB995BF9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6E1F-C036-4DE4-8335-42001A6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DACA-AC53-4132-B618-572CEAB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9FEA-498A-4EBA-B4A8-030B123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161-4ACA-4D6E-A7E8-6198B275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026D-A2A2-45B7-85C1-4DC7DA5B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D316-18CB-478D-8BE1-09C514E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013F-FA0E-47B2-90C1-4D4BEEDE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AEA2-DFF0-40CF-B09C-B0D1436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59AE-3DB8-46F3-A4C7-7A129C74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3B52-82BD-4736-A98C-295B9933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2B49-0521-4998-8726-9C4909FA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BA64-AF7D-41B1-BDE9-77A95100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411E-1566-4C14-BCEF-BE89F4F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BD7E7-7C60-45A2-AC87-1CF40B6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1C6-459C-4E42-A539-7D20E57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C13E-29A2-44AA-BCAD-8369B536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4C01-5E60-4569-8F0E-94D73E1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BF9B-F083-4F3C-90FD-DB56B1B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46CC-18D4-4332-876B-BF6DB42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6A43-8CB0-43A4-8C0A-8DAA085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5C1E-25AC-4C35-BCCD-44172A2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69A5-DDFD-4C86-8427-1CE9CB0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F37C-46A2-41EC-AE9A-66C12E39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8BB9-7E07-4453-B5DF-B8140828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D7D2-B4B3-4DC3-BCAF-4FB40226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D8F-B695-49A4-9338-11B641D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E05BF-7792-427E-9A33-8DDFDF0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7112-5EC1-47C8-BDF7-21DD717F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D099-F058-4F37-AC28-17F30136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208B-8C86-46BB-8F0F-8924EA4E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525A-7332-4C1F-BF9E-F6FCBE3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2F1F-A02E-4128-B22D-8F8E40C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7DAF2-8264-4539-9E39-60017B4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CC92-F0BB-4A5A-8E0E-9C6C6FF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24C6-B638-447F-A9FE-01674DCA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CB3C-6F76-432C-A2D6-54657F0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C4E-B682-4AB1-988E-2F033335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EB82-CEC6-48C0-8645-567BFD5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76A4-8D79-4FDE-9C32-DB98889E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5472-7A96-45DD-851C-5CA97E60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9976D-8EB6-4664-A413-A2FCE291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DB9A-CFE4-413A-BE8F-D307138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65F7-9BEC-451D-8069-A388819D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68B3-3A1B-4CBB-BB69-4315AFF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D1E4-2F81-4D20-A8D8-6B361652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1ACEA-EBDB-4236-8241-6BB6AE5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03EB-9D5E-4939-B849-45E66767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00B-ABC6-4E7C-A131-3110A0B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669B-7E68-476E-98A1-B4B8B50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5583-B023-46CA-A961-08AF14D0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DC832-1302-4A05-AC1F-6702609F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935D-DC45-41DF-8ED6-47CB8969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97065-5BCD-4A2A-B933-ED54558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67731-5A5E-4EC6-A64F-5ADF0A66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E114-794F-44C9-90FB-42EF433B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3576-18F6-4645-828C-C2DD4585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1A8B-261E-46A2-B48E-45874AE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B53E-A8C4-4D06-A097-E6F2B4D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117-5280-4C56-B396-F0BC8B0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A575-4A03-494F-90F5-5395562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13B7-A1AA-4412-BEDE-E75B7C6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1EFD-ED18-4EA2-B12E-83AEDBB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178E-FA1F-4B14-B052-821E99C0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C225-0F8B-4026-98E7-4BEC0421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A3F-EBFE-47A8-94C7-D84D37AA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F25-B0F1-4A00-A6BD-2C6584FB6501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0B4-03AA-4203-BAB9-9C1D817425B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2BB-99F5-4BF5-BF68-98D025B138C8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C9A-4FB7-40FA-B93C-B710B2111C12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420-13C1-4B9B-9DEE-18DCB69EBBDC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132-2370-41AA-BE33-F3BBE18C64CB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A89D-93A7-4313-B8F8-7D9CE21CD9D0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ordinatie en Continu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die gegeven wordt met overlappingen zonder onderbrekingen of hiat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kan er vanuit gaan dat iedereen die bij de zorgverlening betrokken is, op de hoogte is van zorgbehoeften, beoogde doelen, resultaten en verander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ngrijke taak voor de VPK om dit te bewaken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uiniteit van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ussen de dienst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trokken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delingen(overplaatsing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lende zorg verlenende instanti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ontslag naar 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 zie je contuin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1471680" y="2743200"/>
            <a:ext cx="6210360" cy="3314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ntinuiteit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etenzorg= De Zv staat centraal en de verschillende instanties bieden samenhangende op elkaar afgestemde zorg. Bijv. bij zelfstandig wonende dementerenden en hun naasten die veelvuldig gebruik maken van de zogn.“ketenzorg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naar een andere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bij het verlaten van de instelling: huisarts en thuiszorg geïnformeer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leven: bij Chronisch Zieke zorgvrager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meer alleen continuïteit van zorg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de beroepsgroep bewaken: bijdrage aan deskundigheidsbevorde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richt verpleegsyste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vrager gerichte verpleegsystem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engvormen: 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, hfdst 21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26920" y="1700280"/>
            <a:ext cx="7453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Taakgerichte verpleegsystem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werk en de organisatie staan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schil in uitvoerende taken in algemene zin en de Voorbehouden en Risicovolle Handeli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73e87"/>
                </a:solidFill>
                <a:latin typeface="Candara"/>
              </a:rPr>
              <a:t>Voordeel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inancieel voordelig voor een organisati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kelijk uitvoerba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eidinggevende is verantwoordelijk: aanspreek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syste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delen taakgericht systee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heeft met veel mensen te m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 kan veel gemist worden door de VPK, geen totaalbeeld van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ie is eindverantwoordelijk? Niet altijd dui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utine matig en saa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: Voor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v staat centra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aste samenstelling van de Zv met de VP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goed in te plann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van Zorg wordt gewaarbor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varieerd werd, dus uitdagend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pk kan veel leren op verschillende gebieden(somatiek/psychisch/sociaal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vrager gerichte verpleegsystem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Interventi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Teamverpleging Nadel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altijd duidelijk wie eindverantwoordelijk 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nderlinge afhankelijkheid van het tea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inig ruimte voor individuele verantwoor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verpleegkundige of senior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oordelen: Voldoening en motivatie van de VPK/ band met de ZV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rst verantwoordelijke heeft overzicht èn verantwoord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erende rol; bewaker van de 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uidelijk aanspreekpunt voor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Primary Nurs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900000" y="26370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73e87"/>
                </a:solidFill>
                <a:uFillTx/>
                <a:latin typeface="Candara"/>
              </a:rPr>
              <a:t>Nadelen Primary Nurs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ij grote over flow(veel kortdurende opnames) niet eenvoudig te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dividuele verantwoording is groot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lasting van het team moeilijker te verdel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el deskundigheid van de VPK wordt gevraag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n een negatieve band met Zv ontsta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amertoewijz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nit verpleg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Mengvorm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32000" y="1932120"/>
            <a:ext cx="3135600" cy="31352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is coördinatie? = In de verpleegkunde: het ‘regelen’ van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doen je d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 = Zorgdragen voor de continuïteit van de zorg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oe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ördinatie van Zorg is zorgen dat de zorg van een zorgvrager doorgang kan vinden die past bij de behoeften van de zorgvrage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ol van de VPK: Coördinerende taken, bijv. contact andere disciplin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aagt specifieke competenties(kennis, houding en vaardigheden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eiste Competentie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aansturen, samenwerken, overleggen, plannen en organiser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: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508040" y="2674800"/>
            <a:ext cx="6135840" cy="34513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Samenwerken, 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99640" y="1989000"/>
            <a:ext cx="738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egeling afstemming tussen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ntel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Professionele 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 van andere hulpverlen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schrijven in het zorgplan of verpleegpla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ociale kaart van Zorg verlenende instanties Regi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oördinatie van  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340000" y="1758960"/>
            <a:ext cx="5761080" cy="31989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Sociale Netwerkkaar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oorbeeld netwerkkaart Verslaving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2" descr="http://www.vitalevaten.nl/uploads/pics/E5-01.png"/>
          <p:cNvPicPr/>
          <p:nvPr/>
        </p:nvPicPr>
        <p:blipFill>
          <a:blip r:embed="rId1"/>
          <a:stretch/>
        </p:blipFill>
        <p:spPr>
          <a:xfrm>
            <a:off x="1763640" y="2108160"/>
            <a:ext cx="43927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6-01-20T08:36:40Z</dcterms:modified>
  <cp:revision>11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