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AB7-2289-4270-8B41-6B2FDFA6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CEE-DD23-4811-B1C7-CB3087E7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5D764-AE88-4B45-8D22-94EB5E2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03BBD-2F64-4DA3-9DB4-45B5650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D08C0-2E0F-4CA7-974C-8EFFCC2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FE24D-50FB-4F32-B090-F3750AB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226E0-36C9-478E-8A56-D3BE1A8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C5964-8397-4E25-9872-25B696B7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D6412-11DC-44CA-8A35-159FCE4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08A2C-F3DD-4585-BE52-D513CA30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5F1F4-7435-4202-B4C3-9104EDF7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CADF6-1E45-47B8-AEE0-1A13F587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70A-3909-41B8-BF12-AD0013EC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71CA6-2773-4004-912D-C885379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0966D-429B-42EF-9B1A-4216403A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928A3-5E6C-4053-97F7-A6657C1E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54663-0E5A-4153-9C98-3117AF2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8ED2A-E653-4C11-A0AF-B70F56C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90938-906A-4DB5-A27F-C43E426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5D4BF-288D-4075-BE5C-1085BB8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1449E-8BA7-4F7A-80C1-8AAD378A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AA7AA-511A-4EE9-A7F9-ABBEDE7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D1B48-3A83-42CB-AE86-6B697D9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772-3CC2-4D1E-95F2-5D70EA53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60701-F76D-4807-8644-B117B9A7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2FF7E3-8E81-4754-BB2E-899055BD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94CC5C-03B7-4E49-BFDE-4CF40D7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2612DE-8EBD-415D-82E7-775F0E3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590542-009C-4B42-862B-19B80D65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C90B41-48AD-46CA-8BA4-1F56C716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534793-9410-4970-BF31-C0386AC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6F8735-6EC9-4251-890B-8851AF00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C11D0-7780-4737-8BA2-FECA210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6F57D6-DE61-47F4-A4DD-D1AB650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D732-4A8C-4B99-84DA-6170D407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176115-72D0-4D57-B770-34F502B6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ABBED8-5338-43E2-ACB9-59AC5DE5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951AA6-2505-413A-9E1D-020580B3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3EC7-7411-4755-8465-B1A8389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7D99-3C0F-4606-A5F0-5A7A995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043-D4F8-4145-830D-05272110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283C-D596-4339-B0E6-3B14EA3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9FC1-4091-4AEB-A539-BAC100D4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37B-470A-47EF-AFF5-47E3623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0D1-010A-41AC-A3F7-4679D85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7D9D-EFFF-47EB-9222-5552396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A7DB-08C3-4A04-BE00-14A2075B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3DC-49FE-4020-A1F1-73DDA726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A317-4B24-46CC-9BE3-2D77BFCA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66CF-C419-4F4D-8DD3-EC626291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1963-F68D-415B-B7D0-94E75590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32DC-D1DC-4BA3-89F3-C214C013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F24C-A5FC-4AEB-BFFB-24B555A6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A2EF-770D-4DF5-A308-40C2CD99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668C-15CE-4B76-AC5E-6F2643D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517-87A7-410D-87F4-6B2A92EF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B2F0-606F-4E0A-B004-50EADCE0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A8F5-365B-4428-911D-6675562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99D8-F3C8-42A6-9CFE-C056DD1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F654-8D05-433E-95C9-995FA4C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D3FB-82D9-41E1-8DF9-45725150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1451-1E48-4DAF-9B90-C6006806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5A84-DFC9-4D24-88E5-D00FC201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5C35-000A-4CC5-AEFC-AB31F1F9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1315-E3DF-44BC-80C7-605E80CF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31184-1D2C-49B9-955D-7CF4F0FE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E90-AE47-4EA9-8342-21B2BB17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0398-314F-46BE-AEFC-37DCFB3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32A4-A52B-403B-BF52-0D9333D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97C0-C930-4B0F-A852-60E0FCA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BAE5-F0C1-4B0E-971B-CA340C3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7AA4-F1B2-49F4-A825-AD85CA8C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0B14-E38E-454A-937F-4A04914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B721-D230-4EBE-9684-78AF06B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7E8F-0769-4AF1-AFD7-086655F4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A13B-B007-4174-8F07-078102AA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D222-F936-400B-A905-E69EFBE0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E78-A685-41D1-930E-6C1C20A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24B8-5D88-427E-BBA0-E5360623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55AE-9704-4272-99D6-EBC203A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B0891-7E28-42D9-8123-1FAFA914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3238-02C6-4CB4-9DF6-7B8896AE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F23E-C00D-436C-8D7F-FC214F9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5698-043E-4EFA-ADD9-0D603B2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7252-7C12-428E-A22C-C2BDE0A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F855-2F3C-46B0-B440-832FB8BB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CFC2-6D8D-4A5D-A556-38FC4EE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5B2E-3F9A-4DB1-88F2-0638F95D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315-6027-4F20-AD57-BDE1A35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B879E-A8D4-4C12-A5C6-985F4533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0F25-BB90-481B-8FA3-EFEF9511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72421-D4BF-4AF1-9656-A8B8942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F6D3-3DF5-437C-8B18-A2AF994F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8DDD-8EB2-4A44-A6BC-CB23B920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487F-173F-4288-9D46-293EA48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6372-FB52-4996-AEB3-BC360A22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D799-6F3A-42AE-B044-4C44FEC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A6D77-0418-45CB-B8E2-C9CCAA4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790A6-AAF0-4F97-8B76-89DED45F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33D-81E1-4D75-BFBE-4821D9B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6B56C-9560-4F49-AA69-97C82FE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525E8-495A-4AFF-BC21-8300BBF5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0739-ECC5-4694-A3D7-CADB7BE6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1B2B-81A4-4F2B-B51B-0014EE5B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E2FA-A726-49AD-A57D-E3C58524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E55A-444A-4444-9E81-CE341F7C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783F-D2FB-43E1-BD94-47073395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67A0-5D55-457D-A48E-1931FD1F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C8A45-CA8F-425B-9FF9-88DF379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4B59-07CD-4E13-B91E-583D044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58E-0979-40E9-9440-7E12B99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60F6-5844-4753-9AF7-FD31546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6B82D-FE69-4636-91CF-9369C65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109C-215A-4670-BE51-3A59508D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E8DA-1F01-45B1-A0E5-DEA14DF8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6757-F6F9-4103-B8E3-1499C0AC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2999-65D7-4640-9C34-A6761718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DB769-01B0-4991-B19E-D48D1EA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C2D39-94E1-4DF5-A31D-0709E6C3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BCB37-759E-4064-AEE3-3952E26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4CEA8-59BA-4F8C-A172-36BD9FAA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F93-2794-4793-9F04-C15D107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FEB25-0907-44AA-8473-E21C16E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7F98-A4D4-4F74-B0B9-C7506DFE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E0CCE-93DF-49B5-95C6-C594593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D0C10-19E2-40DC-9471-BAE9F5D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F4AAB-3D51-46DF-AA83-3F5FA5C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4D54-3A06-4004-8B6E-2D661351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2D47-D8DD-4152-A3BB-35B07E65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74464-17FF-40D7-96FB-3C38A9C1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6E50D-1221-411D-8207-84A4700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28868-9F02-42A0-BA12-106959C4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D7EB-DC98-4D58-BCB6-39EE9A58525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D44-27B2-44E8-B6D5-DEF687A5565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1ED-D3FC-4335-8EEC-0B450C15B18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B36-AE31-4E9F-8962-40D9D6D33D4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6493-A22A-40CA-A32F-2E7D78E714D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BD3-7AF5-47CF-9E4B-EC8D570F47A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DF4-2D2A-41D1-9501-EB094F596EE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6312-64B4-4044-9D01-40F4AD3FCDC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3DB-DF7D-4E64-B995-4C6ADD1A338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D05-67C0-4DFB-B692-5681B013FEFA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E2B-9BC7-4CAF-BA20-AD074B2C55D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et verpleegkundig Proces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taat uit de volgende 6 stapp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aststellen van de verpleegkundige diagn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ormul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lann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Uitvo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alueren van de verpleegkundige zor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Diagram 1"/>
          <p:cNvGrpSpPr/>
          <p:nvPr/>
        </p:nvGrpSpPr>
        <p:grpSpPr>
          <a:xfrm>
            <a:off x="1476000" y="979200"/>
            <a:ext cx="6540120" cy="5088960"/>
            <a:chOff x="1476000" y="979200"/>
            <a:chExt cx="6540120" cy="5088960"/>
          </a:xfrm>
        </p:grpSpPr>
        <p:sp>
          <p:nvSpPr>
            <p:cNvPr id="576" name="_s1028"/>
            <p:cNvSpPr/>
            <p:nvPr/>
          </p:nvSpPr>
          <p:spPr>
            <a:xfrm>
              <a:off x="3214440" y="97920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_s1029"/>
            <p:cNvSpPr/>
            <p:nvPr/>
          </p:nvSpPr>
          <p:spPr>
            <a:xfrm rot="3600000">
              <a:off x="464760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0"/>
            <p:cNvSpPr/>
            <p:nvPr/>
          </p:nvSpPr>
          <p:spPr>
            <a:xfrm rot="7200000">
              <a:off x="4647600" y="260244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1031"/>
            <p:cNvSpPr/>
            <p:nvPr/>
          </p:nvSpPr>
          <p:spPr>
            <a:xfrm rot="10800000">
              <a:off x="3214440" y="3422160"/>
              <a:ext cx="3062880" cy="2646000"/>
            </a:xfrm>
            <a:custGeom>
              <a:avLst/>
              <a:gdLst>
                <a:gd name="textAreaLeft" fmla="*/ 0 w 3062880"/>
                <a:gd name="textAreaRight" fmla="*/ 3063240 w 3062880"/>
                <a:gd name="textAreaTop" fmla="*/ 0 h 2646000"/>
                <a:gd name="textAreaBottom" fmla="*/ 2646360 h 264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_s1032"/>
            <p:cNvSpPr/>
            <p:nvPr/>
          </p:nvSpPr>
          <p:spPr>
            <a:xfrm rot="14400000">
              <a:off x="2198160" y="260280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_s1033"/>
            <p:cNvSpPr/>
            <p:nvPr/>
          </p:nvSpPr>
          <p:spPr>
            <a:xfrm rot="18000000">
              <a:off x="2198160" y="1381320"/>
              <a:ext cx="2646000" cy="3062880"/>
            </a:xfrm>
            <a:custGeom>
              <a:avLst/>
              <a:gdLst>
                <a:gd name="textAreaLeft" fmla="*/ 0 w 2646000"/>
                <a:gd name="textAreaRight" fmla="*/ 2646360 w 2646000"/>
                <a:gd name="textAreaTop" fmla="*/ 0 h 3062880"/>
                <a:gd name="textAreaBottom" fmla="*/ 3063240 h 306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_s1034"/>
            <p:cNvSpPr/>
            <p:nvPr/>
          </p:nvSpPr>
          <p:spPr>
            <a:xfrm>
              <a:off x="552528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gevens vezam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_s1035"/>
            <p:cNvSpPr/>
            <p:nvPr/>
          </p:nvSpPr>
          <p:spPr>
            <a:xfrm>
              <a:off x="147600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itvoer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_s1036"/>
            <p:cNvSpPr/>
            <p:nvPr/>
          </p:nvSpPr>
          <p:spPr>
            <a:xfrm>
              <a:off x="2825640" y="101016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alueren van z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_s1037"/>
            <p:cNvSpPr/>
            <p:nvPr/>
          </p:nvSpPr>
          <p:spPr>
            <a:xfrm>
              <a:off x="282564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annen van interventi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_s1038"/>
            <p:cNvSpPr/>
            <p:nvPr/>
          </p:nvSpPr>
          <p:spPr>
            <a:xfrm>
              <a:off x="6874920" y="303012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Zorgproble-men vaststell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_s1039"/>
            <p:cNvSpPr/>
            <p:nvPr/>
          </p:nvSpPr>
          <p:spPr>
            <a:xfrm>
              <a:off x="5525280" y="5050080"/>
              <a:ext cx="1141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palen van doel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"/>
            <p:cNvSpPr/>
            <p:nvPr/>
          </p:nvSpPr>
          <p:spPr>
            <a:xfrm>
              <a:off x="3879360" y="3149280"/>
              <a:ext cx="1828440" cy="374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t zorgproc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1" descr=""/>
          <p:cNvPicPr/>
          <p:nvPr/>
        </p:nvPicPr>
        <p:blipFill>
          <a:blip r:embed="rId1"/>
          <a:stretch/>
        </p:blipFill>
        <p:spPr>
          <a:xfrm>
            <a:off x="360360" y="360360"/>
            <a:ext cx="8570880" cy="2852640"/>
          </a:xfrm>
          <a:prstGeom prst="rect">
            <a:avLst/>
          </a:prstGeom>
          <a:ln w="0">
            <a:noFill/>
          </a:ln>
        </p:spPr>
      </p:pic>
      <p:sp>
        <p:nvSpPr>
          <p:cNvPr id="590" name="PIJL-OMHOOG 2"/>
          <p:cNvSpPr/>
          <p:nvPr/>
        </p:nvSpPr>
        <p:spPr>
          <a:xfrm>
            <a:off x="1071720" y="3286080"/>
            <a:ext cx="45720" cy="1000080"/>
          </a:xfrm>
          <a:prstGeom prst="upArrow">
            <a:avLst>
              <a:gd name="adj1" fmla="val 50000"/>
              <a:gd name="adj2" fmla="val 5033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IJL-OMHOOG 3"/>
          <p:cNvSpPr/>
          <p:nvPr/>
        </p:nvSpPr>
        <p:spPr>
          <a:xfrm>
            <a:off x="264312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IJL-OMHOOG 4"/>
          <p:cNvSpPr/>
          <p:nvPr/>
        </p:nvSpPr>
        <p:spPr>
          <a:xfrm>
            <a:off x="4214880" y="321480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IJL-OMHOOG 5"/>
          <p:cNvSpPr/>
          <p:nvPr/>
        </p:nvSpPr>
        <p:spPr>
          <a:xfrm>
            <a:off x="5715000" y="3143160"/>
            <a:ext cx="46080" cy="10000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IJL-OMLAAG 7"/>
          <p:cNvSpPr/>
          <p:nvPr/>
        </p:nvSpPr>
        <p:spPr>
          <a:xfrm>
            <a:off x="7286760" y="2214720"/>
            <a:ext cx="142920" cy="26431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IJL-LINKS 8"/>
          <p:cNvSpPr/>
          <p:nvPr/>
        </p:nvSpPr>
        <p:spPr>
          <a:xfrm>
            <a:off x="6572160" y="4786200"/>
            <a:ext cx="357120" cy="14292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kstvak 9"/>
          <p:cNvSpPr/>
          <p:nvPr/>
        </p:nvSpPr>
        <p:spPr>
          <a:xfrm>
            <a:off x="714240" y="4786200"/>
            <a:ext cx="5643720" cy="368280"/>
          </a:xfrm>
          <a:prstGeom prst="rect">
            <a:avLst/>
          </a:prstGeom>
          <a:solidFill>
            <a:srgbClr val="c0c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2060"/>
                </a:solidFill>
                <a:latin typeface="Calibri"/>
              </a:rPr>
              <a:t>Kwaliteitscont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 in 2-tal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asus: Demente bejaarde man, 75 jaar, wordt opgenomen in het ziekenhuis wegens uitdrogingsverschijnselen en mijnheer heeft zich verwaarloosd. Jij moet de zorg in kaart breng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oe zou je dit per stap kunnen do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preek klassikaal opdracht 2, pg 3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b9899"/>
                </a:solidFill>
                <a:latin typeface="Georgia"/>
              </a:rPr>
              <a:t>1. Verzamelen van gegevens.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gint bij opname en stopt bij ontsla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beste bron is de zorgvrager zelf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zamelen van gegevens doe je door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ragen te stellen. (ook eventuele anderen!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tingen do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s en bevindingen van ander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Feedback op eigen ervaringen/ bevindin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onderzoek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s het interpreteren en clusteren van de verzamelde gegeve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interpreteren gaat het om de waarde en betekenis. (Niet alles is relevan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het clusteren gaat het om het ordenen. (Welke horen er bij elkaar? Bijv. in patronen van Gordon of de vier domeine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Kwaliteitscontrol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 vorige 2 fasen dienen gecontroleerd te worden op kwalitei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verzamelde gegevens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2285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de gevonden gegevens te vertrouwe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bservatie gedurende langere tijd op de gevonden (belangrijke) verschijnselen. (treedt herhaling op?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Meer technieken om de verschijnselen met elkaar te vergelijk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Kwaliteitscontrole van de analyse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jn er juiste conclusies getrokken? Is er juist gecluster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it door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Navragen bij de zorgvrager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Collegiaal consult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iteratuur en standaarden raadplege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Keuz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et besluitvormingsproces is klaar wanneer een keuze is gemaak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is niet definitief, maar voorlopig. (De situatie van een zorgvrager veranderd steed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gaat dus steeds door met gegevens verzamelen, analyseren en het meten van de kwaliteit binnen het verpleegpro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8:45Z</dcterms:created>
  <dc:creator>ROEL</dc:creator>
  <dc:description/>
  <dc:language>en-US</dc:language>
  <cp:lastModifiedBy>A.R. Niemeijer</cp:lastModifiedBy>
  <dcterms:modified xsi:type="dcterms:W3CDTF">2015-10-02T07:51:09Z</dcterms:modified>
  <cp:revision>17</cp:revision>
  <dc:subject/>
  <dc:title>Hoe komt de verzorgende / verpleegkundige tot een besluit</dc:title>
</cp:coreProperties>
</file>