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DEDA-B869-4E76-BA8A-46D783C64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77FC-380F-4B1C-B316-8132ED28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84AD-E20A-4C9F-9EDF-1B35BC09A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98D7-8B01-43A9-BDA9-645F70DFB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1A5B-2566-4E1D-948D-92702DA2C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6C0B-6306-4703-85B3-4A3909EB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0869-71A5-4620-93FC-9342CD9B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A381-2FFC-4B32-A8A0-5A877488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0F53-4BD4-486E-A514-6BEBA4AB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3568-F1D6-4E00-89FD-D9328B54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A1B2-CC5C-43D6-A88A-9D4A5944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226F-6167-4B38-AB5B-9DF6CBCA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F558-44B6-41C3-BB07-FE442BD1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BA90B-A503-40F0-80FB-FE989F47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91A3-C94F-42ED-8F9E-825A41D5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40B1-B8E4-4690-A2FE-AECCE137B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320C-E3C4-4DB5-8482-BE94920EB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17784-23DE-4328-B99B-D7A0EB0BA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6158E-4154-4E19-9C4C-AAD8A138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756BC-BB8B-4ABD-A573-137529B1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8D2B5-CE86-41D0-93AB-76C48CEA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258A3-D22E-46CE-BBAC-E8423FFD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1C78-A1B2-42BD-9DA6-E5634FE6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5E1CE-A523-4A6E-8505-F784D252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14128-88A2-40C2-B433-A63447F9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42C6B-F0F7-484D-832A-469BABEB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0CCC4-A0EC-4093-B9CD-7F5C30D5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E6969-D8AE-4914-8847-A54E1D33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596EE-A91F-42EB-8BF1-BDCA894FB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4A37E-2D65-42E9-BEC1-D56AFCC9D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5370A-9C84-4A2B-AF10-5F22A40D0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17369-98F9-4ADD-AD95-9AC5130A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C2207-CBEB-4FE3-9699-1BE770E4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5E1D-9067-45CF-A4C6-760075AC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6BEFE-465C-46C0-86BC-84EF7956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F7848-0665-426B-9D43-EAD86858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31B40-EAAE-4871-A069-480AE4BC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E49F7-593C-4AA8-B6D2-64122461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B9169-D1E9-4629-8FF2-829E65B1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74F2E-2F26-4D00-A42A-36B54AD4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54B96-B709-46E6-8D81-DED8899B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D0797-1209-44EE-BA18-661A7AF3B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BCCB6-46D9-4DD8-A2F8-2B8702ECE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77315-7DBC-475A-8E07-D057F91CA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EAB6-CBD6-4D8C-8773-C37D9DAB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687DA-81D0-4D42-B857-5721C716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4B607-8600-4F78-A062-2D92E249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46769-6CA6-4904-88CF-73410F72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69063-747C-44A0-AA61-42BA168A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9B439-3165-46DA-9BCE-39AE6CFD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1C31C-AA54-4ABE-A8B8-65E21A78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744A3-1186-4710-AD13-0998BC33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E3E64-5E78-4E8B-B1D8-B7DE1504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AF23A-2F85-4737-8CA2-B15EB649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6D3FE-8B76-43E3-B884-FBF2BE5FB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A953-F446-495D-804A-C79F7DCE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54A2D-D11F-4C5B-B6CB-9BC8DCEB5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9FD34-5077-4AA4-807A-FB4E45E64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70C42-DD2B-4E98-B46B-30F14E7F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864B2-A460-4255-90BE-E81352F8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E5CF7-09E3-451F-BAB4-82A12A1A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589A5-06B5-4304-AA81-1DD9325D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85687-1421-4DF0-A768-7E39AC78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66F65-DCB0-484B-B30C-9519230A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96180-D085-4968-A04C-49CE7EBB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723D8-6FA0-4EA4-8DB2-9BE2420A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C7D1-F6E6-4821-A772-A113C74A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777F7-24D3-4C79-95AF-BBBAFF4E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3FEB6-2EBC-49C3-95B3-A6B4645DE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0B449-31C1-4672-9594-06F5400F3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6C783-6FF8-4C0D-BE7C-7A55BE258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FD15F-9C33-40C4-B6D9-69DD54F3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FD423-CDAA-47E5-8725-C70266B6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56220-7713-49AA-9A4A-1CEF2C52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4AAD9-ED81-409B-9BF3-86873D14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29D97-DE98-4ECA-91E5-C6A17537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B14AE-44C5-48DB-A0F6-62AA3E0E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634B-27A5-4F90-8A0B-83709957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4336B-3FEC-4BE1-BAE6-BE91668C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498B3-6DE2-4DA4-9053-9E558A7F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E04E7-72A3-4131-BBF2-1A04D8AB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319CF-7611-4248-BAC6-7B4872244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F04A8-AEB8-4B3F-B4DB-7B722EA63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1FA5-ED1A-4840-A6F0-B5E47D68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B00B-FB28-4AAA-907C-E43A050CC6AB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C2E0-B6A0-452A-9B4B-4BEB7F18B5DE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673F-09BF-42FE-9795-F7A9B26CAD23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C21B-C0D0-4260-90E5-01DB68EEFD1F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1FFF-7C79-4586-A2E2-8E3CBFB45F1F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0B58-8C5A-419E-A5F7-8C77D43DE376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8342-A345-4625-9D90-0F2730EAA839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503520" y="2421000"/>
            <a:ext cx="3052800" cy="30510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Verpleegdoelen vaststellen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pSp>
        <p:nvGrpSpPr>
          <p:cNvPr id="338" name="Tijdelijke aanduiding voor inhoud 3"/>
          <p:cNvGrpSpPr/>
          <p:nvPr/>
        </p:nvGrpSpPr>
        <p:grpSpPr>
          <a:xfrm>
            <a:off x="1079640" y="2568600"/>
            <a:ext cx="6992640" cy="3663000"/>
            <a:chOff x="1079640" y="2568600"/>
            <a:chExt cx="6992640" cy="3663000"/>
          </a:xfrm>
        </p:grpSpPr>
        <p:sp>
          <p:nvSpPr>
            <p:cNvPr id="339" name="_s1028"/>
            <p:cNvSpPr/>
            <p:nvPr/>
          </p:nvSpPr>
          <p:spPr>
            <a:xfrm>
              <a:off x="2938680" y="2933640"/>
              <a:ext cx="3274560" cy="1525320"/>
            </a:xfrm>
            <a:custGeom>
              <a:avLst/>
              <a:gdLst>
                <a:gd name="textAreaLeft" fmla="*/ 0 w 3274560"/>
                <a:gd name="textAreaRight" fmla="*/ 3274920 w 3274560"/>
                <a:gd name="textAreaTop" fmla="*/ 0 h 1525320"/>
                <a:gd name="textAreaBottom" fmla="*/ 1525680 h 152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_s1029"/>
            <p:cNvSpPr/>
            <p:nvPr/>
          </p:nvSpPr>
          <p:spPr>
            <a:xfrm rot="3600000">
              <a:off x="5123160" y="2410920"/>
              <a:ext cx="1525320" cy="3274560"/>
            </a:xfrm>
            <a:custGeom>
              <a:avLst/>
              <a:gdLst>
                <a:gd name="textAreaLeft" fmla="*/ 0 w 1525320"/>
                <a:gd name="textAreaRight" fmla="*/ 1525680 w 1525320"/>
                <a:gd name="textAreaTop" fmla="*/ 0 h 3274560"/>
                <a:gd name="textAreaBottom" fmla="*/ 3274920 h 32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_s1030"/>
            <p:cNvSpPr/>
            <p:nvPr/>
          </p:nvSpPr>
          <p:spPr>
            <a:xfrm rot="7200000">
              <a:off x="5122800" y="3115080"/>
              <a:ext cx="1525320" cy="3274560"/>
            </a:xfrm>
            <a:custGeom>
              <a:avLst/>
              <a:gdLst>
                <a:gd name="textAreaLeft" fmla="*/ 0 w 1525320"/>
                <a:gd name="textAreaRight" fmla="*/ 1525680 w 1525320"/>
                <a:gd name="textAreaTop" fmla="*/ 0 h 3274560"/>
                <a:gd name="textAreaBottom" fmla="*/ 3274920 h 32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_s1031"/>
            <p:cNvSpPr/>
            <p:nvPr/>
          </p:nvSpPr>
          <p:spPr>
            <a:xfrm rot="10800000">
              <a:off x="2938680" y="4341600"/>
              <a:ext cx="3274560" cy="1525320"/>
            </a:xfrm>
            <a:custGeom>
              <a:avLst/>
              <a:gdLst>
                <a:gd name="textAreaLeft" fmla="*/ 0 w 3274560"/>
                <a:gd name="textAreaRight" fmla="*/ 3274920 w 3274560"/>
                <a:gd name="textAreaTop" fmla="*/ 0 h 1525320"/>
                <a:gd name="textAreaBottom" fmla="*/ 1525680 h 152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_s1032"/>
            <p:cNvSpPr/>
            <p:nvPr/>
          </p:nvSpPr>
          <p:spPr>
            <a:xfrm rot="14400000">
              <a:off x="2503440" y="3114720"/>
              <a:ext cx="1525320" cy="3274560"/>
            </a:xfrm>
            <a:custGeom>
              <a:avLst/>
              <a:gdLst>
                <a:gd name="textAreaLeft" fmla="*/ 0 w 1525320"/>
                <a:gd name="textAreaRight" fmla="*/ 1525680 w 1525320"/>
                <a:gd name="textAreaTop" fmla="*/ 0 h 3274560"/>
                <a:gd name="textAreaBottom" fmla="*/ 3274920 h 32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_s1033"/>
            <p:cNvSpPr/>
            <p:nvPr/>
          </p:nvSpPr>
          <p:spPr>
            <a:xfrm rot="18000000">
              <a:off x="2503800" y="2410200"/>
              <a:ext cx="1525320" cy="3274560"/>
            </a:xfrm>
            <a:custGeom>
              <a:avLst/>
              <a:gdLst>
                <a:gd name="textAreaLeft" fmla="*/ 0 w 1525320"/>
                <a:gd name="textAreaRight" fmla="*/ 1525680 w 1525320"/>
                <a:gd name="textAreaTop" fmla="*/ 0 h 3274560"/>
                <a:gd name="textAreaBottom" fmla="*/ 3274920 h 32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_s1034"/>
            <p:cNvSpPr/>
            <p:nvPr/>
          </p:nvSpPr>
          <p:spPr>
            <a:xfrm>
              <a:off x="5409360" y="2951640"/>
              <a:ext cx="122004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.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egevens vezamele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_s1035"/>
            <p:cNvSpPr/>
            <p:nvPr/>
          </p:nvSpPr>
          <p:spPr>
            <a:xfrm>
              <a:off x="1079640" y="4115880"/>
              <a:ext cx="122004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.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itvoeren van interventies.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_s1036"/>
            <p:cNvSpPr/>
            <p:nvPr/>
          </p:nvSpPr>
          <p:spPr>
            <a:xfrm>
              <a:off x="2522880" y="2951640"/>
              <a:ext cx="122004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.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valueren van zorg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_s1037"/>
            <p:cNvSpPr/>
            <p:nvPr/>
          </p:nvSpPr>
          <p:spPr>
            <a:xfrm>
              <a:off x="2522880" y="5280480"/>
              <a:ext cx="122004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.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lannen van interventies.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_s1038"/>
            <p:cNvSpPr/>
            <p:nvPr/>
          </p:nvSpPr>
          <p:spPr>
            <a:xfrm>
              <a:off x="6852240" y="4115880"/>
              <a:ext cx="122004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. Zorgproble-men vaststellen.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_s1039"/>
            <p:cNvSpPr/>
            <p:nvPr/>
          </p:nvSpPr>
          <p:spPr>
            <a:xfrm>
              <a:off x="5409360" y="5280480"/>
              <a:ext cx="122004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.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epalen van doele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Text Box 2"/>
            <p:cNvSpPr/>
            <p:nvPr/>
          </p:nvSpPr>
          <p:spPr>
            <a:xfrm>
              <a:off x="3649680" y="4184640"/>
              <a:ext cx="1954800" cy="215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et zorgproces.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De zorgvraag van de zorgvrager is in kaart gebracht: wat wil je met hem bereiken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erpleegkundige diagnose is dus het uitgangspun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Formuleer concrete en meetbare doelen, evt. in samenspraak met de zorgvrag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tel vast wanneer de doelen behaald moeten zij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Verpleegdoelen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Geeft duidelijkhei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inuïtei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Kosten bespar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Wat voor voorbeelden kunnen we hierbij bedenken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Waarom verpleegdoelen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Opdracht: pg 104 boek: Maak opdracht 2, 3 en 4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Nabespreking in de le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Formuleer voor je zelf een leerdoel m.b.t. de opleiding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Moet meetbaar  en concreet zijn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Hoe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9360">
            <a:solidFill>
              <a:srgbClr val="31b6fd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Rumba is een hulpmiddel om een doel kwalitatief goed te kunnen beoordelen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R= Relevan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U=Understandabl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M=Measurabl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=Behaviora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A=Attainabl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Criteria om een leerdoel vast te stellen: Rumba eisen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Nabespreking van de gemaakte leerdoelen aan de hand van de Rumba eis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4" name="Afbeelding 3" descr=""/>
          <p:cNvPicPr/>
          <p:nvPr/>
        </p:nvPicPr>
        <p:blipFill>
          <a:blip r:embed="rId1"/>
          <a:stretch/>
        </p:blipFill>
        <p:spPr>
          <a:xfrm>
            <a:off x="5645160" y="4005360"/>
            <a:ext cx="21463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2T13:58:38Z</dcterms:created>
  <dc:creator>LMARTIJN</dc:creator>
  <dc:description/>
  <dc:language>en-US</dc:language>
  <cp:lastModifiedBy>A.R. Niemeijer</cp:lastModifiedBy>
  <dcterms:modified xsi:type="dcterms:W3CDTF">2015-12-10T10:22:27Z</dcterms:modified>
  <cp:revision>85</cp:revision>
  <dc:subject/>
  <dc:title>Maken verpleegpla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