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23E-8A3B-48F1-8FB0-83FC8532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3F1-92FA-4908-AACD-5097E57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B9C-128B-4125-9481-39F2AE91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FBD-FE81-4030-AF41-8A22D9BA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F8C-FB51-4ABB-9506-B4DE148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DB15-60F4-4AB2-A0A2-08DC0A43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D739-2A62-452B-BD27-9634EAA3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16FD-4728-45AF-ADE9-2B746750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C17-ED5D-41AB-8D2E-6737C60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A55C-48BA-4CF9-9797-9B793832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6268-BDD6-4C2C-B5C4-E0B27E6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708-AB3E-43FA-B961-00C04A89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A963-E304-479A-99A9-7935A59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4009-4018-4764-B40F-920EA5D3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E3BC-D738-4254-B274-73DD071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C5B1-BAE8-4836-9D56-FF312AE3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625-702D-408C-A16E-B146CF85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BB95-4E14-44AB-8C75-68EB580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4CA3-C934-49CF-B43F-9CCD64C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7385-0D05-4152-81A9-1C450BF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EA42-85B7-4ABA-83D8-E9C160A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5BD1-461F-4718-B2C4-3148BBF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252-18C7-401B-BC99-4A78803F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3656-AF0E-44A0-BF41-8FB1390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A0C4-6145-4DD1-8C33-FBDBCB66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16B5-110D-4E48-A100-98AA8AE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AD99-897A-4273-B585-8DD54E0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E36B-4FF5-4B94-B07D-C4FB69F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4059-1D4E-4942-A22B-5E7E1061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BFF3-37B3-4EBD-AD08-CA357189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7C97-9878-4A22-A421-D078C88F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380D-6CA2-48F8-9B6E-4B6DC05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EBB7-B009-41BC-9DC7-CDF3AE9F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634-1BE3-4D67-88C5-EF2DB091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C28F-5900-4109-AE6A-BA584BE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5B37-48EF-4932-8229-2140D4E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3F18-63FD-411C-BC2D-A079CBAB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8354-48C1-4B6A-AEA0-3A99100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79BC-8BE9-4820-B0A6-3CED8EA7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F577-D7A8-426A-82F7-84DF9A3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4553-ED23-4AE5-BD18-3450DE1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EE81-A887-4E5D-A6B8-A0FD7906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5A19-0D45-468D-AA8A-0BE83387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767F-2928-47E3-8AE3-034ED38E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E34-6019-438E-B213-4F9C506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FE7B-540C-4A25-8330-50A5FEC4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7254-796F-40EB-BBBD-9E401E7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4DDA-E6AD-4421-8AE9-FCE6CE9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1300-31C3-4AAB-8125-A072512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E037-BF64-437D-9CA7-B1C08946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A02A-097D-4AC5-960B-EF95DA1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D8FB-32FC-4376-8AC3-782CE59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A6B9-1636-4F1B-B1D8-8F82397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EE16-9817-4792-BE6D-A6DEAD3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7D29-A638-4099-A62C-81A77E98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C26-778A-4986-9A33-72F53ED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A208-035E-40D7-AC65-3A01009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0FBA-091D-4431-A6EA-2E58C220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D0A7-D0C1-44ED-BA64-749954E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CE0B-798A-4464-AE77-47077EB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8F32-C35D-4742-A924-B1FE8BFC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9EF1-5EC7-450A-B9D0-B696941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1A31-234F-4E78-8E9D-7201516C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EF97-A78C-4D7D-AD9E-7A57625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EC20-74EF-4752-BF98-C05936D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BE80-EE40-48D7-ADBA-DEFB5799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2C5-ECDE-4D81-8334-E7AE4FA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6AD1-6E3C-4AEA-BE45-4189A5F6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B3EC7-EAF0-48C3-B89F-12E26C68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E3A9-434E-46BD-B8B2-2360682A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087B-42DC-49BC-AF2E-7CFC55EA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D37B-6363-4C0D-8EE2-E3A4B875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23EB-2C1F-4DA7-A127-57A6CFE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9637-49C3-445A-A73B-8220517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01C1-E5C1-406D-BB37-F47F81B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17AAA-FBE6-43A2-8AF0-C265545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58AB-8D78-40F8-9597-4E6F553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C07-643A-4DBF-8365-6445D4C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18BF7-190E-459A-932E-72A2343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C628-4C9C-4875-97DE-FDA0492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8E18-5156-4C3E-8604-B9B6E6A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3FCD-C05D-4B67-8C27-409E5B68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0592-1E29-4239-972C-9779FB12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B7A-3654-4ABB-AA13-7BBD39A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E03D-1FC3-4699-84B9-68F5A8DCFF9C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1441-6256-48AA-B5A5-882723849EA2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CE9-6A61-4B42-9581-0DAF44C7793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496-170B-4D8A-B3D9-4807F8A3836C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94B-B995-44D8-B9BC-0E312BE98F85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68B-75A8-4BC6-A8B0-0D50AE4C8450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4ED-7F15-4E0A-8361-CD2A93BBBB58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gaan we do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bied en deskundigheid van de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beroepsprofiel en beroepscode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elkom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36, vraag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oem drie gedragsregels uit de beroepscode die volgens jou belangrijk zijn voor de verpleegkundige beroepsuitoefening. Bespreek dit met een mede stud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et beroepsprofiel en de beroepsco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1773000"/>
            <a:ext cx="7596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opleiding tot verpleegkundige kent 2 kerntak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1. het bieden van zorg en begeleiding in het verpleegkundig proces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2. Uitvoeren van organisatie- en professie gebonden t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indt jij dat je allemaal zou moeten kunnen als aankomende verpleegkundige? Schrijf voor je zelf eens o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aakgebied en deskundigheid van de verpleegkundi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het kwalificatiedossier  MBO verpleegkundige staan allerlei kwaliteiten beschreven die jij als verpleegkundige moet bezitten. Zoek de site op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ier staan 12 kwaliteiten. Lees dit eens rustig doo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in tweetallen vervolgens opdracht 7, pg 35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tijdens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BO –V 5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BO-V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ende IG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lpende Zorg en welzijn 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hulp 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dheidszorg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sciplines: andere beroepen zoal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ysi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r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specialiseerde art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g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ogoped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eet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heid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lgemeen zieken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V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GZ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handicapten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zondheidszorgcentra(huisart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De werkveld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lk werkveld spreekt jou het meeste a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opdracht 8, pg 35 uit het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verpleegkundige heeft een groot werkveld en is werkzaam binnen verschillende gebieden. Wij noemen dit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tramuraal: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emimuraal: gedeeltelijke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ransmuraal: meerdere hulpverleners bijv in de thuis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xtramuraal: zorg buiten de muren va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denk een voorbeeld per setting/werkveld en welke type zorgvrager je tegen kunt komen per gebied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6, pg 35 nabespreken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7: zoek via de website Calibris de 12 kwaliteiten op. Deze info heb je nodig om opdracht 7 te maken, pg 34,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09-14T12:52:22Z</dcterms:modified>
  <cp:revision>78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