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AD8-B31F-4B0F-A6B1-62C633B4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069-6BD3-4903-8C64-8F8BE3EF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C671-4AE3-4DC6-881E-C3BEED09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BB5A-1765-465A-BA22-09DB877E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0381-1913-4B64-B4CD-78F81887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D4B1-F213-4B08-A90D-D53C2522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A702-7510-4A3C-88F4-9454F086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7198-50B7-4FF1-86EF-38A04E44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812E-9982-40D8-82C4-EBFC3564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D00D-E305-410D-9621-CB5CCF08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49E2-01C5-4DEB-B69A-4D20B7DB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C5E-0F5A-4E3E-8409-2727AF56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1ED4-47C9-44CB-B074-D8D18C59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D51D-24AE-4B44-ADAE-2EBC6094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1E9C-F42C-4FD1-982E-9D49572B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1782-5789-40DE-9FB3-08DB4AAF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588D-674D-43C3-8C5F-68DC3146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01124-72BF-4E29-8CF3-6A2F5C2B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DD0FF-3008-430F-A961-D07048B5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61D48-0AE5-4146-8D4A-87B492A6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C19C8-E839-4CDA-8FD3-BB2A6C9B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3C5E2-0E19-4928-B50B-9937FBD0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3EEB-322B-4B2C-862D-9F4DB2DF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DA646-6C79-4212-AB7E-81E7B0AC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9959B-8A22-4131-BDAA-C8F2633F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BBE1F-5E4F-4D63-8D4E-9D458C76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A2CE6-EEED-451C-8E13-DFC1679C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C1522-DA2A-4868-836D-C93FABD0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43A3F-9299-4240-9AE2-7B335CDA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439D6-BEE4-4BE6-8F8E-6F0F5EFB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FD1EC-2C30-4747-9987-DCB20D2E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92151-5582-4820-B20C-00FB3D4A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7498F-8577-4A67-9AB6-EF90A927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6304-895B-4EA7-8C04-B2ACBDE4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88E71-AD82-4437-864C-92A96B1D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B0497-D94E-4F75-BFDC-4FBC9BDA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D84F0-A403-4E58-A967-768C854F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4E7FA-05E8-465C-B698-09604D5E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2AB19-B29E-41F7-A143-725E1631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1BA7C-12AB-4854-8065-3207B942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F66B5-29C7-4034-80C2-7196EF10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A6A5B-2EC7-4297-8B75-D9509858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C50BE-6DE3-4AED-91A6-48ED72F8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C905B-9C11-4344-ACD5-CB155D01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6F06-B39D-425F-8B85-ED8E7716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DD9E7-ABEC-4686-A2A3-D39F4DAF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6D59B-1B1A-43F2-BA26-C815180C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94A6A-F6C2-4FF3-938D-FC74AAB5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0A64E-3E26-491D-81E3-B7081C74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43D3F-6C0C-4AEE-85B6-5A312A01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87FF8-81D0-4836-BE7F-46579579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58C74-5F17-4226-910B-A7C1DE95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71161-83EA-40A3-B19C-FE342610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55A5E-5FE8-4ECB-A5FC-ED490769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BED71-F659-42B9-B1B7-6066E16E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3A9-11FD-4D41-9479-18D32DEB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4200E-4888-4CE3-BC36-7EB8FF8B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99FF2-65C4-46A3-838F-B72F2FBA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C524F-2506-4ECE-B500-7AC4AF50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A0213-759C-47E0-A020-2FC63BF6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D3BD0-87B5-4EAB-A661-C218022E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5F608-B7B7-4260-B780-C9B35681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3ABD1-A1B9-472F-9A65-424CFDE9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1F6D0-E21E-4E15-B580-3301650C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CAE56-DEB6-43DD-B5EE-CD9D4C22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258E6-4E0B-46B3-B6C8-AC661E8B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C920-FA9A-4ADF-97B9-D7E3D7D5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5D5D2-17F8-4922-A9E8-C6216D11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234D1-52D7-428C-A279-A550F393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EF356-9ECE-4B94-9092-7583C5F2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FE901-CF24-4F5A-BE1C-B3499D99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26948-BE9C-47E2-AC0F-DFD5DAAA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E3C15-71E3-4CFC-A5A8-DC3B6E9F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9D84A-22A9-446F-B180-9BFAC54B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E26F9-777F-45F1-A840-1D4B324A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CCCD5-7385-4F72-AF6D-982F9492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49F0A-5B14-4467-BBAC-E638F8FA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617F-C83E-4962-A04B-6DD12D93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7360C-ACA6-426F-BAF1-61B35AB2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D703D-E193-4069-8913-A7B9B6E4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265AC-5C86-4B00-A057-E8CCFED4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8F5A3-0EB4-47F7-B7CC-D96A0567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4D264-3034-4EEC-890A-C1E8B9C3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DBF-A8FF-4940-AFB0-4ABD3B2B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0708-BC6A-4205-B910-83568AAD42FF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CED6-590A-4586-9AD1-ED94D5A4EC4D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9378-9A35-44C1-9819-3CD72CCEA5F7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3613-9833-4395-84A0-6ACEF252413A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A79F-0427-4B52-AF53-51760A37A7C6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A7A3-300B-43EB-A3A4-84707B35FE4E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9826-1E56-46A3-89F5-5F96FBA1B3E0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503520" y="2421000"/>
            <a:ext cx="3052800" cy="3051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Coordinatie en Continuiteit van Zor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org die gegeven wordt met overlappingen zonder onderbrekingen of hiaten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orgvrager kan er vanuit gaan dat iedereen die bij de zorgverlening betrokken is, op de hoogte is van zorgbehoeften, beoogde doelen, resultaten en verandering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elangrijke taak voor de VPK om dit te bewaken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Contuiniteit van zor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Tussen de dienst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etrokken Disciplin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fdelingen(overplaatsing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schillende zorg verlenende instanti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ij ontslag naar hu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Hoe zie je contuiniteit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1471680" y="2743200"/>
            <a:ext cx="6210360" cy="3314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Continuiteit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Ketenzorg= De Zv staat centraal en de verschillende instanties bieden samenhangende op elkaar afgestemde zorg. Bijv. bij zelfstandig wonende dementerenden en hun naasten die veelvuldig gebruik maken van de zogn.“ketenzorg”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inuïteit van zorg naar een andere instel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inuïteit van zorg bij het verlaten van de instelling: huisarts en thuiszorg geïnformeer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inuïteit van leven: bij Chronisch Zieke zorgvrager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iet meer alleen continuïteit van zorg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inuïteit van de beroepsgroep bewaken: bijdrage aan deskundigheidsbevorder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Taakgericht verpleegsystee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orgvrager gerichte verpleegsystem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engvormen: kamertoewijz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         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unitverpleg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pleegsystemen, hfdst 21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826920" y="1700280"/>
            <a:ext cx="7453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73e87"/>
                </a:solidFill>
                <a:latin typeface="Candara"/>
              </a:rPr>
              <a:t>Taakgerichte verpleegsystemen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werk en de organisatie staan centraa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schil in uitvoerende taken in algemene zin en de Voorbehouden en Risicovolle Handeling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73e87"/>
                </a:solidFill>
                <a:latin typeface="Candara"/>
              </a:rPr>
              <a:t>Voordeel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Financieel voordelig voor een organisati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kkelijk uitvoerbaa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Leidinggevende is verantwoordelijk: aanspreekpun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pleegsysteme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delen taakgericht systeem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v heeft met veel mensen te mak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r kan veel gemist worden door de VPK, geen totaalbeeld van de Zv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ie is eindverantwoordelijk? Niet altijd duidelijk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Routine matig en saai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73e87"/>
                </a:solidFill>
                <a:uFillTx/>
                <a:latin typeface="Candara"/>
              </a:rPr>
              <a:t>Teamverpleging: Voordelen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v staat centraa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aste samenstelling van de Zv met de VP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org goed in te plann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inuïteit van Zorg wordt gewaarborg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Gevarieerd werd, dus uitdagend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pk kan veel leren op verschillende gebieden(somatiek/psychisch/sociaal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vrager gerichte verpleegsystemen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Interventie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338" name="Tijdelijke aanduiding voor inhoud 3"/>
          <p:cNvGrpSpPr/>
          <p:nvPr/>
        </p:nvGrpSpPr>
        <p:grpSpPr>
          <a:xfrm>
            <a:off x="1079640" y="2568600"/>
            <a:ext cx="6992640" cy="3663000"/>
            <a:chOff x="1079640" y="2568600"/>
            <a:chExt cx="6992640" cy="3663000"/>
          </a:xfrm>
        </p:grpSpPr>
        <p:sp>
          <p:nvSpPr>
            <p:cNvPr id="339" name="_s1028"/>
            <p:cNvSpPr/>
            <p:nvPr/>
          </p:nvSpPr>
          <p:spPr>
            <a:xfrm>
              <a:off x="2938680" y="2933640"/>
              <a:ext cx="3274560" cy="1525320"/>
            </a:xfrm>
            <a:custGeom>
              <a:avLst/>
              <a:gdLst>
                <a:gd name="textAreaLeft" fmla="*/ 0 w 3274560"/>
                <a:gd name="textAreaRight" fmla="*/ 3274920 w 327456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_s1029"/>
            <p:cNvSpPr/>
            <p:nvPr/>
          </p:nvSpPr>
          <p:spPr>
            <a:xfrm rot="3600000">
              <a:off x="5123160" y="241092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_s1030"/>
            <p:cNvSpPr/>
            <p:nvPr/>
          </p:nvSpPr>
          <p:spPr>
            <a:xfrm rot="7200000">
              <a:off x="5122800" y="311508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_s1031"/>
            <p:cNvSpPr/>
            <p:nvPr/>
          </p:nvSpPr>
          <p:spPr>
            <a:xfrm rot="10800000">
              <a:off x="2938680" y="4341600"/>
              <a:ext cx="3274560" cy="1525320"/>
            </a:xfrm>
            <a:custGeom>
              <a:avLst/>
              <a:gdLst>
                <a:gd name="textAreaLeft" fmla="*/ 0 w 3274560"/>
                <a:gd name="textAreaRight" fmla="*/ 3274920 w 327456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_s1032"/>
            <p:cNvSpPr/>
            <p:nvPr/>
          </p:nvSpPr>
          <p:spPr>
            <a:xfrm rot="14400000">
              <a:off x="2503440" y="311472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_s1033"/>
            <p:cNvSpPr/>
            <p:nvPr/>
          </p:nvSpPr>
          <p:spPr>
            <a:xfrm rot="18000000">
              <a:off x="2503800" y="241020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_s1034"/>
            <p:cNvSpPr/>
            <p:nvPr/>
          </p:nvSpPr>
          <p:spPr>
            <a:xfrm>
              <a:off x="5409360" y="295164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.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gevens vezamele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_s1035"/>
            <p:cNvSpPr/>
            <p:nvPr/>
          </p:nvSpPr>
          <p:spPr>
            <a:xfrm>
              <a:off x="1079640" y="41158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itvoeren van interventies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_s1036"/>
            <p:cNvSpPr/>
            <p:nvPr/>
          </p:nvSpPr>
          <p:spPr>
            <a:xfrm>
              <a:off x="2522880" y="295164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valueren van zor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_s1037"/>
            <p:cNvSpPr/>
            <p:nvPr/>
          </p:nvSpPr>
          <p:spPr>
            <a:xfrm>
              <a:off x="2522880" y="52804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.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nnen van interventies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_s1038"/>
            <p:cNvSpPr/>
            <p:nvPr/>
          </p:nvSpPr>
          <p:spPr>
            <a:xfrm>
              <a:off x="6852240" y="41158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. Zorgproble-men vaststellen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_s1039"/>
            <p:cNvSpPr/>
            <p:nvPr/>
          </p:nvSpPr>
          <p:spPr>
            <a:xfrm>
              <a:off x="5409360" y="52804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.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palen van doele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Text Box 2"/>
            <p:cNvSpPr/>
            <p:nvPr/>
          </p:nvSpPr>
          <p:spPr>
            <a:xfrm>
              <a:off x="3649680" y="4184640"/>
              <a:ext cx="1954800" cy="215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et zorgproces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73e87"/>
                </a:solidFill>
                <a:uFillTx/>
                <a:latin typeface="Candara"/>
              </a:rPr>
              <a:t>Teamverpleging Nadelen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iet altijd duidelijk wie eindverantwoordelijk 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Onderlinge afhankelijkheid van het tea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einig ruimte voor individuele verantwoordelijkhei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rst verantwoordelijke verpleegkundige of senior verpleegkundig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oordelen: Voldoening en motivatie van de VPK/ band met de ZV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rst verantwoordelijke heeft overzicht èn verantwoord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ördinerende rol; bewaker van de continuïtei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uidelijk aanspreekpunt voor de zorgvrag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Primary Nursin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900000" y="26370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73e87"/>
                </a:solidFill>
                <a:uFillTx/>
                <a:latin typeface="Candara"/>
              </a:rPr>
              <a:t>Nadelen Primary Nursing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ij grote over flow(veel kortdurende opnames) niet eenvoudig te organiser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dividuele verantwoording is groot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elasting van het team moeilijker te verdel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el deskundigheid van de VPK wordt gevraag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Kan een negatieve band met Zv ontstaa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Kamertoewijz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Unit verpleg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Mengvorme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132000" y="1932120"/>
            <a:ext cx="3135600" cy="31352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at is coördinatie? = In de verpleegkunde: het ‘regelen’ van zor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at doen je da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inuïteit = Zorgdragen voor de continuïteit van de zorg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oe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ördinatie van Zorg is zorgen dat de zorg van een zorgvrager doorgang kan vinden die past bij de behoeften van de zorgvrage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Rol van de VPK: Coördinerende taken, bijv. contact andere disciplin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raagt specifieke competenties(kennis, houding en vaardigheden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eiste Competenties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aansturen, samenwerken, overleggen, plannen en organiser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Coördinatie: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508040" y="2674800"/>
            <a:ext cx="6135840" cy="345132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Samenwerken, hoe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99640" y="1989000"/>
            <a:ext cx="7380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Regeling afstemming tussen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or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ntelzor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Professionele Zor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org van andere hulpverlen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eschrijven in het zorgplan of verpleegpla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ociale kaart van Zorg verlenende instanties Regi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Coördinatie van  Zor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340000" y="1758960"/>
            <a:ext cx="5761080" cy="31989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oorbeeld Sociale Netwerkkaar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oorbeeld netwerkkaart Verslavingszor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6" name="Picture 2" descr="http://www.vitalevaten.nl/uploads/pics/E5-01.png"/>
          <p:cNvPicPr/>
          <p:nvPr/>
        </p:nvPicPr>
        <p:blipFill>
          <a:blip r:embed="rId1"/>
          <a:stretch/>
        </p:blipFill>
        <p:spPr>
          <a:xfrm>
            <a:off x="1763640" y="2108160"/>
            <a:ext cx="43927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3:58:38Z</dcterms:created>
  <dc:creator>LMARTIJN</dc:creator>
  <dc:description/>
  <dc:language>en-US</dc:language>
  <cp:lastModifiedBy>A.R. Niemeijer</cp:lastModifiedBy>
  <dcterms:modified xsi:type="dcterms:W3CDTF">2016-01-20T08:36:40Z</dcterms:modified>
  <cp:revision>115</cp:revision>
  <dc:subject/>
  <dc:title>Maken verpleeg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