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145-D2A0-4251-9EF6-9127F6B7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8C6-CE46-4AF6-A5E4-F7B6B194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D053C-12F0-43F9-9A63-5816AC62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4B775-6AC6-4B6E-A215-D769B279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FCB87-8308-4F1A-B051-882B6B37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97467-E340-4E72-850D-6AB3A76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1AD73-9F43-4EFF-AED3-1C154FC5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1C2DC-46A4-4BC2-8FAF-8715F44C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F67C0-A731-45E2-B205-442E27AB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694F5-B83E-4056-9133-69929536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BA5DE-8BA9-4B7C-A952-8386B614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54792-B3E2-4ABD-8F44-BFED0C0D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441-0976-49BE-88AE-E3688F53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9FD8E-6D2E-4B43-9A8E-47044F2B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EDAD4-AFF2-4926-9693-0BF5739F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58F52-7BEB-4F10-9736-B939F359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EFC07-FA78-43E4-BB09-2B64BA64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403E4-0CAC-4689-82AC-E24D545C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353FB-433F-4470-90B7-1B681DA2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4CD03-3B78-484E-A58F-A65DE471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23C27-FF1E-45BF-BFB7-4C5AF93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D6880-C6DF-4C7A-B754-DA12D860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FBAB4-891A-4369-8F0A-3102A75A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DB9-170E-4C29-8CEA-B4891DAB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7E839-05DD-4C4F-981E-F8A5FA46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7DBFC6-52A4-4E74-AC30-BCAE2FB5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C4305B-1FDB-4312-BBA0-7C450D62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AAD380-6B56-4404-9224-D5B61252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1D541B-C715-4131-BB8C-CC02676B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1660ED-878F-4EA6-BA56-A38BCFF9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319579-0C65-484A-B1A1-B0C3CB0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3059F8-52FB-4FDF-B004-FB404436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DE7C3E-6D60-41C3-B269-15E55E8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02C403-79AD-4E44-B163-57BF329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E669-762B-42DF-90B4-2618B7B2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58E283-7091-4CC6-A752-1B167D73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419E6D-7E79-4EE0-BCED-F45CC991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1CEC6E-1164-4D10-B15A-28E191CE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7BA2-98A9-4800-B940-B26E7747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A748-874A-4782-B2AB-C239445E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5A1E-8E83-4E19-93B2-0D2C1338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61A-8F9E-430A-ABFD-123F9416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06FF-8840-44AC-AFB0-601ECC35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596A-12B6-4DBC-AACD-E0944E4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E30-BE75-4C0A-99DF-C8E7B1A6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13D8-4981-4B0B-A1C6-4231EB5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0761-8353-4573-ACBD-0653B857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C278-FC31-4623-AB60-3AFEC49D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3B93-2C5A-424C-AE5F-CB6EA7FF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CB0-D00B-4F19-9FAB-C98B4808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0D3A-D3CF-410A-8C18-EAAFCB5A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B71B-A7B2-489E-B659-C65DF1A0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FD5E-6836-4099-AB9B-137C40B0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030E-F776-43FC-9EDE-D9D8FA29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7C2E-18F4-4DDD-B641-13479DD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2E1-0ABF-4313-8E96-2AC7FB4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FAFA-9806-400D-9EDE-7E57F46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84C2-42B5-4C06-A650-8203060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B091-F463-42B7-90E2-38FC1EDA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C6D3-EDF8-4D19-B903-31D012B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2542-91CE-40D2-BA1E-432CC1D6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7F44-CAEC-4CDD-9374-F3E94066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FE24-D6FF-46C1-9538-2D94D473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41EE-BF90-46BF-8A01-87480969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893A-0AEB-48A8-98F8-1CA41A03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AB20-13C2-483B-B240-033F4D26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A8D-B26F-40AA-844A-169B135A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850D-99FF-47EF-9FFF-C01CCC3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E5EB-80A5-4BC4-ABF8-20CA486D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5F74-6222-4233-BC05-596DD142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ABEA-1EC5-44C1-A498-E3CD1C2C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A0DC-73A8-4B75-A2FE-43571DF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2E45-47CC-4E44-A466-406627C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2E4E-B3C5-4B52-A0B3-88256002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1C895-C56D-449B-AAC1-92BE7146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5C776-365C-4181-B86E-C9421055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C3AF-2607-44A0-B294-F2E9F7E7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C23-AE7D-4B6D-92F0-6FF350A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3A1BD-879F-4545-AF0D-F18742CC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EBA5-D9F6-43A6-BEAD-15730D3D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4A10-3CD0-4136-A482-79CC12D9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97C5-9F8F-4624-971F-D453FD5D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BB01E-455C-44F4-91CE-0890589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FBDE-3C21-4A0F-8FC4-33C222D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B3F8-5196-4335-9C30-5D9A2E2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FD4AB-1CEF-48E8-9CC0-13D0D9B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B5A1-C245-440F-9E3A-AD8AE42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97E11-F893-4948-92C1-1BF8ED69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E5B-E044-41B4-8D76-B714165E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FC31-5F20-4CB7-8B87-FB547807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70897-3020-466F-9F0F-CCA80717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3C9B1-366B-4429-81D1-B815038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EA3D1-AA75-4CEB-A282-0C8DEE9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417A-B5F4-4309-86DB-AB11DD34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92E2-0CB5-429B-B4DA-308121B3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1900A-D766-42E9-B6A0-73D36B75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584FD-4546-49FA-8F47-CD187E17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99C44-4C95-4F7A-8F9D-A8392682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23B6-161B-44C3-A081-5B39B108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7E3-0E58-4DD4-A420-F5AC87D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5C061-C233-449A-A8B6-114DF4B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1F81C-7AB9-4DF9-934A-824725B4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D2FD8-7CB7-4ED4-A7CE-6FE2E6C4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6907-4663-4676-9B00-93CFA367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47D54-ACE6-4266-9620-CC6B75C7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A03D6-3017-42AB-9C94-0C0E6DE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FF2C2-1F3F-43F6-A2F1-4A6B9C7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9E5F4-40D6-41B1-8418-191ABD9E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276F9-BD61-42BA-BD25-8FD2806E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E38BA-AC87-4035-8FB5-1BA9997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B06-7822-40D4-986F-1EA2D2B9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3A14D-5DD0-438F-82B3-1B9F80C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4B2B1-A5BF-4042-B785-1E5B12E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7339A-8349-48A0-BF97-392153C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9E72A-2C2D-4C15-81FE-EBED5A6D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A05C-B92F-4F78-A44C-2639C791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81C05-11EE-464D-A894-EB8F32C8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7998-029B-416F-BF68-B4CD0C9B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101AE-D5D5-4229-96FD-0B472D8E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630D0-562C-4023-97C7-60A57A97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5AE10-5AE3-4532-8E10-23FE61B4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B00-075A-4084-9F6D-053D045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237B-9D7B-4CEA-91ED-C9BE46B8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6BA7B-D3F4-484E-8229-D9F473F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007EB-A73E-4824-8BD8-B76CB21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4B9D-E72B-4F62-9677-AA7F596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B02A1-A0E1-4F71-A521-81E10DAE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F6CFF-0E5D-4FE5-9443-7E9F88F9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B760-69DB-4525-AF07-22FEFE2B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63C67-2A75-44D7-85E2-DBFD8A41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327DF-B7E8-4DC1-ACBC-482728B6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E1B1C-79B7-4909-9A43-9064B118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E595-73E2-44B4-954B-88241DD9872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1A87-5CC5-4133-9D3F-B9825828297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0E9-EAC1-4EC1-9649-721ED17FC50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947B-C047-4A10-A2B2-02256B8111E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2C28-8EAA-48AF-81B3-E9E51657951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F11-B000-4F33-B860-88DC96657A0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B867-9D08-4C58-AE39-A5F13EED3F3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F86A-FCD1-4322-BEAF-068AA363C8F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22E6-85FC-4D84-AC8A-5FB2B375548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FBCE-628C-4EA9-8B63-0881C36EAE3D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DA9A-1857-4C95-A199-AC6A57E703D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et verpleegkundig Proce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taat uit de volgende 6 stapp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zamelen van gegeve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aststellen van de verpleegkundige diagn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ormul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lann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Uitvo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alu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Diagram 1"/>
          <p:cNvGrpSpPr/>
          <p:nvPr/>
        </p:nvGrpSpPr>
        <p:grpSpPr>
          <a:xfrm>
            <a:off x="1476000" y="979200"/>
            <a:ext cx="6540120" cy="5088960"/>
            <a:chOff x="1476000" y="979200"/>
            <a:chExt cx="6540120" cy="5088960"/>
          </a:xfrm>
        </p:grpSpPr>
        <p:sp>
          <p:nvSpPr>
            <p:cNvPr id="576" name="_s1028"/>
            <p:cNvSpPr/>
            <p:nvPr/>
          </p:nvSpPr>
          <p:spPr>
            <a:xfrm>
              <a:off x="3214440" y="979200"/>
              <a:ext cx="3062880" cy="2646000"/>
            </a:xfrm>
            <a:custGeom>
              <a:avLst/>
              <a:gdLst>
                <a:gd name="textAreaLeft" fmla="*/ 0 w 3062880"/>
                <a:gd name="textAreaRight" fmla="*/ 3063240 w 3062880"/>
                <a:gd name="textAreaTop" fmla="*/ 0 h 2646000"/>
                <a:gd name="textAreaBottom" fmla="*/ 2646360 h 264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_s1029"/>
            <p:cNvSpPr/>
            <p:nvPr/>
          </p:nvSpPr>
          <p:spPr>
            <a:xfrm rot="3600000">
              <a:off x="4647600" y="138132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_s1030"/>
            <p:cNvSpPr/>
            <p:nvPr/>
          </p:nvSpPr>
          <p:spPr>
            <a:xfrm rot="7200000">
              <a:off x="4647600" y="260244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_s1031"/>
            <p:cNvSpPr/>
            <p:nvPr/>
          </p:nvSpPr>
          <p:spPr>
            <a:xfrm rot="10800000">
              <a:off x="3214440" y="3422160"/>
              <a:ext cx="3062880" cy="2646000"/>
            </a:xfrm>
            <a:custGeom>
              <a:avLst/>
              <a:gdLst>
                <a:gd name="textAreaLeft" fmla="*/ 0 w 3062880"/>
                <a:gd name="textAreaRight" fmla="*/ 3063240 w 3062880"/>
                <a:gd name="textAreaTop" fmla="*/ 0 h 2646000"/>
                <a:gd name="textAreaBottom" fmla="*/ 2646360 h 264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2"/>
            <p:cNvSpPr/>
            <p:nvPr/>
          </p:nvSpPr>
          <p:spPr>
            <a:xfrm rot="14400000">
              <a:off x="2198160" y="260280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_s1033"/>
            <p:cNvSpPr/>
            <p:nvPr/>
          </p:nvSpPr>
          <p:spPr>
            <a:xfrm rot="18000000">
              <a:off x="2198160" y="138132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_s1034"/>
            <p:cNvSpPr/>
            <p:nvPr/>
          </p:nvSpPr>
          <p:spPr>
            <a:xfrm>
              <a:off x="5525280" y="101016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_s1035"/>
            <p:cNvSpPr/>
            <p:nvPr/>
          </p:nvSpPr>
          <p:spPr>
            <a:xfrm>
              <a:off x="1476000" y="303012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_s1036"/>
            <p:cNvSpPr/>
            <p:nvPr/>
          </p:nvSpPr>
          <p:spPr>
            <a:xfrm>
              <a:off x="2825640" y="101016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_s1037"/>
            <p:cNvSpPr/>
            <p:nvPr/>
          </p:nvSpPr>
          <p:spPr>
            <a:xfrm>
              <a:off x="2825640" y="505008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_s1038"/>
            <p:cNvSpPr/>
            <p:nvPr/>
          </p:nvSpPr>
          <p:spPr>
            <a:xfrm>
              <a:off x="6874920" y="303012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_s1039"/>
            <p:cNvSpPr/>
            <p:nvPr/>
          </p:nvSpPr>
          <p:spPr>
            <a:xfrm>
              <a:off x="5525280" y="505008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"/>
            <p:cNvSpPr/>
            <p:nvPr/>
          </p:nvSpPr>
          <p:spPr>
            <a:xfrm>
              <a:off x="3879360" y="3149280"/>
              <a:ext cx="1828440" cy="374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1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8570880" cy="2852640"/>
          </a:xfrm>
          <a:prstGeom prst="rect">
            <a:avLst/>
          </a:prstGeom>
          <a:ln w="0">
            <a:noFill/>
          </a:ln>
        </p:spPr>
      </p:pic>
      <p:sp>
        <p:nvSpPr>
          <p:cNvPr id="590" name="PIJL-OMHOOG 2"/>
          <p:cNvSpPr/>
          <p:nvPr/>
        </p:nvSpPr>
        <p:spPr>
          <a:xfrm>
            <a:off x="1071720" y="3286080"/>
            <a:ext cx="45720" cy="1000080"/>
          </a:xfrm>
          <a:prstGeom prst="upArrow">
            <a:avLst>
              <a:gd name="adj1" fmla="val 50000"/>
              <a:gd name="adj2" fmla="val 5033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IJL-OMHOOG 3"/>
          <p:cNvSpPr/>
          <p:nvPr/>
        </p:nvSpPr>
        <p:spPr>
          <a:xfrm>
            <a:off x="2643120" y="314316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IJL-OMHOOG 4"/>
          <p:cNvSpPr/>
          <p:nvPr/>
        </p:nvSpPr>
        <p:spPr>
          <a:xfrm>
            <a:off x="4214880" y="321480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IJL-OMHOOG 5"/>
          <p:cNvSpPr/>
          <p:nvPr/>
        </p:nvSpPr>
        <p:spPr>
          <a:xfrm>
            <a:off x="5715000" y="314316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IJL-OMLAAG 7"/>
          <p:cNvSpPr/>
          <p:nvPr/>
        </p:nvSpPr>
        <p:spPr>
          <a:xfrm>
            <a:off x="7286760" y="2214720"/>
            <a:ext cx="142920" cy="26431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IJL-LINKS 8"/>
          <p:cNvSpPr/>
          <p:nvPr/>
        </p:nvSpPr>
        <p:spPr>
          <a:xfrm>
            <a:off x="6572160" y="4786200"/>
            <a:ext cx="357120" cy="14292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kstvak 9"/>
          <p:cNvSpPr/>
          <p:nvPr/>
        </p:nvSpPr>
        <p:spPr>
          <a:xfrm>
            <a:off x="714240" y="4786200"/>
            <a:ext cx="5643720" cy="368280"/>
          </a:xfrm>
          <a:prstGeom prst="rect">
            <a:avLst/>
          </a:prstGeom>
          <a:solidFill>
            <a:srgbClr val="c0c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2060"/>
                </a:solidFill>
                <a:latin typeface="Calibri"/>
              </a:rPr>
              <a:t>Kwaliteitscontr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 in 2-tal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asus: Demente bejaarde man, 75 jaar, wordt opgenomen in het ziekenhuis wegens uitdrogingsverschijnselen en mijnheer heeft zich verwaarloosd. Jij moet de zorg in kaart breng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 zou je dit per stap kunnen doe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preek klassikaal opdracht 2, pg 3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b9899"/>
                </a:solidFill>
                <a:latin typeface="Georgia"/>
              </a:rPr>
              <a:t>1. Verzamelen van gegevens.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gint bij opname en stopt bij ontsla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 beste bron is de zorgvrager zelf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zamelen van gegevens doe je door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er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ragen te stellen. (ook eventuele anderen!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ingen do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aties en bevindingen van ander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Feedback op eigen ervaringen/ bevinding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iteratuuronderzoek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Analys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s het interpreteren en clusteren van de verzamelde gegeve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het interpreteren gaat het om de waarde en betekenis. (Niet alles is relevan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het clusteren gaat het om het ordenen. (Welke horen er bij elkaar? Bijv. in patronen van Gordon of de vier domein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Kwaliteitscontrol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 vorige 2 fasen dienen gecontroleerd te worden op kwalitei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Kwaliteitscontrole van de verzamelde gegevens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2285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jn de gevonden gegevens te vertrouwe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t door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atie gedurende langere tijd op de gevonden (belangrijke) verschijnselen. (treedt herhaling op?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er technieken om de verschijnselen met elkaar te vergelijk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Kwaliteitscontrole van de analys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jn er juiste conclusies getrokken? Is er juist gecluster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t door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vragen bij de zorgvrager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Collegiaal consult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iteratuur en standaarden raadpleg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Keuz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et besluitvormingsproces is klaar wanneer een keuze is gemaak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is niet definitief, maar voorlopig. (De situatie van een zorgvrager veranderd steed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gaat dus steeds door met gegevens verzamelen, analyseren en het meten van de kwaliteit binnen het verpleegpro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8:45Z</dcterms:created>
  <dc:creator>ROEL</dc:creator>
  <dc:description/>
  <dc:language>en-US</dc:language>
  <cp:lastModifiedBy>A.R. Niemeijer</cp:lastModifiedBy>
  <dcterms:modified xsi:type="dcterms:W3CDTF">2015-10-02T07:51:09Z</dcterms:modified>
  <cp:revision>17</cp:revision>
  <dc:subject/>
  <dc:title>Hoe komt de verzorgende / verpleegkundige tot een besluit</dc:title>
</cp:coreProperties>
</file>