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791-2747-498E-9277-27C0616D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CC7-8E1B-405D-952C-398DF10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E49-C762-4E04-9873-6641E1D5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A57-5572-4459-816A-BE72B302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9104-B211-4849-8143-34406AAE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8D46-94AE-4962-8070-410E026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46B7-D156-4231-AB3C-1C982C69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762-D5F4-446C-B4AC-469379E5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099-E681-4D4F-8C25-40103181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E9C6-C832-44C2-A966-EB6BDCB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C849-01F8-4222-A8A1-CBED3B0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6E9-4AA2-4EA7-A2DA-E90D85C3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EDB0-D283-41B3-87C8-5E93C5B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204-EAF7-4349-9961-FBC2C7B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064-9EBA-4D92-A25A-03754AB6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C094-5EC2-40AE-8EC5-1216461C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6171-A238-4005-A780-DC1EBA4D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E057-0453-4400-A2FF-541C1466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09A3-DD01-4730-95E1-5A6BB8A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57D1-A56D-4F31-B9F9-149E613E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3135-3595-4271-9066-6B5D2E93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88D8-EB2B-4073-B17B-4CF32BB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498-521E-4D8D-9FD8-2C150168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5282-820E-4CA4-B362-7BAF0FE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4C15-4A68-4BFA-AF5D-268D81A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12D4-CB80-4F1F-A42B-B0FB53F9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673A-FB32-41F6-AAD5-C0A04EAC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182C-43FD-44E7-B182-EC83660E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5E7F-A377-463A-BC8A-A2606E42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54D3-9B6D-4C3D-879A-D12A9784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E267-A291-448B-9FD3-4B3D4B0F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286C-B82F-4533-B3A6-DEBCBBDA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EC88-E0BC-4705-A9CE-A4CD6E46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816-B7A5-43BD-AB77-5191BFA2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112E-BC8B-4A15-8F7B-E830E23F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6E51-FBD3-4ACC-8C19-92AF547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9A7E-8471-432B-8AF2-1163CB45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0935-C50B-4368-B424-E3DE746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B99E-F3A1-41D3-8B73-0F046C7D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38A6-E3D6-4D78-9FEB-4D84ACF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78005-BEF8-4139-8B35-E0E8C2D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7123-6271-4608-9CB3-FE98B5C8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C4F4-C588-4492-A611-E201C786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8BDEC-1C2B-49E6-9E69-B0A79FF9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6FD-BEC8-4E53-B0BB-36DAD352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934A-161B-44EB-800B-E7FBC8C6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5C07-9688-43A6-8705-1CB770C7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A849-ECC8-44AD-A04C-E5D691B5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3575-370B-46A8-9906-6E084D53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8A53-2F11-428C-B939-B2D86D36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0BED-2671-4712-8343-8B37C1A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9F04-E36C-4981-ADAA-6836925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D363-EEBA-40C6-A1DE-700A38B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140C-35F7-4AF7-931C-97364C3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A614-52FD-4A87-BCE2-67F1B5D1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818-9519-4838-9F0D-ABC382BF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7ACD-A9A0-4A48-838F-779D2821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15878-5641-49C3-AA22-1EA21DC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F1DA-DFD4-4339-BE39-FD231F64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474BE-B463-405C-913C-09394FA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3056-43FE-4FFC-AFA0-E1B5B85E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B769-4AAE-4D3F-A9F5-CE7D6314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E345-FCB1-4917-B672-AB396EB1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8A22-8EB9-4F25-A706-4FE65C5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2AC9-47E3-4527-B1F2-F849F9C1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410B-D45A-4B04-93B6-50F1804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A20-6D4C-40AD-917D-63C89EC9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4A004-3B57-491C-A6FD-C82DC35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634C-255C-410A-8446-85ED3D10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A1062-BC03-406A-9D76-AC6A1EA4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D600-515B-4FE0-8A2E-1ED89962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0EE2-457F-4AB4-AE94-BF1925F2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48E3-CB55-468A-967A-1F095B0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D3D1-DB7B-4813-BDE1-11EC360F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9A831-5F69-4A1E-A6BF-7E2CE6C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27F8F-ADFA-4DDB-9F12-652CBC5F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F4CE-42DB-4362-956D-2587352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A6E-2831-4506-B381-5A4D6F1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7044-194F-4F71-866B-B29D93F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A871D-D159-46BE-9336-086C637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CF295-E685-4D9A-84E6-F0ADCEA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37EA6-F5F9-4AE3-B7B4-DADFCD97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67AA-7851-4C3F-B7AE-F7512162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8FB-26AB-4DB9-B7CC-9876589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D2F-D2B6-4E3C-AAF9-59982685276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B5F-D5FB-46D1-9972-9649D9B9A7B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76A-61E4-4CA2-80C1-4AA49C7B5DBA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28C4-8E73-465E-9B0F-63624D23C76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187-D37E-4902-9302-CB6E94F5FA83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FE3-8346-4C31-AB90-7E685DC3D010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994-34E5-4CAC-8C20-8FDBDC7CB391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503520" y="2421000"/>
            <a:ext cx="3052800" cy="3051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doelen vaststell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38" name="Tijdelijke aanduiding voor inhoud 3"/>
          <p:cNvGrpSpPr/>
          <p:nvPr/>
        </p:nvGrpSpPr>
        <p:grpSpPr>
          <a:xfrm>
            <a:off x="1079640" y="2568600"/>
            <a:ext cx="6992640" cy="3663000"/>
            <a:chOff x="1079640" y="2568600"/>
            <a:chExt cx="6992640" cy="3663000"/>
          </a:xfrm>
        </p:grpSpPr>
        <p:sp>
          <p:nvSpPr>
            <p:cNvPr id="339" name="_s1028"/>
            <p:cNvSpPr/>
            <p:nvPr/>
          </p:nvSpPr>
          <p:spPr>
            <a:xfrm>
              <a:off x="2938680" y="293364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 rot="3600000">
              <a:off x="5123160" y="24109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 rot="7200000">
              <a:off x="5122800" y="311508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 rot="10800000">
              <a:off x="2938680" y="434160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 rot="14400000">
              <a:off x="2503440" y="31147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 rot="18000000">
              <a:off x="2503800" y="241020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>
              <a:off x="540936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10796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252288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_s1037"/>
            <p:cNvSpPr/>
            <p:nvPr/>
          </p:nvSpPr>
          <p:spPr>
            <a:xfrm>
              <a:off x="252288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_s1038"/>
            <p:cNvSpPr/>
            <p:nvPr/>
          </p:nvSpPr>
          <p:spPr>
            <a:xfrm>
              <a:off x="68522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_s1039"/>
            <p:cNvSpPr/>
            <p:nvPr/>
          </p:nvSpPr>
          <p:spPr>
            <a:xfrm>
              <a:off x="540936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2"/>
            <p:cNvSpPr/>
            <p:nvPr/>
          </p:nvSpPr>
          <p:spPr>
            <a:xfrm>
              <a:off x="3649680" y="4184640"/>
              <a:ext cx="19548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zorgvraag van de zorgvrager is in kaart gebracht: wat wil je met hem bereik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pleegkundige diagnose is dus het uitgangspu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ormuleer concrete en meetbare doelen, evt. in samenspraak met de zorgvrag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el vast wanneer de doelen behaald moeten zij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doelen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eft duidelijkhei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osten bespar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voor voorbeelden kunnen we hierbij bedenk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aarom verpleegdoelen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: pg 104 boek: Maak opdracht 2, 3 en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ormuleer voor je zelf een leerdoel m.b.t. de opleiding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oet meetbaar  en concreet zij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oe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umba is een hulpmiddel om een doel kwalitatief goed te kunnen beoordele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= Releva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=Understand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=Measur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=Behavior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=Attain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riteria om een leerdoel vast te stellen: Rumba eis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van de gemaakte leerdoelen aan de hand van de Rumba eis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Afbeelding 3" descr=""/>
          <p:cNvPicPr/>
          <p:nvPr/>
        </p:nvPicPr>
        <p:blipFill>
          <a:blip r:embed="rId1"/>
          <a:stretch/>
        </p:blipFill>
        <p:spPr>
          <a:xfrm>
            <a:off x="5645160" y="4005360"/>
            <a:ext cx="2146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5-12-10T10:22:27Z</dcterms:modified>
  <cp:revision>85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