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7B7C2-4DCB-4DB4-9DCB-6EE04B07B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7D420-A6B4-4677-A0F2-FCD20880A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A8051-BC0E-4BE8-9376-E624DFC8F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418E6-09C3-4E36-8268-6BCC922E6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4B1A9B-6452-41F4-80ED-51A96B2052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3910C-2292-40CA-B587-AC20C029B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AFA31-C4A1-4B69-B675-79B6F053B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C1720-06B5-4076-962B-712887729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777C3-A85D-40E2-989E-DA6ADCC2E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2A971-C5E3-4990-87C5-FF1CED73C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758B7-CF3F-44A7-958E-4C4260A11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BC4C4-C3EF-4048-A35F-CC8212885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D645C-B247-4E7A-8959-AFAD811C0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6E0B5-038E-4983-8E18-7D447176E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B9032-5942-4083-AB22-096CEA756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C57191-F7D5-48F3-AFAC-01F5B17DDC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A12F2F-06F8-4F49-BB7F-2EB658FC5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528BA8-3B4B-4512-B04A-77C014281B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3137FF-3430-48C8-A6DC-5FFEA6657A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4813FD-F119-4193-8F17-6B69CA5B50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AEDE68-93ED-4932-9549-3D28F9E103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1B89E4-9ADC-4465-A18E-BD59624E11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0D653-9B43-4706-9C74-F7DFA136A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88813F-943B-4E4A-8C08-4E7C5F4710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921384-DE51-47D8-936A-E4BA4AF7D4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7D826B-68AD-43B2-98D8-6470BCA9B3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122DD9-BF19-41DA-B850-4641B54B8F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D2E88F-8343-4C69-909A-06F93B0A23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5EE590-E308-49C0-A1A7-25C5F9F5F7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353502-9629-48F2-AA5F-B2E4538E87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954118-11D8-421C-B552-22ED88FF16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09A927-A68F-480D-A9E4-A3D90139FA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4FD4AB-5979-43A4-B54A-58C45F4223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A6B16-2B21-443E-B78B-ADE4C2121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0B5535-4158-4099-B7D8-6AB7338862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0B5200-A792-4868-A403-33BA873316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6CFAEC-8BDD-4C6E-8219-AAFF677DA3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4BB971-A66E-4FE0-A31B-4C7CB5FE89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56864B-2F08-4D3E-B180-5066536A24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39DE8B-9BA9-40FD-814C-228F063102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AC6BFB-56DB-43C7-BC19-59AB17F637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E66964-A5FC-4300-8CB4-CB854F65B3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09C8A2-2AA6-4F1B-BE6F-290B293426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71DA5E-D2C8-46A3-AE7B-1DA22FBFDB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F6584-07C3-42C5-AB83-9987837FD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1684AC-746E-48F9-A867-195A557681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DA13E8-F872-47BB-A938-1F783CC262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0D5DCE-93CE-483A-A6F7-5F96089695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3442A9-DC33-45D6-B0AA-E4EAAB6984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137BBD-2E27-44A6-90B6-0A56781AC0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817087-D911-451D-A55F-4255EF6E7D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92E153-5AAD-4555-9D5B-6EC79A5628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14F38E-7F6C-4AAA-9CA0-00C4E97E03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4FC507-7FFF-4675-A5ED-6329D2E5B9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B8F15F-F12D-477B-ACB1-EED132B0BA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9F77F-6DD6-47CB-AC71-B6692A996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A6CDE1-A4A6-4CD2-824C-672120AADF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45CC31-362C-48E7-96C7-505CC60FFE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DBF021-49FC-471B-9880-F333189B19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9DC233-7189-4763-8014-0E54EE635D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9EEA86-3B36-4A42-AE86-18D1DC0079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CCE868-CFD7-4C62-A488-B37DE10E71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DFBE5B-3E43-410E-88F4-27DB3BF641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C26BB3-1AC7-4A4E-82F5-CCAE72A368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4A514B-BEB8-46B9-BEA7-F14A844777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AE5D22-EF26-47F7-8EB5-542F3B4217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E4034-8C6C-4850-AC0C-C4AB08B1A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7E842B-A446-416A-91A7-70C025ED71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4B0611-CE03-497F-90D8-9E1F48039A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A584B2-DD33-45D3-84CA-6E79914196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139F36-8C73-4A2E-87F1-8A69F9490D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222348-2E0A-4892-A6FA-353E3AF617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6345D9-107A-4D8C-8B03-5587F58E1F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199C2F-544A-4B59-B0E4-9CF6B49638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BCF9E0-5301-4619-A54E-546822CAAB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FF87B9-54AC-48BB-8B18-D2EF78EBA2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24E0E1-1F14-41D5-BF53-BB501864D0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DEE70-4C0D-4C7D-B049-A464618E7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E74D2E-E487-45DF-8C97-777B3B6767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D70F6E-3422-43A9-AAEF-309EFA6A26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3B820C-5CEF-4723-B4EA-FDCC7E7B91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8B198B-81AB-4CB2-97B8-AE69800F0C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CDDB36-5CEE-4A84-842A-C1054CBB2A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AB40F-4944-464C-8440-85AB43B59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E0C79-8418-4FCE-8130-F497F76FFA19}"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ABF42-BDED-4689-B45C-51CCBE4AA3A4}"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D6A5-75DD-451C-8427-3FCEE306648B}"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FE880-58AA-4C4F-94E6-19F1497FA96B}"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168E-5413-4115-B3AC-049A5EEC0360}"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4FDE-D7CE-46A9-90EF-9E257C0B4BAF}"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71F7-33DA-463E-8297-87AEA1165D57}"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871560" y="2674440"/>
            <a:ext cx="7408800" cy="3451320"/>
          </a:xfrm>
          <a:prstGeom prst="rect">
            <a:avLst/>
          </a:prstGeom>
          <a:noFill/>
          <a:ln w="0">
            <a:noFill/>
          </a:ln>
        </p:spPr>
        <p:txBody>
          <a:bodyPr anchor="t">
            <a:normAutofit/>
          </a:bodyPr>
          <a:p>
            <a:pPr marL="17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17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7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7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7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lkom!</a:t>
            </a:r>
            <a:endParaRPr b="0" lang="en-US" sz="4400" spc="-1" strike="noStrike">
              <a:solidFill>
                <a:srgbClr val="ffffff"/>
              </a:solidFill>
              <a:latin typeface="Candar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aak opdracht 2 en 3 van bldz 33</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abespreking in de les</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elfzorg= alle zorg die de mens nodig heeft om zinvol te kunnen leven(pg 4)</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kan dat allemaal zijn? Over welke gebieden spreken wij da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ormen van zor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lisme: gaat uit van de totale mens met de drie gebie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2400" spc="-1" strike="noStrike">
                <a:solidFill>
                  <a:srgbClr val="073e87"/>
                </a:solidFill>
                <a:latin typeface="Candara"/>
              </a:rPr>
              <a:t>-lichamelijk, geestelijk en sociaal welbevin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elfzorg is erop gericht bepaalde behoeften te bevredig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Pyramide van Maslow(pg 5)</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listische mensvisie in de verpleegkunige zor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elfzor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elfzorg tekor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antelzor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espijtzor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Professionele zor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Enkele begripp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aken opdracht 1 , pg 33</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abespreking in de les</a:t>
            </a: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ie is d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hankelijk van de instelling spreken we in de verpleegkunde over zorgvragers ook wel patiënten, cliënten of verstandelijk beperkten, bewone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l deze groepen mensen hebben gemeenschappelijk dat zij zorg nodig hebben</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jn veel typen zorgvragers. Er volgt nu een rijtje met de verschillende zorgvragers. Schrijf eens voor je zelf op waar en in welke instelling je die tegen zou kunnen komen(pg 34 boek)</a:t>
            </a: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pdrach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684360" y="1700280"/>
            <a:ext cx="7596000" cy="44258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Jeugdige zorgvragers: 0 – 18 ja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chirurgisch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chronisch ziek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revaliderend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eriatrisch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erminal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zorgvrager met een psychiatrische problematiek</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zorgvrager met een verstandelijke en of lichamelijke beper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categorieë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stellingen voor Preventie en voorlichting: Deze instellingen zijn bijv. de GGD of preventieve gezondheidscentra.</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oel: Zij richten zich op het voorkomen van ziekte, of het verergeren van een bestaande ziekte of aandoening. VB: (Reis) Vaccinaties, voorlichting over gezondheid bevorderend gedrag (SOA/ Roken/ Alcoho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opleiding tot verpleegkundige kent 2 kerntaken:</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1. het bieden van zorg en begeleiding in het verpleegkundig proces;</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2. Uitvoeren van organisatie- en professie gebonden ta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vindt jij dat je allemaal zou moeten kunnen als aankomende verpleegkundige? Schrijf voor je zelf eens op.</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Taakgebied en deskundigheid van de verpleegkundige</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Inleiding tot de verpleegkunde</a:t>
            </a:r>
            <a:endParaRPr b="0" lang="en-US" sz="4400" spc="-1" strike="noStrike">
              <a:solidFill>
                <a:srgbClr val="ffffff"/>
              </a:solidFill>
              <a:latin typeface="Candara"/>
            </a:endParaRPr>
          </a:p>
        </p:txBody>
      </p:sp>
      <p:sp>
        <p:nvSpPr>
          <p:cNvPr id="33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is verpleg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rmen van zorg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aakgebied en deskundigheid van de verpleegkundig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roepsprofiel en beroepscode</a:t>
            </a: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drach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chrijf eens voor je zelf op wat dit woord bij jou oproept. We bespreken dit na</a:t>
            </a:r>
            <a:endParaRPr b="0" lang="en-US" sz="2400" spc="-1" strike="noStrike">
              <a:solidFill>
                <a:srgbClr val="073e87"/>
              </a:solidFill>
              <a:latin typeface="Candara"/>
            </a:endParaRPr>
          </a:p>
        </p:txBody>
      </p:sp>
      <p:sp>
        <p:nvSpPr>
          <p:cNvPr id="3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at is verple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539640" y="1557000"/>
            <a:ext cx="7740720" cy="4568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ot het taakgebied van de deskundigheid van de verpleegkundige wordt gerekend:</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verrichten van handelingen op het gebied van observatie, begeleiding, verpleging en verzorging</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ingevolge opdracht van een beroepsbeoefenaar op het gebied van de individuele gezondheidszorg verrichten van handelingen in aansluiting op diens diagnostische en therapeutische werkzaamheden</a:t>
            </a:r>
            <a:endParaRPr b="0" lang="en-US" sz="2400" spc="-1" strike="noStrike">
              <a:solidFill>
                <a:srgbClr val="073e87"/>
              </a:solidFill>
              <a:latin typeface="Candara"/>
            </a:endParaRPr>
          </a:p>
        </p:txBody>
      </p:sp>
      <p:sp>
        <p:nvSpPr>
          <p:cNvPr id="34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De wet BIG geeft als definitie:</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verpleegkundige observeert, begeleidt, verpleegt en verzorgt, in opdracht van een arts, die een diagnose wil stellen en deze zorgvrager vervolgens wil behandelen.</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at is verple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g: Beroepen Individuele Gezondheidszor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ze wet heeft tot doel om de kwaliteit van de beroepsuitoefening in de Individuele Gezondheidszorg te bevorderen, te bewaken en de zorgvrager te beschermen tegen ondeskundig en onzorgvuldig handelen door beroepsbeoefenaren</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egistratie na de opleiding in de wet BIG geeft je het recht to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voeren van de titel van Verpleegkundig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Je bent dan </a:t>
            </a:r>
            <a:r>
              <a:rPr b="0" lang="nl-NL" sz="2400" spc="-1" strike="noStrike" u="sng">
                <a:solidFill>
                  <a:srgbClr val="073e87"/>
                </a:solidFill>
                <a:uFillTx/>
                <a:latin typeface="Candara"/>
              </a:rPr>
              <a:t>deskundig en bekwaam </a:t>
            </a:r>
            <a:r>
              <a:rPr b="0" lang="nl-NL" sz="2400" spc="-1" strike="noStrike">
                <a:solidFill>
                  <a:srgbClr val="073e87"/>
                </a:solidFill>
                <a:latin typeface="Candara"/>
              </a:rPr>
              <a:t>om te werken als verpleegkundige en daardoor </a:t>
            </a:r>
            <a:r>
              <a:rPr b="0" lang="nl-NL" sz="2400" spc="-1" strike="noStrike" u="sng">
                <a:solidFill>
                  <a:srgbClr val="073e87"/>
                </a:solidFill>
                <a:uFillTx/>
                <a:latin typeface="Candara"/>
              </a:rPr>
              <a:t>bevoeg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Candara"/>
              </a:rPr>
              <a:t>Beroepsmatig verplegen </a:t>
            </a:r>
            <a:r>
              <a:rPr b="0" lang="nl-NL" sz="2400" spc="-1" strike="noStrike">
                <a:solidFill>
                  <a:srgbClr val="073e87"/>
                </a:solidFill>
                <a:latin typeface="Candara"/>
              </a:rPr>
              <a:t>is het herkennen, analyseren, alsmede advies en bijstand geven ten aanzien van feitelijke of dreigende gevolgen van lichamelijke en of geestelijke ziekteprocessen, handicaps, ontwikkelingsstoornissen en hun behandeling voor de fundamentele levensverrichtingen van het individu</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Definitie van verplegen door Commissie Verpleging nationale raad voor de volksgezondheid:</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pleegkundige handelen houdt tevens in het zodanig beïnvloeden van mensen, dat menselijke vermogens worden benut met het oog op het in stand houden en bevorderen van de gezondheid</a:t>
            </a: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2T13:58:38Z</dcterms:created>
  <dc:creator>LMARTIJN</dc:creator>
  <dc:description/>
  <dc:language>en-US</dc:language>
  <cp:lastModifiedBy>A.R. Niemeijer</cp:lastModifiedBy>
  <dcterms:modified xsi:type="dcterms:W3CDTF">2015-09-02T17:36:44Z</dcterms:modified>
  <cp:revision>71</cp:revision>
  <dc:subject/>
  <dc:title>Maken verpleeg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