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488E-3854-490E-A889-A870FB7C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DE08-EA41-41E6-932B-35E10142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755C-8C46-41DD-BD1A-50370CFF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68F-A938-481F-A52F-E495F3F2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9FC8-E82A-4C9F-853D-3E0CE10B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170A-3149-4F7A-82AC-2A1A6922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42C4-AC72-4A2D-B998-75574EBC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46A6-70D4-4A46-8400-A97B9E6F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7250-F880-4B54-8096-8BBC5300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D20B-7972-4C8D-84F6-A9452B2F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BC64-5488-4324-9AB3-B37F4648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3A7-D7FD-47F3-BBAC-7B62E9C1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BE34-2009-4EB2-8468-58576503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60EC-ADC3-4318-B229-1BB67741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DF2D-6556-4D7B-8929-0D2DE7FF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E63C-07AA-43A5-979C-0AF3F6FD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D348-34ED-4BC6-8DEC-493EC3C0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406F8-9DB2-465C-BF45-CC47B9A1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92245-56AC-43C7-A156-C3FF7D19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0036A-4259-458B-B713-D0D8DBDD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31596-8930-48B5-8C9E-6FCF7DD2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54EE4-8429-41F7-858C-B48B4F18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803E-53B6-4DFD-857F-2BD6597E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FF2A5-20AB-48BB-9E2F-1A6D45EE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9A2E0-0AFE-4551-878D-BA411AF7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0766D-F2EF-4933-85D2-B284C779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9D0E1-8378-4E65-91B5-993F807F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3631A-A7F0-4659-96F8-9B43E477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481ED-0004-4C01-B032-6F23C07D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14280-4F8E-45DE-BE07-4C5939FC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822D3-1639-4C0E-8605-C60795FD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F350F-D867-4C4F-9499-1599574F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CA61E-AE82-49AB-98EF-E59468FB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B15-238A-46CF-AD40-A49284D3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82720-8C8F-416C-B202-AAF60E9D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C6719-B479-4E0D-92CC-155D553B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A3494-BBCE-4F15-A615-94E93531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AE3AE-E5BD-44EB-BB9C-88F3FBDA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39B4C-05A3-4AA6-B1F0-EF47EFF8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9D057-1032-461C-A99E-8D4F45A9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C33ED-2F07-4B25-A83A-AA2E0AB9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7431F-5BF2-43CF-BC85-CF6DC60A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F301C-FE93-4237-A32D-0558B655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7CCF1-C852-4323-89F0-ED784A5F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A40-3E81-4809-B3B0-E0391908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2A951-9A4A-4F08-BE3F-29D26D5B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F238E-5EAB-4199-9E35-DEE53407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F5573-6419-4CE5-9C63-30F5A46D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F822D-C683-45E1-A624-C2C0F079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B16A2-A1D6-4751-A8B7-FF2F446B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BEF8C-2EBA-488B-BDD0-F7551ACF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79F55-7951-43A0-B0D0-B1756A44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81524-2673-41FE-9EFE-799AB6FF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50B66-3B22-487E-A1CE-CB1FC294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C6727-D6A5-4B33-930D-1959E18B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688A-1F50-45EE-B03F-85D71B01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6694C-8E15-4991-B9D3-05F44EF1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5CC4B-3E69-46C8-8A56-C3DA3AD8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8AC4C-FF12-4EEE-B322-6D1D92FC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CF296-3676-41E2-97B4-983A7FB1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BD213-0712-4329-B616-25767FF0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C41A0-2313-438B-B09D-1EE6B546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2E9CF-6753-4116-A2C0-33211C2C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ACBE9-B8B2-48FE-9067-F077E99B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795EC-404D-4503-9C09-1CE86609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71608-9586-48B1-A4C2-1208E8F1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58D5-2085-440E-9C2D-0A9554AA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018BD-59E4-4A9D-942C-4FFE7ECA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F11B5-A9BC-46E7-A47F-94AFD0F7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AC605-7D5C-45D6-95BA-8AA74DE3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076FB-8025-439D-9075-5E53DAD8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57248-F8E8-4292-AFCD-B60B86C1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3246A-FBF1-4613-8BAE-C4622653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14F0C-55ED-4D81-9C77-D26802AD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B03A1-9D7E-4687-99FF-9C9452DE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CBABB-ABAB-4287-A2B2-394DFDE9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1980A-5280-44B9-9E8B-382D97FA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B1FE-E993-4BC7-894F-D45B90A7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592C5-EE61-4F3E-AF57-341A1F36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8BA89-C0D8-4656-90BA-C9DF5FBA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0F11E-3DE9-44B3-939B-F912E2BC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189B4-AADE-4925-B38A-3E19D89C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59C2A-668E-42F2-AFD2-9A7441D1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2163-CCB3-4A5B-B1B4-65DDA982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1C7F-F929-44F8-934F-F122CAADB738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3906-5CAB-48F0-B9AE-CD3C195C0C79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DFC0-3292-4E05-BAD5-6E8ACCE15685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7EE9-4DEF-427C-A976-C894629D85E6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64EB-9CFD-42DD-ABE9-235A50DFD86D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8972-5F6A-4EEF-A61F-914AEF697491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96A0-FD56-42D5-A676-E1166BA08AD6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503520" y="2421000"/>
            <a:ext cx="3052800" cy="3051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erpleegdoelen vaststelle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338" name="Tijdelijke aanduiding voor inhoud 3"/>
          <p:cNvGrpSpPr/>
          <p:nvPr/>
        </p:nvGrpSpPr>
        <p:grpSpPr>
          <a:xfrm>
            <a:off x="1079640" y="2568600"/>
            <a:ext cx="6992640" cy="3663000"/>
            <a:chOff x="1079640" y="2568600"/>
            <a:chExt cx="6992640" cy="3663000"/>
          </a:xfrm>
        </p:grpSpPr>
        <p:sp>
          <p:nvSpPr>
            <p:cNvPr id="339" name="_s1028"/>
            <p:cNvSpPr/>
            <p:nvPr/>
          </p:nvSpPr>
          <p:spPr>
            <a:xfrm>
              <a:off x="2938680" y="2933640"/>
              <a:ext cx="3274560" cy="1525320"/>
            </a:xfrm>
            <a:custGeom>
              <a:avLst/>
              <a:gdLst>
                <a:gd name="textAreaLeft" fmla="*/ 0 w 3274560"/>
                <a:gd name="textAreaRight" fmla="*/ 3274920 w 327456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_s1029"/>
            <p:cNvSpPr/>
            <p:nvPr/>
          </p:nvSpPr>
          <p:spPr>
            <a:xfrm rot="3600000">
              <a:off x="5123160" y="2410920"/>
              <a:ext cx="1525320" cy="3274560"/>
            </a:xfrm>
            <a:custGeom>
              <a:avLst/>
              <a:gdLst>
                <a:gd name="textAreaLeft" fmla="*/ 0 w 1525320"/>
                <a:gd name="textAreaRight" fmla="*/ 1525680 w 1525320"/>
                <a:gd name="textAreaTop" fmla="*/ 0 h 3274560"/>
                <a:gd name="textAreaBottom" fmla="*/ 3274920 h 32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_s1030"/>
            <p:cNvSpPr/>
            <p:nvPr/>
          </p:nvSpPr>
          <p:spPr>
            <a:xfrm rot="7200000">
              <a:off x="5122800" y="3115080"/>
              <a:ext cx="1525320" cy="3274560"/>
            </a:xfrm>
            <a:custGeom>
              <a:avLst/>
              <a:gdLst>
                <a:gd name="textAreaLeft" fmla="*/ 0 w 1525320"/>
                <a:gd name="textAreaRight" fmla="*/ 1525680 w 1525320"/>
                <a:gd name="textAreaTop" fmla="*/ 0 h 3274560"/>
                <a:gd name="textAreaBottom" fmla="*/ 3274920 h 32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_s1031"/>
            <p:cNvSpPr/>
            <p:nvPr/>
          </p:nvSpPr>
          <p:spPr>
            <a:xfrm rot="10800000">
              <a:off x="2938680" y="4341600"/>
              <a:ext cx="3274560" cy="1525320"/>
            </a:xfrm>
            <a:custGeom>
              <a:avLst/>
              <a:gdLst>
                <a:gd name="textAreaLeft" fmla="*/ 0 w 3274560"/>
                <a:gd name="textAreaRight" fmla="*/ 3274920 w 327456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_s1032"/>
            <p:cNvSpPr/>
            <p:nvPr/>
          </p:nvSpPr>
          <p:spPr>
            <a:xfrm rot="14400000">
              <a:off x="2503440" y="3114720"/>
              <a:ext cx="1525320" cy="3274560"/>
            </a:xfrm>
            <a:custGeom>
              <a:avLst/>
              <a:gdLst>
                <a:gd name="textAreaLeft" fmla="*/ 0 w 1525320"/>
                <a:gd name="textAreaRight" fmla="*/ 1525680 w 1525320"/>
                <a:gd name="textAreaTop" fmla="*/ 0 h 3274560"/>
                <a:gd name="textAreaBottom" fmla="*/ 3274920 h 32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_s1033"/>
            <p:cNvSpPr/>
            <p:nvPr/>
          </p:nvSpPr>
          <p:spPr>
            <a:xfrm rot="18000000">
              <a:off x="2503800" y="2410200"/>
              <a:ext cx="1525320" cy="3274560"/>
            </a:xfrm>
            <a:custGeom>
              <a:avLst/>
              <a:gdLst>
                <a:gd name="textAreaLeft" fmla="*/ 0 w 1525320"/>
                <a:gd name="textAreaRight" fmla="*/ 1525680 w 1525320"/>
                <a:gd name="textAreaTop" fmla="*/ 0 h 3274560"/>
                <a:gd name="textAreaBottom" fmla="*/ 3274920 h 32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_s1034"/>
            <p:cNvSpPr/>
            <p:nvPr/>
          </p:nvSpPr>
          <p:spPr>
            <a:xfrm>
              <a:off x="5409360" y="295164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.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egevens vezamele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_s1035"/>
            <p:cNvSpPr/>
            <p:nvPr/>
          </p:nvSpPr>
          <p:spPr>
            <a:xfrm>
              <a:off x="1079640" y="411588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itvoeren van interventies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_s1036"/>
            <p:cNvSpPr/>
            <p:nvPr/>
          </p:nvSpPr>
          <p:spPr>
            <a:xfrm>
              <a:off x="2522880" y="295164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valueren van zor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_s1037"/>
            <p:cNvSpPr/>
            <p:nvPr/>
          </p:nvSpPr>
          <p:spPr>
            <a:xfrm>
              <a:off x="2522880" y="528048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.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annen van interventies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_s1038"/>
            <p:cNvSpPr/>
            <p:nvPr/>
          </p:nvSpPr>
          <p:spPr>
            <a:xfrm>
              <a:off x="6852240" y="411588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. Zorgproble-men vaststellen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_s1039"/>
            <p:cNvSpPr/>
            <p:nvPr/>
          </p:nvSpPr>
          <p:spPr>
            <a:xfrm>
              <a:off x="5409360" y="528048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.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palen van doele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Text Box 2"/>
            <p:cNvSpPr/>
            <p:nvPr/>
          </p:nvSpPr>
          <p:spPr>
            <a:xfrm>
              <a:off x="3649680" y="4184640"/>
              <a:ext cx="1954800" cy="215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et zorgproces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e zorgvraag van de zorgvrager is in kaart gebracht: wat wil je met hem bereiken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pleegkundige diagnose is dus het uitgangspun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Formuleer concrete en meetbare doelen, evt. in samenspraak met de zorgvrag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tel vast wanneer de doelen behaald moeten zij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erpleegdoelen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Geeft duidelijkhei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inuïtei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Kosten bespar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at voor voorbeelden kunnen we hierbij bedenken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Waarom verpleegdoelen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Opdracht: pg 104 boek: Maak opdracht 2, 3 en 4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bespreking in de l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Formuleer voor je zelf een leerdoel m.b.t. de opleiding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oet meetbaar  en concreet zijn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Hoe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Rumba is een hulpmiddel om een doel kwalitatief goed te kunnen beoordelen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R= Relevan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U=Understandabl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=Measurabl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=Behaviora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=Attainabl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Criteria om een leerdoel vast te stellen: Rumba eise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bespreking van de gemaakte leerdoelen aan de hand van de Rumba eis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4" name="Afbeelding 3" descr=""/>
          <p:cNvPicPr/>
          <p:nvPr/>
        </p:nvPicPr>
        <p:blipFill>
          <a:blip r:embed="rId1"/>
          <a:stretch/>
        </p:blipFill>
        <p:spPr>
          <a:xfrm>
            <a:off x="5645160" y="4005360"/>
            <a:ext cx="21463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3:58:38Z</dcterms:created>
  <dc:creator>LMARTIJN</dc:creator>
  <dc:description/>
  <dc:language>en-US</dc:language>
  <cp:lastModifiedBy>A.R. Niemeijer</cp:lastModifiedBy>
  <dcterms:modified xsi:type="dcterms:W3CDTF">2015-12-10T10:22:27Z</dcterms:modified>
  <cp:revision>85</cp:revision>
  <dc:subject/>
  <dc:title>Maken verpleeg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