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0A8-F8E8-41FA-9D5C-9713F8E6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DF3-FFD2-41E2-878A-AAD282BB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83A-7F07-48ED-809A-65C15661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3FE-9D2F-440C-85FF-48C5753F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A35-401D-4152-98E6-6BC34B51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8ACE-9BAE-4906-A2FF-E5C3F8D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5E4A-F9AF-4C40-8BA2-2473A6E2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8676-E074-4C00-94F3-88897C4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D953-FF42-497C-8290-B6FA32F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61AB-C2C7-4CA8-B9B7-64C2C3C8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42E6-C3B1-4FB5-ACD3-084F427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1B9-5DED-41E8-BEB8-9FA0A1B2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55E1-E4FB-4AAA-A3B4-A6E2F19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8EE1-6BEF-4B20-82FA-726261D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ED21-84D9-45B4-A340-3C70650C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5A3F-028C-462E-B0EA-6F07F57B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0F0D-87EE-469F-B8F2-EFDC8471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4D3B-D3F9-49BD-A560-65CF48FF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BFC4-3EC0-4483-865E-2CFD2923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029D-2A2D-4726-9BEA-8E053725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F2B9-4825-4951-9BC6-657BA0D7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A59D-3FA5-47AB-9A11-9668B7BD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8BB-A338-416E-B67D-4685BF9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ABFE-1D77-46DC-A072-605D6F8B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9981-D51C-4098-A1F9-96E22CD3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982F-2A4C-49FB-874F-77A7735C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249D-DCC8-4984-971B-2BDDCEFA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7E4D-1557-4049-9B36-54E326D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555B-4526-4399-8136-D134EC4C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C365-42CA-4FBD-AE3A-6D45AB4D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C79A-490F-4C11-97C2-13B4B5BA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7B6C-0027-431F-B0F1-9D20F208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644E-E037-434E-AAE3-0E2F695A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833-BCB7-4640-8CBE-35AAF50C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00EF-FFF8-40D8-BD96-211EB08C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8CBE-E7E5-48A7-80D5-5E4C93B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3074-BF00-4B0E-9B65-AE5260D2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3116-8F4C-4494-AC07-5B932224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15182-B18C-465E-97F3-44E4B73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49D9-32AC-466C-BFF5-623D4B5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C736-7C5D-45D3-AEAB-DFD21CD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E6A9-C02E-461C-A69B-A61029F2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B4D83-B0BB-4C94-A3E9-4271966F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8216-D3C9-409A-A2DD-FC4FF95A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D9D-2D66-45C3-960C-1FB0BA9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6A35-F78F-4692-A1D2-545F8C5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8E21-A0A6-40AB-A745-3564528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0BA11-6B5F-422F-8847-F3331785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62586-E349-4919-B7A6-D1B013E2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8669D-ED26-4381-81A8-E42C9CE1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C9E04-5EA1-45E0-AAAA-B1C225A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074B-4947-4929-8468-18861C98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DFC9-8670-4BE3-86CD-DF399B11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47AC-F839-4543-9BFF-A4D0DC07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656C-0C9A-46F8-A69B-C12A71E4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5AD-B1FE-4249-9A68-8257B44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C43B-73F6-4E29-A0C2-1D191C36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88C99-12D0-472B-B21C-082B8F5F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3FAF-804B-42AF-BD12-8BF2F7F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2D222-89D0-4B7A-9879-644749F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DE89-AAB9-4BA5-B54A-08436163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AD8C-E349-4294-959E-4F881390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2D4F-BB85-4AC4-966C-F765CC1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A9B3-835A-4EB1-81CD-EB1691D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A96B-BAC2-444A-89F7-49C5469F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5D6E-5EE3-4F53-A95D-FFD8B64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578-D3AE-48DF-B4C2-F1D23B3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72165-7D47-47D0-9ADC-87B47F26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62A05-894A-4BDB-AC1C-579B3BB9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FCBAD-EF20-4569-A70B-30817A10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B5F8-75B7-42BB-86C1-E926491E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4D451-32ED-4316-AC3D-65B06523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A9CC-C766-48C1-A03E-2565B363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85440-ADFB-4DFC-B906-B6C5FC3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50C05-066A-403C-B2F6-6564BA3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488E8-DFCB-4A50-8852-B6D9F60B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29BD-3D2D-4651-9287-97E2075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3ED-293E-4627-BA87-496EF59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DF1B5-53A5-4E0D-977C-AB5619C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65D8-FB4F-4D66-9833-143A853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1B8C-B36B-424C-BBF1-423B8101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F447-E186-4F4B-8E4E-3DB830F3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A68AB-3F76-4695-AA9A-2847CF24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545-0895-4A25-BB82-88447CA2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DD3-EEC1-4D8C-A1AE-A22E2D48E72B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2A0B-CD99-4E00-BBE5-E6A850B10855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712-316C-40D7-9F95-FB6A51F9CB02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25F7-13D9-46E1-AE0B-E1949D0E8EC4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E241-E6A4-46C4-A54C-82372B2E8EEA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E4B3-67B1-429B-8D4A-341BEE9AABD9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A3D-3124-444F-9EE2-824A957EC4B2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503520" y="2421000"/>
            <a:ext cx="3052800" cy="3051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ordinatie en Continuiteit van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die gegeven wordt met overlappingen zonder onderbrekingen of hiate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vrager kan er vanuit gaan dat iedereen die bij de zorgverlening betrokken is, op de hoogte is van zorgbehoeften, beoogde doelen, resultaten en veranderi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langrijke taak voor de VPK om dit te bewaken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ntuiniteit van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ussen de dienst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trokken Disciplin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delingen(overplaatsing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schillende zorg verlenende instanti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ij ontslag naar hu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oe zie je contuiniteit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1471680" y="2743200"/>
            <a:ext cx="6210360" cy="3314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ntinuiteit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etenzorg= De Zv staat centraal en de verschillende instanties bieden samenhangende op elkaar afgestemde zorg. Bijv. bij zelfstandig wonende dementerenden en hun naasten die veelvuldig gebruik maken van de zogn.“ketenzorg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naar een andere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bij het verlaten van de instelling: huisarts en thuiszorg geïnformeer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leven: bij Chronisch Zieke zorgvrager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meer alleen continuïteit van zorg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de beroepsgroep bewaken: bijdrage aan deskundigheidsbevorder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aakgericht verpleegsyste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vrager gerichte verpleegsystem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engvormen: kamertoewijz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         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nitverpleg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systemen, hfdst 21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26920" y="1700280"/>
            <a:ext cx="7453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73e87"/>
                </a:solidFill>
                <a:latin typeface="Candara"/>
              </a:rPr>
              <a:t>Taakgerichte verpleegsystem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werk en de organisatie staan centra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schil in uitvoerende taken in algemene zin en de Voorbehouden en Risicovolle Handeli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73e87"/>
                </a:solidFill>
                <a:latin typeface="Candara"/>
              </a:rPr>
              <a:t>Voordeel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inancieel voordelig voor een organisati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kelijk uitvoerba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Leidinggevende is verantwoordelijk: aanspreekpu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system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delen taakgericht systee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v heeft met veel mensen te ma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r kan veel gemist worden door de VPK, geen totaalbeeld van de Zv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ie is eindverantwoordelijk? Niet altijd dui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outine matig en saa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Teamverpleging: Voordel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v staat centra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aste samenstelling van de Zv met de VP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goed in te plann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wordt gewaarborg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varieerd werd, dus uitdagend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pk kan veel leren op verschillende gebieden(somatiek/psychisch/sociaal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vrager gerichte verpleegsystemen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Interventi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38" name="Tijdelijke aanduiding voor inhoud 3"/>
          <p:cNvGrpSpPr/>
          <p:nvPr/>
        </p:nvGrpSpPr>
        <p:grpSpPr>
          <a:xfrm>
            <a:off x="1079640" y="2568600"/>
            <a:ext cx="6992640" cy="3663000"/>
            <a:chOff x="1079640" y="2568600"/>
            <a:chExt cx="6992640" cy="3663000"/>
          </a:xfrm>
        </p:grpSpPr>
        <p:sp>
          <p:nvSpPr>
            <p:cNvPr id="339" name="_s1028"/>
            <p:cNvSpPr/>
            <p:nvPr/>
          </p:nvSpPr>
          <p:spPr>
            <a:xfrm>
              <a:off x="2938680" y="293364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 rot="3600000">
              <a:off x="5123160" y="24109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 rot="7200000">
              <a:off x="5122800" y="311508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 rot="10800000">
              <a:off x="2938680" y="434160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 rot="14400000">
              <a:off x="2503440" y="31147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 rot="18000000">
              <a:off x="2503800" y="241020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>
              <a:off x="540936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10796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252288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_s1037"/>
            <p:cNvSpPr/>
            <p:nvPr/>
          </p:nvSpPr>
          <p:spPr>
            <a:xfrm>
              <a:off x="252288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_s1038"/>
            <p:cNvSpPr/>
            <p:nvPr/>
          </p:nvSpPr>
          <p:spPr>
            <a:xfrm>
              <a:off x="68522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_s1039"/>
            <p:cNvSpPr/>
            <p:nvPr/>
          </p:nvSpPr>
          <p:spPr>
            <a:xfrm>
              <a:off x="540936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2"/>
            <p:cNvSpPr/>
            <p:nvPr/>
          </p:nvSpPr>
          <p:spPr>
            <a:xfrm>
              <a:off x="3649680" y="4184640"/>
              <a:ext cx="19548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Teamverpleging Nadel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altijd duidelijk wie eindverantwoordelijk 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nderlinge afhankelijkheid van het tea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inig ruimte voor individuele verantwoordelijkhei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rst verantwoordelijke verpleegkundige of senior verpleegkundig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oordelen: Voldoening en motivatie van de VPK/ band met de ZV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rst verantwoordelijke heeft overzicht èn verantwoord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ördinerende rol; bewaker van de continuïte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uidelijk aanspreekpunt voor de zorgvrag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Primary Nurs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900000" y="26370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Nadelen Primary Nursing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ij grote over flow(veel kortdurende opnames) niet eenvoudig te organiser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dividuele verantwoording is groot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lasting van het team moeilijker te verdel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el deskundigheid van de VPK wordt gevraag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an een negatieve band met Zv ontstaa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amertoewijz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nit verpleg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Mengvorm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32000" y="1932120"/>
            <a:ext cx="3135600" cy="3135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is coördinatie? = In de verpleegkunde: het ‘regelen’ van 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doen je da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= Zorgdragen voor de continuïteit van de zorg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oe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ördinatie van Zorg is zorgen dat de zorg van een zorgvrager doorgang kan vinden die past bij de behoeften van de zorgvrage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ol van de VPK: Coördinerende taken, bijv. contact andere disciplin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aagt specifieke competenties(kennis, houding en vaardigheden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eiste Competentie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aansturen, samenwerken, overleggen, plannen en organiser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ördinatie: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508040" y="2674800"/>
            <a:ext cx="6135840" cy="34513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Samenwerken, hoe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99640" y="1989000"/>
            <a:ext cx="7380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egeling afstemming tussen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ntel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Professionele 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van andere hulpverlen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schrijven in het zorgplan of verpleegpla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ociale kaart van Zorg verlenende instanties Regi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ördinatie van 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340000" y="1758960"/>
            <a:ext cx="5761080" cy="31989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oorbeeld Sociale Netwerkkaar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oorbeeld netwerkkaart Verslavings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2" descr="http://www.vitalevaten.nl/uploads/pics/E5-01.png"/>
          <p:cNvPicPr/>
          <p:nvPr/>
        </p:nvPicPr>
        <p:blipFill>
          <a:blip r:embed="rId1"/>
          <a:stretch/>
        </p:blipFill>
        <p:spPr>
          <a:xfrm>
            <a:off x="1763640" y="2108160"/>
            <a:ext cx="43927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6-01-20T08:36:40Z</dcterms:modified>
  <cp:revision>115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