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8EB-0BF4-444A-9FB5-0B6BF354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6BB-D33B-4089-9B74-D84AE727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16B-079D-4DC6-B151-41B7E318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5B4-F848-4CCB-A2ED-B3B22DDD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CFFA-BE20-46F8-97C7-27EB0B5E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EF23-073B-41D3-9103-EDACB7F7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131C-92B8-48A3-87F0-B5FFC588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DFF0-5991-4F01-A058-CE8A8722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C59E-AC09-4B90-8440-A1E0B267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D053-AEA2-4540-99DA-BF6BD0A6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E678-407A-49E2-B47A-91C55513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ECB-4936-4137-A626-3F6023F4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4D81-2964-4D8F-870F-48E01E01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DFD2-B8B1-4519-9A78-94811EB3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3F55-5B69-4252-92B2-C6D92CC8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07C6-8DF7-40B6-A802-7CAD5E3F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3563-D8F1-4727-B199-91874180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D2ECF-C29A-46C7-9C7F-F71166CF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F3B59-CFF5-41C9-AF8A-38DA80CA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10666-128C-4ABB-A47E-DC7A7518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49011-8586-4E30-B28B-34C739C2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0ACCD-705C-4BA8-8606-6504ED8E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EEB-1EC4-4734-AF0B-F90D88CB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F0B0A-5C8A-485F-80FC-6EBA642E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0D74-24B1-4F37-BF86-AC8E1932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1867B-254D-4C35-BC0C-DADA0235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41E10-CEA5-4129-B1E7-56CEEB0A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A64E5-2EF9-49E6-BA67-2534F629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AAFCE-436A-4615-91DF-D6B43307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0918-3CC0-4D0A-B233-45FF1B8E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10F68-B4B7-46D2-8694-B112F416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636A5-94B3-4E99-8421-3E8883B7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68EBE-9F83-4D3D-B29F-8493B1CD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B2C-4A12-4A44-9B14-1FFC0D9E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F7915-6C23-49C3-94FB-A1D72F0D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E09E3-DD97-45AE-B58B-20978011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58445-344F-49DC-BDF0-772564FB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64A4B-A7B9-49A4-8F12-CE695C34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24E1C-58FD-4072-9687-A2506236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CE38A-8EB9-4F62-B465-099F0F31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02449-A12C-423D-A084-92F8EB6A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78E62-1F3A-44BC-9715-3F3979C9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6AED8-98D7-4E3B-9084-FDC826D0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B38B6-B374-479A-8868-C037E519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214-29E9-486F-994A-4DC3FA50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46046-5AA5-46BF-A5B8-7677CCB0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0EC99-84DA-4E24-8248-319D5138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54917-C178-49D5-A9FC-AD3EA594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0F7E7-6E6B-498F-92B7-F9046145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70B9B-ECE4-4655-883B-10925D47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8E808-1D84-4271-8A81-92962EAD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289BC-5BD2-40B9-919A-C5D90D1A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BFC70-D203-4706-A86F-69DD37ED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27337-9D15-4F2E-A898-4B161A39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086A7-C1D7-4870-BC7E-67597502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45D-6660-483A-B003-F5A8F502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412BA-34BC-4A97-B381-79DA3156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BEA2E-9227-4E93-93E7-CA16EE30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BBAA5-7168-40CC-952E-1B2796FE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3AFC3-5F95-430E-9E0E-18291E0B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0357A-2320-496E-B338-FFC387C9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82B38-870F-43F8-AE71-7D96641F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0F6A2-608B-4595-A181-CD8873B3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D9ED4-E92A-4554-A5E5-70E3A8C2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397ED-3738-4E00-A4FC-B4DEBAD7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5DF75-7FEF-46E7-8F8F-50C1711E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9FB-F5FF-4024-B857-2C35F05D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6FB22-1512-4C00-AE2A-E274D62C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F0F0B-6CC0-4224-9918-A15E5738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5A193-DB83-485F-A228-1EC373BE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31AE3-2298-4CAB-9A1B-9E315308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9CC12-6344-44F8-9526-BF182B37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2C8CF-C647-4A4F-9A93-B4F760D6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9132F-CA1D-4A43-BCFE-1EE0511C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BC549-534D-40DC-A520-34C4589A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3945F-4584-40C1-A355-AAFA210C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AFEDE-D06A-4CBC-9BA7-4D8BDA96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A08-A550-4578-B2D7-951F6E42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C5058-22FB-4471-ABAB-F4AAA3DF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9AF4F-A76C-4BE1-B4BB-1F5CEC32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67952-079E-46AA-BD53-15FD5999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E7B39-6BCD-452C-AF93-6F999F52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31648-5611-4D70-95FA-98CC2235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991-6B5D-4EB7-AD90-0EE253A5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2940-0571-47C7-A454-4EECEB833522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D2B7-C300-4D1E-8016-E8A725527FB1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8F2B-61F4-43CC-9C8A-94D4EEB15D74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DB5D-0074-40A1-9BBE-DB844C28D0B7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0A87-AD2E-4BFC-95E0-6B2319ED4575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26CB-C6F3-4DF4-B993-7D42E0A1667D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C324-36E0-41F8-8FBE-0CE018464D2F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at gaan we doen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Taakgebied en deskundigheid van de verpleegkundig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beroepsprofiel en beroepscode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Welkom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Opdracht: pg 36, vraag 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oem drie gedragsregels uit de beroepscode die volgens jou belangrijk zijn voor de verpleegkundige beroepsuitoefening. Bespreek dit met een mede stude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bespreking in de l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Het beroepsprofiel en de beroepsco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4360" y="1773000"/>
            <a:ext cx="75960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 opleiding tot verpleegkundige kent 2 kerntaken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1. het bieden van zorg en begeleiding in het verpleegkundig proces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2. Uitvoeren van organisatie- en professie gebonden ta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at vindt jij dat je allemaal zou moeten kunnen als aankomende verpleegkundige? Schrijf voor je zelf eens op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aakgebied en deskundigheid van de verpleegkundig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het kwalificatiedossier  MBO verpleegkundige staan allerlei kwaliteiten beschreven die jij als verpleegkundige moet bezitten. Zoek de site op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ier staan 12 kwaliteiten. Lees dit eens rustig doo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ak in tweetallen vervolgens opdracht 7, pg 35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bespreking tijdens de l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BO –V 5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BO-V 4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ende IG 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lpende Zorg en welzijn 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hulp 1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Wie zijn er werkzaam in de gezondheidszorg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isciplines: andere beroepen zoal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Fysiotherapeu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r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especialiseerde arts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rgotherapeu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Logopedis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ieetis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t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Wie zijn er werkzaam in de gezonheidszor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lgemeen ziekenhu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V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GZ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ehandicapten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ezondheidszorgcentra(huisart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De werkveld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lk werkveld spreekt jou het meeste aa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ak opdracht 8, pg 35 uit het boe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bespreking in de l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755640" y="270792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 verpleegkundige heeft een groot werkveld en is werkzaam binnen verschillende gebieden. Wij noemen dit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tramuraal: zorg binnen een instel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emimuraal: gedeeltelijke zorg binnen een instel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Transmuraal: meerdere hulpverleners bijv in de thuis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xtramuraal: zorg buiten de muren van een instel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edenk een voorbeeld per setting/werkveld en welke type zorgvrager je tegen kunt komen per gebied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Opdracht 6, pg 35 nabespreken in de l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Opdracht 7: zoek via de website Calibris de 12 kwaliteiten op. Deze info heb je nodig om opdracht 7 te maken, pg 34, boe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3:58:38Z</dcterms:created>
  <dc:creator>LMARTIJN</dc:creator>
  <dc:description/>
  <dc:language>en-US</dc:language>
  <cp:lastModifiedBy>A.R. Niemeijer</cp:lastModifiedBy>
  <dcterms:modified xsi:type="dcterms:W3CDTF">2015-09-14T12:52:22Z</dcterms:modified>
  <cp:revision>78</cp:revision>
  <dc:subject/>
  <dc:title>Maken verpleeg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