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12A853-9EF5-4ACF-B51F-03D3A1D8E9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FE9C8-901D-415F-AA17-7CF469702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B31A03-858C-415B-AA74-D4658F423D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8DCA86-2C61-4D6D-A3C3-F7645EF4D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F8C080-81E2-4A68-9A52-384CE44F61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5943A-D883-4340-AC15-4A57E4E009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B96025-DA6B-4B41-A3EF-9217146758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629324-9240-4691-BFDB-3084FD4AC0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B492A7-12A2-4BF8-864E-B13726B62D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822D5A-DCDC-4129-80DC-864D3B505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0DADB-584E-4AFF-9811-2E77E4E9B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5AA02-7F04-438B-8A69-EC0D88769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9E17B-F56E-4EF6-B3F6-BCC192C64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E4333-4C08-4F37-B487-685E391F1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45F47A-6CBA-480B-919D-6EAA5290BF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5C10B7-1A6E-4C20-ACD1-6733525A5A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0682D1-C3FC-44C8-91CA-CC66F9518B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6AE212-7D32-425D-B225-D35CABC77E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DBEAA1-93A3-44F2-80DB-85B9C07E44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A36B0A-7E3D-4EEC-A33D-8F025CC91E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F3102F-28E6-4567-9DF1-E202F2F143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9819EE-D9E4-4FF9-8460-2F50FD6C53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23D9F-F693-4469-B1FF-08B5160F5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40E49C-169E-443E-957D-001105FA5E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831EDD-5BAF-4A7C-BCB9-171A003191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CA4D20-5302-4330-9F9D-DFADF8575A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B83076-D03D-465C-8DD5-7C50599737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D89323-43E5-47B8-A21C-CD3E51AACA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3CF1D5-70A3-4FC1-9BC2-0DF2656ABA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20A681-3A57-4FE4-8B00-B51557F1E5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F7A54D-3C28-4DD5-85A3-E62B914CFC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EC30F5-699E-4BDA-B6D7-F7BCCF45B0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A35ADA-CC36-4944-91F5-87113976F6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BDDBE-4EFB-47C1-B217-147CA69DD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06D21F-AB21-40AF-AAAB-0939B9A7D2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5581CA-3C59-4369-83A0-8D48E55852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337EFA-69E4-459E-9EC6-DFC3EE8BB7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6B6E3B-B014-405F-A566-DC280C76B9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9D8C4D-4EA5-4863-8DF4-61183C82D5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36983A-1CAE-4CEC-8F39-E5FCF70E2D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B877BD-C617-46A0-B955-5C671FEC2C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154120-5360-4CD9-82B6-D68AD08AD7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A6D9E3-9C65-43A1-8543-9B0B6C00B0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480AB1-25A3-4CC9-910E-33176A3F6A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F6EB8-4E1D-428D-8CF1-F081C0B77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91A649-E025-4078-B220-6AD5B50BA0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CEEA47-7789-4D19-9602-2F0A6B257C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17B336-C7D1-4D19-BB6E-524014F1EB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88BD93-4C92-4813-B62E-C6D4AD308E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9BF79E-BEDE-4E80-9838-02465849DA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9961B8-C686-4E69-B288-3E2E8DF7BC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812160-5DCE-4DA8-8AAA-46A50C7806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C139CA-D319-4187-92B5-25673C0E68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3D7735-E341-4322-A0B6-9C37E1EC58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545278-1C77-4A4D-ADF5-58DB781CB6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F6128-F711-4F12-994B-32F184EE9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CFCCE2-C400-4801-B5C2-9610EF2A4B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472ABC-B051-48ED-87D3-9F422F9A6C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73605C-1A2E-4568-B9B4-1359D10B4C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2AA1FC-7AFB-478B-B2E4-400B100452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CE6F09-7463-48F7-8FEA-4D6E04A174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EAEE04-0E6B-4710-8F96-99B91293AA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974E01-72A5-4E10-818E-94309B21C2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F9C8C9-F62A-4051-89EF-AA7D19C718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A4D2D4-E54B-4363-BA9E-589D3CA286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1D3C3C-369E-4C6F-B60D-1B0DFCE6F8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9B884-FC2F-4644-87A3-9E647BF14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CDF273-70C9-44E8-981A-1B68E42BB2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C3432F-6299-4DE4-AE25-27AE464DF7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8FF57B-CD09-436B-9ECF-5D9E517482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4F4772-5DBE-40AB-A1CD-E219DD9D06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4622E4-3273-4875-B86E-0E41B05C77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53861D-D514-401C-B5BD-40D7822C69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38FD89-8AA7-43BB-ADB3-F91560559C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7F4478-5E2B-4637-AF80-171AB7009A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B81C4A-2628-4049-9CF2-D39E27B3A6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426F85-AA26-4895-95D6-A292950F10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30125-1DFE-4FCF-BC68-A075E4C0A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733B18-3A90-4B19-8AD5-12DA5271A4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4F72BC-83BE-4F88-A6FF-C1383F1CA4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0F1BA0-B537-4C31-AE1B-95A8C7433B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38461E-6853-4C80-9D36-FF2FEC2917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BA7E6B-7FC4-4715-B322-4C91CA55E6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8B047-5614-4713-92BB-7A7D828D93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09D45-6B42-40BF-B204-3B5D62D58367}" type="slidenum">
              <a:rPr b="0" lang="nl-NL" sz="1000" spc="-1" strike="noStrike">
                <a:solidFill>
                  <a:srgbClr val="073e87"/>
                </a:solidFill>
                <a:latin typeface="Tahoma"/>
              </a:rPr>
              <a:t>&lt;number&gt;</a:t>
            </a:fld>
            <a:endParaRPr b="0" lang="en-US" sz="1000" spc="-1" strike="noStrike">
              <a:solidFill>
                <a:srgbClr val="000000"/>
              </a:solidFill>
              <a:latin typeface="Tahoma"/>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53AD1-DB96-4250-8B55-28DFC72E0BBD}" type="slidenum">
              <a:rPr b="0" lang="nl-NL" sz="1000" spc="-1" strike="noStrike">
                <a:solidFill>
                  <a:srgbClr val="073e87"/>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007BA-46F4-4908-A57C-8DB970202D18}" type="slidenum">
              <a:rPr b="0" lang="nl-NL" sz="1000" spc="-1" strike="noStrike">
                <a:solidFill>
                  <a:srgbClr val="073e87"/>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292CD-2C2F-4BA0-AB12-6A59BFE74591}" type="slidenum">
              <a:rPr b="0" lang="nl-NL" sz="1000" spc="-1" strike="noStrike">
                <a:solidFill>
                  <a:srgbClr val="073e87"/>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05A39-0AB2-4120-9508-3E26D79B93E1}" type="slidenum">
              <a:rPr b="0" lang="nl-NL" sz="1000" spc="-1" strike="noStrike">
                <a:solidFill>
                  <a:srgbClr val="073e87"/>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6E861-9FB5-40A2-891D-B2538F8A95E0}" type="slidenum">
              <a:rPr b="0" lang="nl-NL" sz="1000" spc="-1" strike="noStrike">
                <a:solidFill>
                  <a:srgbClr val="073e87"/>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8FD3E-2C4D-47ED-BE0E-64095000335E}" type="slidenum">
              <a:rPr b="0" lang="nl-NL" sz="1000" spc="-1" strike="noStrike">
                <a:solidFill>
                  <a:srgbClr val="073e87"/>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Tijdelijke aanduiding voor inhoud 3" descr=""/>
          <p:cNvPicPr/>
          <p:nvPr/>
        </p:nvPicPr>
        <p:blipFill>
          <a:blip r:embed="rId1"/>
          <a:stretch/>
        </p:blipFill>
        <p:spPr>
          <a:xfrm>
            <a:off x="3503520" y="2421000"/>
            <a:ext cx="3052800" cy="3051000"/>
          </a:xfrm>
          <a:prstGeom prst="rect">
            <a:avLst/>
          </a:prstGeom>
          <a:ln w="0">
            <a:noFill/>
          </a:ln>
        </p:spPr>
      </p:pic>
      <p:sp>
        <p:nvSpPr>
          <p:cNvPr id="336" name="PlaceHolder 1"/>
          <p:cNvSpPr>
            <a:spLocks noGrp="1"/>
          </p:cNvSpPr>
          <p:nvPr>
            <p:ph type="title"/>
          </p:nvPr>
        </p:nvSpPr>
        <p:spPr>
          <a:xfrm>
            <a:off x="0" y="54900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Uitvoeren Verpleegkundige Interventies(hfdst 15)</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bserveren levert gegevens op voor de verpleegkundige beroepsuitoefening, die je verzamel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ze gegevens kunnen een signalerende uitwerking hebben:  het meten van een bloeddruk&gt; meting blijkt te hoo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Gevolg voor de zorgvrager: verandering bijv. van een therapie</a:t>
            </a:r>
            <a:endParaRPr b="0" lang="en-US" sz="2400" spc="-1" strike="noStrike">
              <a:solidFill>
                <a:srgbClr val="073e87"/>
              </a:solidFill>
              <a:latin typeface="Candara"/>
            </a:endParaRPr>
          </a:p>
        </p:txBody>
      </p:sp>
      <p:sp>
        <p:nvSpPr>
          <p:cNvPr id="36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Signaler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899640" y="1628280"/>
            <a:ext cx="7380360" cy="44974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it is het observeren en signaleren van veranderingen in de gezondheidstoestand en zorgbehoefte van de zorgvrag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ierbij gaat het om gegevens te meten en te registreren van veranderingen die zich voor doen, als deze afwijkt van het normal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oel hiervan is dat snel veranderende situaties onder controle gehouden kunnen word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an groot belang in dreigende situaties!</a:t>
            </a:r>
            <a:endParaRPr b="0" lang="en-US" sz="2400" spc="-1" strike="noStrike">
              <a:solidFill>
                <a:srgbClr val="073e87"/>
              </a:solidFill>
              <a:latin typeface="Candara"/>
            </a:endParaRPr>
          </a:p>
        </p:txBody>
      </p:sp>
      <p:sp>
        <p:nvSpPr>
          <p:cNvPr id="37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Monitoring(bewak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1332000" y="1557000"/>
            <a:ext cx="6804000" cy="3273480"/>
          </a:xfrm>
          <a:prstGeom prst="rect">
            <a:avLst/>
          </a:prstGeom>
          <a:noFill/>
          <a:ln w="0">
            <a:noFill/>
          </a:ln>
        </p:spPr>
        <p:txBody>
          <a:bodyPr anchor="t">
            <a:normAutofit fontScale="88000"/>
          </a:bodyPr>
          <a:p>
            <a:pPr marL="240120" indent="-2401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onitoring vindt plaats op meerdere en vaak afgesproken tijdstippen plaats, waarbij de verpleegkundige alert is op de verschillen in de gegevens.</a:t>
            </a:r>
            <a:endParaRPr b="0" lang="en-US" sz="2400" spc="-1" strike="noStrike">
              <a:solidFill>
                <a:srgbClr val="073e87"/>
              </a:solidFill>
              <a:latin typeface="Candara"/>
            </a:endParaRPr>
          </a:p>
          <a:p>
            <a:pPr marL="240120" indent="-2401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40120" indent="-2401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b. Zorgvrager heeft een Temperatuur meting om 08.00= 38*</a:t>
            </a:r>
            <a:endParaRPr b="0" lang="en-US" sz="2400" spc="-1" strike="noStrike">
              <a:solidFill>
                <a:srgbClr val="073e87"/>
              </a:solidFill>
              <a:latin typeface="Candara"/>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r>
              <a:rPr b="0" lang="nl-NL" sz="2400" spc="-1" strike="noStrike">
                <a:solidFill>
                  <a:srgbClr val="073e87"/>
                </a:solidFill>
                <a:latin typeface="Candara"/>
              </a:rPr>
              <a:t>om 09.00 40*</a:t>
            </a:r>
            <a:endParaRPr b="0" lang="en-US" sz="2400" spc="-1" strike="noStrike">
              <a:solidFill>
                <a:srgbClr val="073e87"/>
              </a:solidFill>
              <a:latin typeface="Candara"/>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r>
              <a:rPr b="0" lang="nl-NL" sz="2400" spc="-1" strike="noStrike">
                <a:solidFill>
                  <a:srgbClr val="073e87"/>
                </a:solidFill>
                <a:latin typeface="Candara"/>
              </a:rPr>
              <a:t>Jij hebt dit gemeten. Wat doe je dan?</a:t>
            </a:r>
            <a:endParaRPr b="0" lang="en-US" sz="2400" spc="-1" strike="noStrike">
              <a:solidFill>
                <a:srgbClr val="073e87"/>
              </a:solidFill>
              <a:latin typeface="Candara"/>
            </a:endParaRPr>
          </a:p>
        </p:txBody>
      </p:sp>
      <p:sp>
        <p:nvSpPr>
          <p:cNvPr id="3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539640" y="1413000"/>
            <a:ext cx="7740720" cy="47131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Gebruik standaard observatietechnieken en lijsten: gegevens worden zo  efficiënt verzameld en zijn op een overzichtelijke wijze beschikbaa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fspraak: Hoe vaak, wanneer en wat te doen bij afwijking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onitoring van lichamelijke verschijnselen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onitoring van gedrag: vb. delirium, Pg 131     </a:t>
            </a:r>
            <a:endParaRPr b="0" lang="en-US" sz="2400" spc="-1" strike="noStrike">
              <a:solidFill>
                <a:srgbClr val="073e87"/>
              </a:solidFill>
              <a:latin typeface="Candara"/>
            </a:endParaRPr>
          </a:p>
        </p:txBody>
      </p:sp>
      <p:sp>
        <p:nvSpPr>
          <p:cNvPr id="37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Monitoring: hoe?</a:t>
            </a:r>
            <a:endParaRPr b="0" lang="en-US" sz="4400" spc="-1" strike="noStrike">
              <a:solidFill>
                <a:srgbClr val="ffffff"/>
              </a:solidFill>
              <a:latin typeface="Candara"/>
            </a:endParaRPr>
          </a:p>
        </p:txBody>
      </p:sp>
      <p:pic>
        <p:nvPicPr>
          <p:cNvPr id="375" name="Afbeelding 3" descr=""/>
          <p:cNvPicPr/>
          <p:nvPr/>
        </p:nvPicPr>
        <p:blipFill>
          <a:blip r:embed="rId1"/>
          <a:stretch/>
        </p:blipFill>
        <p:spPr>
          <a:xfrm>
            <a:off x="6516720" y="3397320"/>
            <a:ext cx="2376360" cy="237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Tijdelijke aanduiding voor inhoud 4" descr=""/>
          <p:cNvPicPr/>
          <p:nvPr/>
        </p:nvPicPr>
        <p:blipFill>
          <a:blip r:embed="rId1"/>
          <a:stretch/>
        </p:blipFill>
        <p:spPr>
          <a:xfrm>
            <a:off x="900000" y="1052640"/>
            <a:ext cx="7301160" cy="5487840"/>
          </a:xfrm>
          <a:prstGeom prst="rect">
            <a:avLst/>
          </a:prstGeom>
          <a:ln w="0">
            <a:noFill/>
          </a:ln>
        </p:spPr>
      </p:pic>
      <p:sp>
        <p:nvSpPr>
          <p:cNvPr id="3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ttps://www.youtube.com/watch?v=xXV2cQk9m3U</a:t>
            </a:r>
            <a:endParaRPr b="0" lang="en-US" sz="2400" spc="-1" strike="noStrike">
              <a:solidFill>
                <a:srgbClr val="073e87"/>
              </a:solidFill>
              <a:latin typeface="Candara"/>
            </a:endParaRPr>
          </a:p>
        </p:txBody>
      </p:sp>
      <p:sp>
        <p:nvSpPr>
          <p:cNvPr id="37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Nieuwe ontwikkelingen monitor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900000" y="1413000"/>
            <a:ext cx="7408800" cy="345096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pleegkundigen rapporteren met als doel de belangrijkste feiten en gegevens over de zorgverlening en de zorgvrager vast te leggen en over te drag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chriftelijke en mondelinge rapportage vinden plaats in elke fase van het verpleegproces</a:t>
            </a:r>
            <a:endParaRPr b="0" lang="en-US" sz="2400" spc="-1" strike="noStrike">
              <a:solidFill>
                <a:srgbClr val="073e87"/>
              </a:solidFill>
              <a:latin typeface="Candara"/>
            </a:endParaRPr>
          </a:p>
        </p:txBody>
      </p:sp>
      <p:sp>
        <p:nvSpPr>
          <p:cNvPr id="38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Rapporter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826920" y="1700280"/>
            <a:ext cx="7382160" cy="442584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schrijvende methode: bijv. wat er in een bepaalde dienst gebeurd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Probleemgerichte methode volgens de SOAP</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harting by Exception</a:t>
            </a:r>
            <a:endParaRPr b="0" lang="en-US" sz="2400" spc="-1" strike="noStrike">
              <a:solidFill>
                <a:srgbClr val="073e87"/>
              </a:solidFill>
              <a:latin typeface="Candara"/>
            </a:endParaRPr>
          </a:p>
        </p:txBody>
      </p:sp>
      <p:sp>
        <p:nvSpPr>
          <p:cNvPr id="38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Schriftelijke rapportage:</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826920" y="1268280"/>
            <a:ext cx="7382160" cy="4353120"/>
          </a:xfrm>
          <a:prstGeom prst="rect">
            <a:avLst/>
          </a:prstGeom>
          <a:noFill/>
          <a:ln w="0">
            <a:noFill/>
          </a:ln>
        </p:spPr>
        <p:txBody>
          <a:bodyPr anchor="t">
            <a:normAutofit fontScale="81000"/>
          </a:bodyPr>
          <a:p>
            <a:pPr marL="220680" indent="-2206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 subjectieve gegevens verstrekt door de zorgvrager. Bijv. je schrijft op: dhr. heeft aangegeven pijn te hebben in zijn li-knie</a:t>
            </a:r>
            <a:endParaRPr b="0" lang="en-US" sz="2400" spc="-1" strike="noStrike">
              <a:solidFill>
                <a:srgbClr val="073e87"/>
              </a:solidFill>
              <a:latin typeface="Candara"/>
            </a:endParaRPr>
          </a:p>
          <a:p>
            <a:pPr marL="220680" indent="-220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20680" indent="-2206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 objectieve gegevens afkomstig van observaties/metingen van de VPK: Je registreert bijv. metingen als temp/pols  of: Dhr. heeft zich vanochtend zelfstandig insuline gespoten</a:t>
            </a:r>
            <a:endParaRPr b="0" lang="en-US" sz="2400" spc="-1" strike="noStrike">
              <a:solidFill>
                <a:srgbClr val="073e87"/>
              </a:solidFill>
              <a:latin typeface="Candara"/>
            </a:endParaRPr>
          </a:p>
          <a:p>
            <a:pPr marL="220680" indent="-2206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20680" indent="-2206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 Analyse van de subjectieve en objectieve gegevens: wat ga je opschrijven en wat niet</a:t>
            </a:r>
            <a:endParaRPr b="0" lang="en-US" sz="2400" spc="-1" strike="noStrike">
              <a:solidFill>
                <a:srgbClr val="073e87"/>
              </a:solidFill>
              <a:latin typeface="Candara"/>
            </a:endParaRPr>
          </a:p>
          <a:p>
            <a:pPr marL="220680" indent="-2206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20680" indent="-2206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P= Planning met behulp van deze gegevens</a:t>
            </a:r>
            <a:endParaRPr b="0" lang="en-US" sz="2400" spc="-1" strike="noStrike">
              <a:solidFill>
                <a:srgbClr val="073e87"/>
              </a:solidFill>
              <a:latin typeface="Candara"/>
            </a:endParaRPr>
          </a:p>
          <a:p>
            <a:pPr marL="220680" indent="-2206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SOAP</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harting by Exception (CBE): Hierbij wordt alleen maar vastgelegd wat afwijkt van het normale of wat gangbaar is.  In combinatie met standaard verpleegplannen en speciale lijsten en aan het bed. Bijv. op de Intensive Care</a:t>
            </a:r>
            <a:endParaRPr b="0" lang="en-US" sz="2400" spc="-1" strike="noStrike">
              <a:solidFill>
                <a:srgbClr val="073e87"/>
              </a:solidFill>
              <a:latin typeface="Candara"/>
            </a:endParaRPr>
          </a:p>
        </p:txBody>
      </p:sp>
      <p:sp>
        <p:nvSpPr>
          <p:cNvPr id="38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Interventies</a:t>
            </a:r>
            <a:endParaRPr b="0" lang="en-US" sz="4400" spc="-1" strike="noStrike">
              <a:solidFill>
                <a:srgbClr val="ffffff"/>
              </a:solidFill>
              <a:latin typeface="Candara"/>
            </a:endParaRPr>
          </a:p>
        </p:txBody>
      </p:sp>
      <p:grpSp>
        <p:nvGrpSpPr>
          <p:cNvPr id="338" name="Tijdelijke aanduiding voor inhoud 3"/>
          <p:cNvGrpSpPr/>
          <p:nvPr/>
        </p:nvGrpSpPr>
        <p:grpSpPr>
          <a:xfrm>
            <a:off x="1079640" y="2568600"/>
            <a:ext cx="6992640" cy="3663000"/>
            <a:chOff x="1079640" y="2568600"/>
            <a:chExt cx="6992640" cy="3663000"/>
          </a:xfrm>
        </p:grpSpPr>
        <p:sp>
          <p:nvSpPr>
            <p:cNvPr id="339" name="_s1028"/>
            <p:cNvSpPr/>
            <p:nvPr/>
          </p:nvSpPr>
          <p:spPr>
            <a:xfrm>
              <a:off x="2938680" y="2933640"/>
              <a:ext cx="3274560" cy="1525320"/>
            </a:xfrm>
            <a:custGeom>
              <a:avLst/>
              <a:gdLst>
                <a:gd name="textAreaLeft" fmla="*/ 0 w 3274560"/>
                <a:gd name="textAreaRight" fmla="*/ 3274920 w 3274560"/>
                <a:gd name="textAreaTop" fmla="*/ 0 h 1525320"/>
                <a:gd name="textAreaBottom" fmla="*/ 1525680 h 152532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cc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0" name="_s1029"/>
            <p:cNvSpPr/>
            <p:nvPr/>
          </p:nvSpPr>
          <p:spPr>
            <a:xfrm rot="3600000">
              <a:off x="5123160" y="2410920"/>
              <a:ext cx="1525320" cy="3274560"/>
            </a:xfrm>
            <a:custGeom>
              <a:avLst/>
              <a:gdLst>
                <a:gd name="textAreaLeft" fmla="*/ 0 w 1525320"/>
                <a:gd name="textAreaRight" fmla="*/ 1525680 w 1525320"/>
                <a:gd name="textAreaTop" fmla="*/ 0 h 3274560"/>
                <a:gd name="textAreaBottom" fmla="*/ 3274920 h 327456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0000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1" name="_s1030"/>
            <p:cNvSpPr/>
            <p:nvPr/>
          </p:nvSpPr>
          <p:spPr>
            <a:xfrm rot="7200000">
              <a:off x="5122800" y="3115080"/>
              <a:ext cx="1525320" cy="3274560"/>
            </a:xfrm>
            <a:custGeom>
              <a:avLst/>
              <a:gdLst>
                <a:gd name="textAreaLeft" fmla="*/ 0 w 1525320"/>
                <a:gd name="textAreaRight" fmla="*/ 1525680 w 1525320"/>
                <a:gd name="textAreaTop" fmla="*/ 0 h 3274560"/>
                <a:gd name="textAreaBottom" fmla="*/ 3274920 h 327456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3366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2" name="_s1031"/>
            <p:cNvSpPr/>
            <p:nvPr/>
          </p:nvSpPr>
          <p:spPr>
            <a:xfrm rot="10800000">
              <a:off x="2938680" y="4341600"/>
              <a:ext cx="3274560" cy="1525320"/>
            </a:xfrm>
            <a:custGeom>
              <a:avLst/>
              <a:gdLst>
                <a:gd name="textAreaLeft" fmla="*/ 0 w 3274560"/>
                <a:gd name="textAreaRight" fmla="*/ 3274920 w 3274560"/>
                <a:gd name="textAreaTop" fmla="*/ 0 h 1525320"/>
                <a:gd name="textAreaBottom" fmla="*/ 1525680 h 152532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3" name="_s1032"/>
            <p:cNvSpPr/>
            <p:nvPr/>
          </p:nvSpPr>
          <p:spPr>
            <a:xfrm rot="14400000">
              <a:off x="2503440" y="3114720"/>
              <a:ext cx="1525320" cy="3274560"/>
            </a:xfrm>
            <a:custGeom>
              <a:avLst/>
              <a:gdLst>
                <a:gd name="textAreaLeft" fmla="*/ 0 w 1525320"/>
                <a:gd name="textAreaRight" fmla="*/ 1525680 w 1525320"/>
                <a:gd name="textAreaTop" fmla="*/ 0 h 3274560"/>
                <a:gd name="textAreaBottom" fmla="*/ 3274920 h 327456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00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4" name="_s1033"/>
            <p:cNvSpPr/>
            <p:nvPr/>
          </p:nvSpPr>
          <p:spPr>
            <a:xfrm rot="18000000">
              <a:off x="2503800" y="2410200"/>
              <a:ext cx="1525320" cy="3274560"/>
            </a:xfrm>
            <a:custGeom>
              <a:avLst/>
              <a:gdLst>
                <a:gd name="textAreaLeft" fmla="*/ 0 w 1525320"/>
                <a:gd name="textAreaRight" fmla="*/ 1525680 w 1525320"/>
                <a:gd name="textAreaTop" fmla="*/ 0 h 3274560"/>
                <a:gd name="textAreaBottom" fmla="*/ 3274920 h 327456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99cc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5" name="_s1034"/>
            <p:cNvSpPr/>
            <p:nvPr/>
          </p:nvSpPr>
          <p:spPr>
            <a:xfrm>
              <a:off x="5409360" y="2951640"/>
              <a:ext cx="1220040" cy="568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Gegevens vezamelen</a:t>
              </a:r>
              <a:endParaRPr b="0" lang="en-US" sz="1200" spc="-1" strike="noStrike">
                <a:solidFill>
                  <a:srgbClr val="000000"/>
                </a:solidFill>
                <a:latin typeface="Tahoma"/>
              </a:endParaRPr>
            </a:p>
          </p:txBody>
        </p:sp>
        <p:sp>
          <p:nvSpPr>
            <p:cNvPr id="346" name="_s1035"/>
            <p:cNvSpPr/>
            <p:nvPr/>
          </p:nvSpPr>
          <p:spPr>
            <a:xfrm>
              <a:off x="1079640" y="4115880"/>
              <a:ext cx="1220040" cy="568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itvoeren van interventies.</a:t>
              </a:r>
              <a:endParaRPr b="0" lang="en-US" sz="1200" spc="-1" strike="noStrike">
                <a:solidFill>
                  <a:srgbClr val="000000"/>
                </a:solidFill>
                <a:latin typeface="Tahoma"/>
              </a:endParaRPr>
            </a:p>
          </p:txBody>
        </p:sp>
        <p:sp>
          <p:nvSpPr>
            <p:cNvPr id="347" name="_s1036"/>
            <p:cNvSpPr/>
            <p:nvPr/>
          </p:nvSpPr>
          <p:spPr>
            <a:xfrm>
              <a:off x="2522880" y="2951640"/>
              <a:ext cx="1220040" cy="568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valueren van zorg</a:t>
              </a:r>
              <a:endParaRPr b="0" lang="en-US" sz="1200" spc="-1" strike="noStrike">
                <a:solidFill>
                  <a:srgbClr val="000000"/>
                </a:solidFill>
                <a:latin typeface="Tahoma"/>
              </a:endParaRPr>
            </a:p>
          </p:txBody>
        </p:sp>
        <p:sp>
          <p:nvSpPr>
            <p:cNvPr id="348" name="_s1037"/>
            <p:cNvSpPr/>
            <p:nvPr/>
          </p:nvSpPr>
          <p:spPr>
            <a:xfrm>
              <a:off x="2522880" y="5280480"/>
              <a:ext cx="1220040" cy="568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lannen van interventies.</a:t>
              </a:r>
              <a:endParaRPr b="0" lang="en-US" sz="1200" spc="-1" strike="noStrike">
                <a:solidFill>
                  <a:srgbClr val="000000"/>
                </a:solidFill>
                <a:latin typeface="Tahoma"/>
              </a:endParaRPr>
            </a:p>
          </p:txBody>
        </p:sp>
        <p:sp>
          <p:nvSpPr>
            <p:cNvPr id="349" name="_s1038"/>
            <p:cNvSpPr/>
            <p:nvPr/>
          </p:nvSpPr>
          <p:spPr>
            <a:xfrm>
              <a:off x="6852240" y="4115880"/>
              <a:ext cx="1220040" cy="568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 Zorgproble-men vaststellen.</a:t>
              </a:r>
              <a:endParaRPr b="0" lang="en-US" sz="1200" spc="-1" strike="noStrike">
                <a:solidFill>
                  <a:srgbClr val="000000"/>
                </a:solidFill>
                <a:latin typeface="Tahoma"/>
              </a:endParaRPr>
            </a:p>
          </p:txBody>
        </p:sp>
        <p:sp>
          <p:nvSpPr>
            <p:cNvPr id="350" name="_s1039"/>
            <p:cNvSpPr/>
            <p:nvPr/>
          </p:nvSpPr>
          <p:spPr>
            <a:xfrm>
              <a:off x="5409360" y="5280480"/>
              <a:ext cx="1220040" cy="568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epalen van doelen</a:t>
              </a:r>
              <a:endParaRPr b="0" lang="en-US" sz="1200" spc="-1" strike="noStrike">
                <a:solidFill>
                  <a:srgbClr val="000000"/>
                </a:solidFill>
                <a:latin typeface="Tahoma"/>
              </a:endParaRPr>
            </a:p>
          </p:txBody>
        </p:sp>
        <p:sp>
          <p:nvSpPr>
            <p:cNvPr id="351" name="Text Box 2"/>
            <p:cNvSpPr/>
            <p:nvPr/>
          </p:nvSpPr>
          <p:spPr>
            <a:xfrm>
              <a:off x="3649680" y="4184640"/>
              <a:ext cx="1954800" cy="21564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et zorgproces.</a:t>
              </a:r>
              <a:endParaRPr b="0" lang="en-US" sz="12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900000" y="1773360"/>
            <a:ext cx="7408800" cy="345096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ees duidelijk, respectvol en zorgvuldi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Juiste datum en tijdstip</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slag sluit aan bij eerdere rapportag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nderteken met je volledige naam</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Gebruik een duidelijk handschrift en  correct taalgebruik</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Nooit inzage aan derden zoals de schoonmaker of thuis!</a:t>
            </a:r>
            <a:endParaRPr b="0" lang="en-US" sz="2400" spc="-1" strike="noStrike">
              <a:solidFill>
                <a:srgbClr val="073e87"/>
              </a:solidFill>
              <a:latin typeface="Candara"/>
            </a:endParaRPr>
          </a:p>
        </p:txBody>
      </p:sp>
      <p:sp>
        <p:nvSpPr>
          <p:cNvPr id="38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Aandachtspunten bij rapportage en overdracht:</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871560" y="2674440"/>
            <a:ext cx="7408800" cy="3451320"/>
          </a:xfrm>
          <a:prstGeom prst="rect">
            <a:avLst/>
          </a:prstGeom>
          <a:noFill/>
          <a:ln w="0">
            <a:noFill/>
          </a:ln>
        </p:spPr>
        <p:txBody>
          <a:bodyPr anchor="t">
            <a:normAutofit fontScale="91000"/>
          </a:bodyPr>
          <a:p>
            <a:pPr marL="248040" indent="-2480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15/1 Late dienst:</a:t>
            </a:r>
            <a:endParaRPr b="0" lang="en-US" sz="2400" spc="-1" strike="noStrike">
              <a:solidFill>
                <a:srgbClr val="073e87"/>
              </a:solidFill>
              <a:latin typeface="Candara"/>
            </a:endParaRPr>
          </a:p>
          <a:p>
            <a:pPr marL="248040" indent="-24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w belde vanavond voor de po. Klaagde erover dat haar li-knie pijn deed. Er was niks aan te zien. Ik denk dat ze overdrijft en alleen maar aandacht vraagt.</a:t>
            </a:r>
            <a:endParaRPr b="0" lang="en-US" sz="2400" spc="-1" strike="noStrike">
              <a:solidFill>
                <a:srgbClr val="073e87"/>
              </a:solidFill>
              <a:latin typeface="Candara"/>
            </a:endParaRPr>
          </a:p>
          <a:p>
            <a:pPr marL="248040" indent="-24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48040" indent="-24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Rina</a:t>
            </a:r>
            <a:endParaRPr b="0" lang="en-US" sz="2400" spc="-1" strike="noStrike">
              <a:solidFill>
                <a:srgbClr val="073e87"/>
              </a:solidFill>
              <a:latin typeface="Candara"/>
            </a:endParaRPr>
          </a:p>
          <a:p>
            <a:pPr marL="248040" indent="-24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48040" indent="-24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Candara"/>
              </a:rPr>
              <a:t>Wat is goed en wat is fout aan deze rapportage???</a:t>
            </a:r>
            <a:endParaRPr b="0" lang="en-US" sz="2400" spc="-1" strike="noStrike">
              <a:solidFill>
                <a:srgbClr val="073e87"/>
              </a:solidFill>
              <a:latin typeface="Candara"/>
            </a:endParaRPr>
          </a:p>
        </p:txBody>
      </p:sp>
      <p:sp>
        <p:nvSpPr>
          <p:cNvPr id="39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oorbeeld rapportage goed/fout:</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899640" y="1773000"/>
            <a:ext cx="7380360" cy="4352760"/>
          </a:xfrm>
          <a:prstGeom prst="rect">
            <a:avLst/>
          </a:prstGeom>
          <a:noFill/>
          <a:ln w="0">
            <a:noFill/>
          </a:ln>
        </p:spPr>
        <p:txBody>
          <a:bodyPr anchor="t">
            <a:normAutofit fontScale="98000"/>
          </a:bodyPr>
          <a:p>
            <a:pPr marL="267120" indent="-2671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ie: Van collega naar Collega / naar andere disciplines zoals een arts/familie</a:t>
            </a:r>
            <a:endParaRPr b="0" lang="en-US" sz="2400" spc="-1" strike="noStrike">
              <a:solidFill>
                <a:srgbClr val="073e87"/>
              </a:solidFill>
              <a:latin typeface="Candara"/>
            </a:endParaRPr>
          </a:p>
          <a:p>
            <a:pPr marL="267120" indent="-2671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nneer: Van dienst naar dienst dag naar late dienst</a:t>
            </a:r>
            <a:endParaRPr b="0" lang="en-US" sz="2400" spc="-1" strike="noStrike">
              <a:solidFill>
                <a:srgbClr val="073e87"/>
              </a:solidFill>
              <a:latin typeface="Candara"/>
            </a:endParaRPr>
          </a:p>
          <a:p>
            <a:pPr marL="267120" indent="-2671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j overplaatsing naar een andere afdeling</a:t>
            </a:r>
            <a:endParaRPr b="0" lang="en-US" sz="2400" spc="-1" strike="noStrike">
              <a:solidFill>
                <a:srgbClr val="073e87"/>
              </a:solidFill>
              <a:latin typeface="Candara"/>
            </a:endParaRPr>
          </a:p>
          <a:p>
            <a:pPr marL="267120" indent="-2671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org dat je goed geïnformeerd bent als je dit doet</a:t>
            </a:r>
            <a:endParaRPr b="0" lang="en-US" sz="2400" spc="-1" strike="noStrike">
              <a:solidFill>
                <a:srgbClr val="073e87"/>
              </a:solidFill>
              <a:latin typeface="Candara"/>
            </a:endParaRPr>
          </a:p>
          <a:p>
            <a:pPr marL="267120" indent="-2671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eestal aanvulling op de schriftelijke rapportage</a:t>
            </a:r>
            <a:endParaRPr b="0" lang="en-US" sz="2400" spc="-1" strike="noStrike">
              <a:solidFill>
                <a:srgbClr val="073e87"/>
              </a:solidFill>
              <a:latin typeface="Candara"/>
            </a:endParaRPr>
          </a:p>
          <a:p>
            <a:pPr marL="267120" indent="-2671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andachtspunten idem als bij schriftelijke rapportage</a:t>
            </a:r>
            <a:endParaRPr b="0" lang="en-US" sz="2400" spc="-1" strike="noStrike">
              <a:solidFill>
                <a:srgbClr val="073e87"/>
              </a:solidFill>
              <a:latin typeface="Candara"/>
            </a:endParaRPr>
          </a:p>
        </p:txBody>
      </p:sp>
      <p:sp>
        <p:nvSpPr>
          <p:cNvPr id="39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Mondelinge rapportage</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900000" y="1483920"/>
            <a:ext cx="7408800" cy="3451320"/>
          </a:xfrm>
          <a:prstGeom prst="rect">
            <a:avLst/>
          </a:prstGeom>
          <a:noFill/>
          <a:ln w="0">
            <a:noFill/>
          </a:ln>
        </p:spPr>
        <p:txBody>
          <a:bodyPr anchor="t">
            <a:normAutofit fontScale="99000"/>
          </a:bodyPr>
          <a:p>
            <a:pPr marL="270000" indent="-2700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orgvrager heeft recht op inzage verpleegkundig en medisch dossier: Wet op de geneeskundige behandelingsovereenkomst(WGBO). Je moet kunnen uitleggen wat je precies hebt opgeschreven en waarom</a:t>
            </a:r>
            <a:endParaRPr b="0" lang="en-US" sz="2400" spc="-1" strike="noStrike">
              <a:solidFill>
                <a:srgbClr val="073e87"/>
              </a:solidFill>
              <a:latin typeface="Candara"/>
            </a:endParaRPr>
          </a:p>
          <a:p>
            <a:pPr marL="270000" indent="-2700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et bescherming persoonsgegevens: hierin zijn regels vastgelegd over het  verzamelen en bewaren van gegevens over personen</a:t>
            </a:r>
            <a:endParaRPr b="0" lang="en-US" sz="2400" spc="-1" strike="noStrike">
              <a:solidFill>
                <a:srgbClr val="073e87"/>
              </a:solidFill>
              <a:latin typeface="Candara"/>
            </a:endParaRPr>
          </a:p>
          <a:p>
            <a:pPr marL="270000" indent="-2700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Candara"/>
              </a:rPr>
              <a:t>WGBO/Wet bescherming persoonsgegevens</a:t>
            </a:r>
            <a:endParaRPr b="0" lang="en-US" sz="3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pic>
        <p:nvPicPr>
          <p:cNvPr id="397" name="Tijdelijke aanduiding voor inhoud 3" descr=""/>
          <p:cNvPicPr/>
          <p:nvPr/>
        </p:nvPicPr>
        <p:blipFill>
          <a:blip r:embed="rId1"/>
          <a:stretch/>
        </p:blipFill>
        <p:spPr>
          <a:xfrm>
            <a:off x="1403280" y="765000"/>
            <a:ext cx="5948280" cy="5073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pic>
        <p:nvPicPr>
          <p:cNvPr id="399" name="Tijdelijke aanduiding voor inhoud 3" descr=""/>
          <p:cNvPicPr/>
          <p:nvPr/>
        </p:nvPicPr>
        <p:blipFill>
          <a:blip r:embed="rId1"/>
          <a:stretch/>
        </p:blipFill>
        <p:spPr>
          <a:xfrm>
            <a:off x="2484360" y="779400"/>
            <a:ext cx="4287960" cy="428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is een verpleegkundige interventie ook al weer?</a:t>
            </a:r>
            <a:endParaRPr b="0" lang="en-US" sz="2400" spc="-1" strike="noStrike">
              <a:solidFill>
                <a:srgbClr val="073e87"/>
              </a:solidFill>
              <a:latin typeface="Candara"/>
            </a:endParaRPr>
          </a:p>
        </p:txBody>
      </p:sp>
      <p:sp>
        <p:nvSpPr>
          <p:cNvPr id="3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pic>
        <p:nvPicPr>
          <p:cNvPr id="354" name="Afbeelding 3" descr=""/>
          <p:cNvPicPr/>
          <p:nvPr/>
        </p:nvPicPr>
        <p:blipFill>
          <a:blip r:embed="rId1"/>
          <a:stretch/>
        </p:blipFill>
        <p:spPr>
          <a:xfrm>
            <a:off x="3059280" y="3270240"/>
            <a:ext cx="3528720" cy="272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pleegkundige interventies zijn gebaseerd op verpleegkundige diagnoses en zorgresultaten, maar ook op behandel resultaten van andere disciplines. Deze zijn ook wel afgeleide taken genoemd.</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andachtspunten bij het uitvoeren van verpleegkundige interventies zij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arnem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bserver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ignaler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Rapporteren</a:t>
            </a:r>
            <a:endParaRPr b="0" lang="en-US" sz="2400" spc="-1" strike="noStrike">
              <a:solidFill>
                <a:srgbClr val="073e87"/>
              </a:solidFill>
              <a:latin typeface="Candara"/>
            </a:endParaRPr>
          </a:p>
        </p:txBody>
      </p:sp>
      <p:sp>
        <p:nvSpPr>
          <p:cNvPr id="3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arnemen: selectief, objectief of subjectief</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is selectief, objectief, subjectief waarnemen?</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chrijf dit eens kort voor jezelf op.</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Waarnem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anchor="t">
            <a:normAutofit fontScale="92000"/>
          </a:bodyPr>
          <a:p>
            <a:pPr marL="250920" indent="-2509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electief waarnemen: je neemt niet alles waar. Alleen dat  wat je ‘nodig’ hebt, zul je waarnemen.</a:t>
            </a:r>
            <a:endParaRPr b="0" lang="en-US" sz="2400" spc="-1" strike="noStrike">
              <a:solidFill>
                <a:srgbClr val="073e87"/>
              </a:solidFill>
              <a:latin typeface="Candara"/>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50920" indent="-2509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bjectief waarnemen: is het waarnemen en het verzamelen van feiten zonder oordeel</a:t>
            </a:r>
            <a:endParaRPr b="0" lang="en-US" sz="2400" spc="-1" strike="noStrike">
              <a:solidFill>
                <a:srgbClr val="073e87"/>
              </a:solidFill>
              <a:latin typeface="Candara"/>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50920" indent="-2509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ubjectief waarnemen: is het waarnemen op basis van je emoties, je persoon. Het is waarnemen met een ‘gekleurde’bril</a:t>
            </a:r>
            <a:endParaRPr b="0" lang="en-US" sz="2400" spc="-1" strike="noStrike">
              <a:solidFill>
                <a:srgbClr val="073e87"/>
              </a:solidFill>
              <a:latin typeface="Candara"/>
            </a:endParaRPr>
          </a:p>
          <a:p>
            <a:pPr marL="250920" indent="-2509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Waarnemen van 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Gedurende 1 minuut ga je iemand in deze les observeren. Je gebruikt al je zintuigen en je doet niets anders  dan waarnemen. Kijk op je horloge voor de tijd.</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chrijf op wat je hebt waargenomen en we bespreken dit klassikaal</a:t>
            </a:r>
            <a:endParaRPr b="0" lang="en-US" sz="24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Opdrachtje observer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j observeren is vooraf bekend wat je wilt gaan waarnemen en hoe je dat gaat do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Je doet dit selectief en objectief.</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b. : het observeren van een vochtbalans m.b.v. een observatielijst (pg 128)</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et observeren van een wond</a:t>
            </a:r>
            <a:endParaRPr b="0" lang="en-US" sz="24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Observer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2T13:58:38Z</dcterms:created>
  <dc:creator>LMARTIJN</dc:creator>
  <dc:description/>
  <dc:language>en-US</dc:language>
  <cp:lastModifiedBy>A.R. Niemeijer</cp:lastModifiedBy>
  <dcterms:modified xsi:type="dcterms:W3CDTF">2016-01-14T09:21:08Z</dcterms:modified>
  <cp:revision>105</cp:revision>
  <dc:subject/>
  <dc:title>Maken verpleegpla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