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6FF-BB56-4932-B6A5-378AC65C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301-9E82-4036-9042-B6F99245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076E5-5D94-4779-9077-41A66CD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037FE-318A-4636-AB66-6E3C292F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28C0B-F8D8-4DD1-9C5A-D530BC4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676F5-330B-439C-B7F5-5AE3D91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9ED5-8A36-47BC-A7DA-B1D454F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0F4D0-3115-4BAE-8557-ED7E888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8F4B0-975A-45EA-B582-97EEFE7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4D126-52EA-4B4A-B4B2-CE020231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E0A3A-9474-498C-977F-D41B8D5A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2A570-87F3-4012-9531-7BF19AC4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A60-0F06-409E-9376-C0750176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76478-BE7A-441D-8A14-E32257F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356A3-1A34-45CB-831F-DAF65327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4C496-8881-446E-AC8E-9FF614B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8B7A8-370B-413A-8777-BF97A459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28CE1-6B63-4939-A8C4-E3F37547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A2B8F-1358-4282-BF2E-386861D3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28EA5-D0F8-435D-9297-6D942B9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0C00F-4BD5-4F38-82D0-F3A89C9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5654F-C706-4C96-9F5B-B110A7A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6A556-13B3-4F37-840F-5FD398D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4ED-7C7A-4B18-B77D-91583F4C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A0C27-9578-4229-83FE-78E78CB5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DD8E27-5FAA-4DD2-A4FC-70A38403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59830-C5CE-4C61-92F4-E7216F96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EDD19C-E27A-4A8D-8826-25D554A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1A473E-FFFE-4D6B-8641-8E3892A4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825F42-AF32-4F76-B941-752D0B25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844529-E873-4260-A1E5-7C8C593B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6DCC48-37AF-4E72-A918-7E58439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7892C0-4523-40EC-B475-4F25490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3EB91-7469-441A-A950-7586247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AD3-E4E7-4225-9CA2-816BE52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315B98-5FAA-4F3F-833B-FA09D2E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213A88-CE35-426C-818C-67DD5E94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77252E-0714-46DF-A152-0275DB30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844-0B3F-4308-9C1D-48BA7B5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E91D-D7AD-406B-AA40-C612144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893-EF7A-4D1E-A9F7-FF3695E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21C-3DF9-4E39-B3A1-6DAD635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2D7A-93E3-4DC8-AF70-F11F1394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B59-65F6-41FE-9B56-E7A13BA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339-5503-4CD7-AE62-AC52B85B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A31-B9D5-45DF-B84E-A4C7603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1EC-0F3C-473E-AAA8-CDCC56B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59F7-82E6-42A7-A571-EF1A2AB3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15C-9A0E-4242-9EA4-207FA9B8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CCD4-DB10-4C8C-A294-12D877BD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DEF1-7B45-4C63-A11F-1808A06D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567C-515D-4A31-9E8E-5779087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E3C3-6B85-40A1-B31E-ACBE0D4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1655-760F-45A9-9320-6AE707D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E719-AA9F-49F3-BB55-A879183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1F1-7436-4A94-9633-76A4156C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6D57-974E-41EF-82AE-975E933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57E2-5EE2-4259-BD63-CCA1B12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9189-CD21-4D92-B48B-7469D9C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A534-8F99-4734-9DBF-EAD5E25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B6A4-F568-4652-933C-B2199268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1987-7A3F-4BD4-95E3-01609E0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EF12-CBFA-4EAF-89C9-A468D33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5BDA-C12F-4961-9776-45821F7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044D-DF3E-47A1-AC77-39042382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C499-820D-4EA3-97CF-B5485B3F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E7A-B2E2-49E9-9555-FB02ED7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EA4D-D2CA-4832-A42F-2E829D00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A226-AD59-4F85-8618-68CF8E8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C341-F1D0-402D-B86A-46EEEA58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599A-7728-456D-BE2B-E7E168C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E604-4341-465D-91C4-2B436A4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3E65-E1C0-4CB2-A6FB-238653E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C6FB-1813-44F3-8DFD-7C204C3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E6D2-B828-4AB3-8C86-C733DF1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7089-7D60-42A1-B1C7-E9CB63E3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09663-1D4D-4E02-A333-2CFCA8B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B38-2E93-4530-8289-DF7FEDE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B764-E657-4F3E-9EAE-F112556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3270-9C0E-4665-9B5A-4B8B4F5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DF64-22DA-4B0E-8B12-89C5798A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A94E-3EFC-42F9-9632-6CD7CC5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6121F-E66A-4A8F-A104-2BDAD52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1BCC-31D5-4C2F-9FCC-CCC2E62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E78A0-ECC3-4796-8936-4AAE766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7219-4867-45AA-8264-24E7E97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A706-CED7-4A23-BFDE-FF8311BA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8795-9C92-440C-AD78-C1035202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2BB-779E-4874-9BE8-FEC5D2AE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CD7F-5042-447D-86D6-0CB5C5D7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237D-57F6-4D56-8AB2-C784B680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95A8-91FB-40FB-8E0C-20D58B4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285DF-5A3E-4687-83A4-17B69A2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934A3-A17D-48C6-B97C-EB132C01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283B-4AC2-40ED-AB4B-BC053FA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2D06-7E42-4DCD-AE88-AF3EE8DB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295CB-226B-4CB7-87A0-5F44EBA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DCC1A-586C-4BA8-B048-88A70C8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62A3B-E592-4ED5-9944-C4769C1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A96-2A10-4952-BABB-14FC4A0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EB18-4C10-4AB7-908D-0491031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61E0-29C2-4DC4-AF92-DAE325A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A79A-ADED-4971-90EC-33ADB055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08C36-8468-49EC-B4DC-A8B75B6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6246-AC93-4633-9449-8A264985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AA19-483B-42DB-A6B1-2456198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F11F-4EDA-4503-B5BB-2F83B01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27EB-4817-4D9C-B650-E03DE69F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64CF-5A8F-43C4-87A5-E0D2CC78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9B50-6A6E-4BEE-AB4D-0A324F8C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400-512D-45C0-8521-A83A602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63E2-D056-4345-96E3-206E59A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9F62-8014-4BA0-93B7-B458748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E7479-2D12-4533-8E16-27ED95D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78A6-0240-4FF2-9301-48DF3043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C229-B826-4B97-BBCC-9C4ABEFE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F67D-9107-48FF-8A56-02D09BB0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4BFA-C97E-4523-A369-57DFF2B1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19521-731C-4643-A284-3F8EBD2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8823-A4E1-4C4B-87DE-208882D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CA81A-FB22-41F6-90A3-03C1F10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A16-2D95-4F6A-BB5A-F9AB8D9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EC16-E1EE-43D5-8586-7AFDCED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58FB-5526-4497-BFC0-C5EA2D73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F965-D6F6-4846-BC20-B68425F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D48A-A04B-4143-BE72-9236AFC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93787-D24D-48C0-A106-51D9B04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A5F26-B92D-4D31-95E9-A6CC631A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9D8EB-DBE9-426E-9147-48F3A513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7430A-671D-4C34-9A6C-1BA25E1F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68030-B8EC-4833-94B8-FEBEC60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AA2E8-E21E-4E6F-BC25-8DF1D0BA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A34-C613-4248-8F77-619DA8093C1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F3B-D1C2-42A4-A34D-E3F68A5C4DB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5B02-B496-4F1A-9EA5-6E246BF85A9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5EAA-306C-4664-B3CA-D79D4D6101B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1F5-867A-4E16-8606-B5CBAEF426B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316-0BBA-4C5B-AE00-E132E787BFC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866-73F1-4EC2-98F8-D99610FA5FA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8B6-9D9A-4E74-97E9-3BC97E9D0FD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924-AB55-40D6-8722-1817CB60050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017D-E213-4D92-8711-EA98B3318078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08A6-BCA3-4630-BD95-D2D122D2DD7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et verpleegkundig Proc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taat uit de volgende 6 stapp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aststellen van de verpleegkundige diagn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ormul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lann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itvo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alu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Diagram 1"/>
          <p:cNvGrpSpPr/>
          <p:nvPr/>
        </p:nvGrpSpPr>
        <p:grpSpPr>
          <a:xfrm>
            <a:off x="1476000" y="979200"/>
            <a:ext cx="6540120" cy="5088960"/>
            <a:chOff x="1476000" y="979200"/>
            <a:chExt cx="6540120" cy="5088960"/>
          </a:xfrm>
        </p:grpSpPr>
        <p:sp>
          <p:nvSpPr>
            <p:cNvPr id="576" name="_s1028"/>
            <p:cNvSpPr/>
            <p:nvPr/>
          </p:nvSpPr>
          <p:spPr>
            <a:xfrm>
              <a:off x="3214440" y="97920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_s1029"/>
            <p:cNvSpPr/>
            <p:nvPr/>
          </p:nvSpPr>
          <p:spPr>
            <a:xfrm rot="3600000">
              <a:off x="464760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0"/>
            <p:cNvSpPr/>
            <p:nvPr/>
          </p:nvSpPr>
          <p:spPr>
            <a:xfrm rot="7200000">
              <a:off x="4647600" y="260244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1031"/>
            <p:cNvSpPr/>
            <p:nvPr/>
          </p:nvSpPr>
          <p:spPr>
            <a:xfrm rot="10800000">
              <a:off x="3214440" y="342216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2"/>
            <p:cNvSpPr/>
            <p:nvPr/>
          </p:nvSpPr>
          <p:spPr>
            <a:xfrm rot="14400000">
              <a:off x="2198160" y="260280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1033"/>
            <p:cNvSpPr/>
            <p:nvPr/>
          </p:nvSpPr>
          <p:spPr>
            <a:xfrm rot="18000000">
              <a:off x="219816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_s1034"/>
            <p:cNvSpPr/>
            <p:nvPr/>
          </p:nvSpPr>
          <p:spPr>
            <a:xfrm>
              <a:off x="552528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_s1035"/>
            <p:cNvSpPr/>
            <p:nvPr/>
          </p:nvSpPr>
          <p:spPr>
            <a:xfrm>
              <a:off x="147600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_s1036"/>
            <p:cNvSpPr/>
            <p:nvPr/>
          </p:nvSpPr>
          <p:spPr>
            <a:xfrm>
              <a:off x="282564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_s1037"/>
            <p:cNvSpPr/>
            <p:nvPr/>
          </p:nvSpPr>
          <p:spPr>
            <a:xfrm>
              <a:off x="282564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_s1038"/>
            <p:cNvSpPr/>
            <p:nvPr/>
          </p:nvSpPr>
          <p:spPr>
            <a:xfrm>
              <a:off x="687492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_s1039"/>
            <p:cNvSpPr/>
            <p:nvPr/>
          </p:nvSpPr>
          <p:spPr>
            <a:xfrm>
              <a:off x="552528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"/>
            <p:cNvSpPr/>
            <p:nvPr/>
          </p:nvSpPr>
          <p:spPr>
            <a:xfrm>
              <a:off x="3879360" y="3149280"/>
              <a:ext cx="1828440" cy="374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1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570880" cy="2852640"/>
          </a:xfrm>
          <a:prstGeom prst="rect">
            <a:avLst/>
          </a:prstGeom>
          <a:ln w="0">
            <a:noFill/>
          </a:ln>
        </p:spPr>
      </p:pic>
      <p:sp>
        <p:nvSpPr>
          <p:cNvPr id="590" name="PIJL-OMHOOG 2"/>
          <p:cNvSpPr/>
          <p:nvPr/>
        </p:nvSpPr>
        <p:spPr>
          <a:xfrm>
            <a:off x="1071720" y="3286080"/>
            <a:ext cx="45720" cy="1000080"/>
          </a:xfrm>
          <a:prstGeom prst="upArrow">
            <a:avLst>
              <a:gd name="adj1" fmla="val 50000"/>
              <a:gd name="adj2" fmla="val 5033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IJL-OMHOOG 3"/>
          <p:cNvSpPr/>
          <p:nvPr/>
        </p:nvSpPr>
        <p:spPr>
          <a:xfrm>
            <a:off x="264312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IJL-OMHOOG 4"/>
          <p:cNvSpPr/>
          <p:nvPr/>
        </p:nvSpPr>
        <p:spPr>
          <a:xfrm>
            <a:off x="4214880" y="321480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IJL-OMHOOG 5"/>
          <p:cNvSpPr/>
          <p:nvPr/>
        </p:nvSpPr>
        <p:spPr>
          <a:xfrm>
            <a:off x="571500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IJL-OMLAAG 7"/>
          <p:cNvSpPr/>
          <p:nvPr/>
        </p:nvSpPr>
        <p:spPr>
          <a:xfrm>
            <a:off x="7286760" y="2214720"/>
            <a:ext cx="142920" cy="26431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IJL-LINKS 8"/>
          <p:cNvSpPr/>
          <p:nvPr/>
        </p:nvSpPr>
        <p:spPr>
          <a:xfrm>
            <a:off x="6572160" y="4786200"/>
            <a:ext cx="357120" cy="14292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kstvak 9"/>
          <p:cNvSpPr/>
          <p:nvPr/>
        </p:nvSpPr>
        <p:spPr>
          <a:xfrm>
            <a:off x="714240" y="4786200"/>
            <a:ext cx="5643720" cy="368280"/>
          </a:xfrm>
          <a:prstGeom prst="rect">
            <a:avLst/>
          </a:prstGeom>
          <a:solidFill>
            <a:srgbClr val="c0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2060"/>
                </a:solidFill>
                <a:latin typeface="Calibri"/>
              </a:rPr>
              <a:t>Kwaliteitscont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 in 2-tal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asus: Demente bejaarde man, 75 jaar, wordt opgenomen in het ziekenhuis wegens uitdrogingsverschijnselen en mijnheer heeft zich verwaarloosd. Jij moet de zorg in kaart breng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 zou je dit per stap kunnen do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preek klassikaal opdracht 2, pg 3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b9899"/>
                </a:solidFill>
                <a:latin typeface="Georgia"/>
              </a:rPr>
              <a:t>1. Verzamelen van gegevens.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gint bij opname en stopt bij ontsla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beste bron is de zorgvrager zel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 doe je door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ragen te stellen. (ook eventuele anderen!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ingen do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s en bevindingen van and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Feedback op eigen ervaringen/ bevindin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onderzoek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s het interpreteren en clusteren van de verzamelde gegeve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interpreteren gaat het om de waarde en betekenis. (Niet alles is relevan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clusteren gaat het om het ordenen. (Welke horen er bij elkaar? Bijv. in patronen van Gordon of de vier domein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Kwaliteitscontrol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vorige 2 fasen dienen gecontroleerd te worden op kwalitei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verzamelde gegevens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de gevonden gegevens te vertrouw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 gedurende langere tijd op de gevonden (belangrijke) verschijnselen. (treedt herhaling op?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er technieken om de verschijnselen met elkaar te vergelijk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er juiste conclusies getrokken? Is er juist gecluster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vragen bij de zorgvrager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Collegiaal consul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 en standaarden raadple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Keuz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et besluitvormingsproces is klaar wanneer een keuze is gemaak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is niet definitief, maar voorlopig. (De situatie van een zorgvrager veranderd steed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gaat dus steeds door met gegevens verzamelen, analyseren en het meten van de kwaliteit binnen het verpleegpro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8:45Z</dcterms:created>
  <dc:creator>ROEL</dc:creator>
  <dc:description/>
  <dc:language>en-US</dc:language>
  <cp:lastModifiedBy>A.R. Niemeijer</cp:lastModifiedBy>
  <dcterms:modified xsi:type="dcterms:W3CDTF">2015-10-02T07:51:09Z</dcterms:modified>
  <cp:revision>17</cp:revision>
  <dc:subject/>
  <dc:title>Hoe komt de verzorgende / verpleegkundige tot een besluit</dc:title>
</cp:coreProperties>
</file>