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7C94-1F2D-40F0-A91C-32CAE796DCC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0126-3C3D-441E-B416-6BDFB5EEA96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AE85-E417-461B-9F47-E71D18EBF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3091-AB0D-4A05-9F04-F2FC7CD05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1B6B-A9AF-4FAB-943A-23960C86E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C906-D7EF-4B84-B0C2-2B65148DC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550F-3A2A-49F2-9896-D051CA548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49301-A6E5-45AB-A710-DF8136D1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5620D-DBC3-472C-A4FA-40D07737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8EFF0-7952-4B4D-B0FB-5A2D7840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2CD49-8545-4AF8-80CC-42DC7C6C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A2349-2F75-40B5-BFE3-15F5B5EC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29F9-F396-42FF-83A6-344B81C5FF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CB0C5-B2F3-40FC-9627-EFDBF7D3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3B9D5-8399-4AE8-9EDC-3DE39B69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04F25-BC5A-4203-875F-07322F06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0B5BF-8EDA-44D3-9A00-5B6A1B6B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DC9B3-F094-4537-B5CF-EDED73D2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56276-5FD4-4F6C-A448-2C0205A0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D2773-3BD6-4D70-8DDA-0D96A757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0CDE-43F9-467C-8F5C-DBE6786D3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95B8-EBF7-4B18-BEEB-16597E7E2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911E-F347-40A0-8B3B-EC65B1933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F1FE-FAB2-4E8C-B0EC-E87DEA327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AD70-B733-4FE2-AB60-3E9C85585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5121-F17A-4400-A6A0-4181846D7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E407-869F-450F-AF62-FFAB7471EB5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Feedback als 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inde vlek, reflectie en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Reflecte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MCj03479130000[1]"/>
          <p:cNvPicPr/>
          <p:nvPr/>
        </p:nvPicPr>
        <p:blipFill>
          <a:blip r:embed="rId1"/>
          <a:stretch/>
        </p:blipFill>
        <p:spPr>
          <a:xfrm>
            <a:off x="1187280" y="1628640"/>
            <a:ext cx="11829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1773360"/>
            <a:ext cx="54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gen om te leren van interactie, samenwerking en communicatie met 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rpunten omzetten in effectiever gedr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oorvragen, ingaan op 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tisch zijn op jez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700360" y="1268280"/>
            <a:ext cx="2735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ijn optreden naar buiten, mijn gedrag, mijn motivatie, wat anderen van mij zien en wat aan mezelf bekend 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651640" y="1268280"/>
            <a:ext cx="2881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anderen zien maar waar ik mezelf niet van bewust ben. Soms onderdrukte en onbewuste gewoo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( blinde vle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627280" y="3789360"/>
            <a:ext cx="288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ik zelf ken maar wat ik niet aan anderen laat zien, wat ik camoufl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50920" y="26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 tijdens de Proe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796000" y="393372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iet bekend bij jezelf en bij anderen. Speelt zich af in het onderbewus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3640" y="1916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rije ruim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27640" y="177336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inde vl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ad breath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203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588000" y="4437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0" y="4762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http://nl.wikipedia.org/wiki/Johari-vens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87280" y="1413000"/>
            <a:ext cx="525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443640" y="1413000"/>
            <a:ext cx="1800360" cy="20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580000" y="3500280"/>
            <a:ext cx="266400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187280" y="4581360"/>
            <a:ext cx="43927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ruggeven hoe hij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ij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overko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eschrijf welk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</a:rPr>
              <a:t>concreet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gedrag van de ander je hebt waargen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lk effect zijn gedrag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p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voel geeft dat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drag roept dat op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ap maken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naar de 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erken je het gedrag wat ik benoemd he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lopt dit volgens j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at vind je erv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oe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gens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t gewenste gedrag eruit moet z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“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jij moet”  / “ik wil graag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Cj03342700000[1]"/>
          <p:cNvPicPr/>
          <p:nvPr/>
        </p:nvPicPr>
        <p:blipFill>
          <a:blip r:embed="rId1"/>
          <a:stretch/>
        </p:blipFill>
        <p:spPr>
          <a:xfrm>
            <a:off x="6372360" y="2852640"/>
            <a:ext cx="168588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>
            <a:off x="1042920" y="5877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1258560" y="587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04-03T16:05:12Z</dcterms:modified>
  <cp:revision>314</cp:revision>
  <dc:subject/>
  <dc:title>Verbindend Leren</dc:title>
</cp:coreProperties>
</file>