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4E8E-AAF7-4058-B3ED-6C449E03EDB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B6D0-5AEB-4837-9036-BA0D40C4DFE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3921-12D5-47F8-BE1D-1E3EDBF9B39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CAF9-8CC3-4826-910F-04B5F9F6EFFE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AE86-B1A3-4584-BABC-9B8795E8BF6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B541-9D99-45C3-B91E-3AC538C95F1E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E19C-56A8-4270-B0EE-0E55E2D101F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9144-CC3F-4D6C-8D26-A52527C763E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4D76-FBB0-490E-A12A-DC07E5D875F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6DCD-47B8-430C-BD0D-860B42924A9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53D5-5F09-4121-93D3-551ADF11599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4B1E-4091-4B19-AAEE-385805B116E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0353-86CE-41EF-AC24-224A7037746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AF19-2F6D-4EE3-9230-AEE9647D7F6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B0AE-9475-4FB9-8428-29C19252C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9E5F-7874-4E13-B35E-72F33A69B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0B52-2CB9-4662-82C4-095893CC3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8CDC-8899-4464-ADD0-A09267A7B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5FED-F22E-4400-93A6-D3BB1DA82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BB84-B00C-4A06-884A-163C10219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DA78-77F4-4DB4-99A3-ED467ACDC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1E4B-70A6-4948-83FB-464473092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A1BA-EDE3-43EC-96A9-83BE35801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D4D5-4AAA-466C-A873-716BC7676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4C78-860F-4DF1-BEC7-4603C66D8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6553-F92A-49F0-B549-DA9F647C4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69832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Schets van de ontwikk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800"/>
            <a:ext cx="535788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xaminering: een punt van aandach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ntwikkeling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rocesarchitectuur Examinering (P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90480" y="213372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Diplo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85800" y="2498760"/>
            <a:ext cx="7772400" cy="3079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Vrag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ster Kortrij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.Kortrijk@nordwincollege.n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7665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. Constatering van de 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Scheiding formatief en summatie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voering PvB’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Functioner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. Nieuwe wetgeving/ onderzoeksk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1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3319560" cy="2101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41528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. 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trouwen in de waarde van mbo-diploma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re verbetering van de examenkwaliteit, samenwerking met het bedrijfsle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o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1: Exameninstrumenten op or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2: Examenprocessen ‘in control’, duidelijke positi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3: Professionaliteit op orde: de betrokkenen bij de examinering zijn deskundi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Centrale examencommissie MBO &amp; locati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ie zitten hier in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at zijn hun taken en bevoegdhede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Voorstel van wet: taken en bevoegdhe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verduidelijkt en nadere eisen gesteld aan d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Opmerkingen inspecti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zicht op de kwaliteit van examin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niet duidelijk genoeg beleg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onafhankelijk gepositionee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hthoek 1"/>
          <p:cNvSpPr/>
          <p:nvPr/>
        </p:nvSpPr>
        <p:spPr>
          <a:xfrm>
            <a:off x="1187280" y="1701720"/>
            <a:ext cx="6624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479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 examencommissies Nordwin Colle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: Professionele en goed gepositioneerd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gangspunt: taken en bevoegdheden zo veel mogelijk op de loc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ling van taken en bevoegdhed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Nieuwe samenstelling examencommissies, benoemd door het CvB (voorzitter, secretaris, 2 mbo docenten, extern li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Beschrijving Examen Taken (BET'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Afbeelding 3" descr=""/>
          <p:cNvPicPr/>
          <p:nvPr/>
        </p:nvPicPr>
        <p:blipFill>
          <a:blip r:embed="rId2"/>
          <a:stretch/>
        </p:blipFill>
        <p:spPr>
          <a:xfrm>
            <a:off x="5638680" y="4925880"/>
            <a:ext cx="257184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85800" y="1720800"/>
            <a:ext cx="777240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Kaders 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85800" y="2421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Construeren en vas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685800" y="234936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Leren (bespreken examenp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77880" y="227664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Kortrijk, Ester</cp:lastModifiedBy>
  <cp:lastPrinted>2016-02-25T08:08:12Z</cp:lastPrinted>
  <dcterms:modified xsi:type="dcterms:W3CDTF">2016-02-25T08:58:23Z</dcterms:modified>
  <cp:revision>369</cp:revision>
  <dc:subject/>
  <dc:title>Verbindend Ler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/>
  </property>
</Properties>
</file>