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313E-37AB-4A10-A94F-1A0CEAE59D5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5783-D22D-42A7-A354-4277AB7F50C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439E-F98C-464C-B7FF-0DD2BA7C8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4ECB-AC7E-4902-9AD9-E4BA605B8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FD8E-EF8A-4AA5-B12D-76AEA96DD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6A81C-7F65-47DC-9D31-CDA9F2DC4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3F5E-434A-47C7-AD36-76FE7A6FD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865C-2E1A-4845-A1FC-F3BA94FA7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EBC9-52EE-446C-88B7-5159E2BA8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E65D-1F6D-4AC5-A5A6-EDBE3152E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369C-469D-4C69-9FCD-806650174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48455-357B-47EC-B990-F4090B90B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18C8-CAD2-48D3-989E-CAFC08C44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818A-9055-44FC-862E-CB0915E20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br>
              <a:rPr sz="32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hernieuwd beleid per 20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 MBO Nordwin College</a:t>
            </a:r>
            <a:br>
              <a:rPr sz="36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(voorbeel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Naam: Rinze Fokk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boortedatum: 12-06-196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ldig tot: 31-12-20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Afbeelding 5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1836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Interne) EVC assessor beoordeelt 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EVC assessor bouwt tegelijkertijd aan eigen experti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Bewijs materiaal voor eigen portfol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opnemen als bewijsmateria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Afbeelding 3" descr=""/>
          <p:cNvPicPr/>
          <p:nvPr/>
        </p:nvPicPr>
        <p:blipFill>
          <a:blip r:embed="rId1"/>
          <a:stretch/>
        </p:blipFill>
        <p:spPr>
          <a:xfrm>
            <a:off x="2195640" y="3645000"/>
            <a:ext cx="1215720" cy="151272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4" descr=""/>
          <p:cNvPicPr/>
          <p:nvPr/>
        </p:nvPicPr>
        <p:blipFill>
          <a:blip r:embed="rId2"/>
          <a:stretch/>
        </p:blipFill>
        <p:spPr>
          <a:xfrm>
            <a:off x="7020000" y="2265480"/>
            <a:ext cx="8762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osten EVC assess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85920" y="3009960"/>
            <a:ext cx="6572160" cy="2057400"/>
          </a:xfrm>
          <a:prstGeom prst="rect">
            <a:avLst/>
          </a:prstGeom>
          <a:ln w="0">
            <a:noFill/>
          </a:ln>
        </p:spPr>
      </p:pic>
      <p:sp>
        <p:nvSpPr>
          <p:cNvPr id="118" name="Tekstvak 1"/>
          <p:cNvSpPr/>
          <p:nvPr/>
        </p:nvSpPr>
        <p:spPr>
          <a:xfrm>
            <a:off x="6948360" y="27018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Intern tarie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voegd, Niet </a:t>
            </a:r>
            <a:r>
              <a:rPr b="1" lang="nl-NL" sz="1800" spc="-1" strike="noStrike">
                <a:solidFill>
                  <a:srgbClr val="003366"/>
                </a:solidFill>
                <a:latin typeface="Tahoma"/>
              </a:rPr>
              <a:t>(aantoonbaar) </a:t>
            </a: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aantal Pro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bevat onvoldoende be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expertise momen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ermelding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onvoldoende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tus op : “assessor in opleiding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Waarderend) audit of coach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aanvullen (binnen 1 jr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x onvoldoende = bespreken functioneren als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: zelf verantwoordelijk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BET indicatoren en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 x per 3 jaar laten toet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oetst 33% per j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apporteert Voldoende / Onvoldoend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eamlei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gesprek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Passend aantal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competent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dragen 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nemen expertisemomenten in scholingskal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terne c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geleiden in ontwikkel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melden voor tra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certificeerd Nordwin assessor (pasj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.b.v. eigen verantwoordelijkheid en P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Niet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(aantoonbaar)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vul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it gesprek 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( geen pasje meer en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Taak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 verwijderen uit Eduar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nieu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 en 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Uren en kos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3" descr=""/>
          <p:cNvPicPr/>
          <p:nvPr/>
        </p:nvPicPr>
        <p:blipFill>
          <a:blip r:embed="rId1"/>
          <a:stretch/>
        </p:blipFill>
        <p:spPr>
          <a:xfrm>
            <a:off x="4930920" y="1981080"/>
            <a:ext cx="35226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Recht doen aan studenten en bedrijfsl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bouw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orgen deskundigheid en bekwaamhei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aanton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Afbeelding 1" descr=""/>
          <p:cNvPicPr/>
          <p:nvPr/>
        </p:nvPicPr>
        <p:blipFill>
          <a:blip r:embed="rId1"/>
          <a:stretch/>
        </p:blipFill>
        <p:spPr>
          <a:xfrm>
            <a:off x="2268360" y="422100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Nieuw t.o.v. ou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externe certificering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kennistoets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langrijke rol P.O.P. (i.o.m. team, uit evaluaties, ontwikkeling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 ( portfolio in N@tschoo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kenbaarheid ( “Groene dilemma’s” i.p.v. algeme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schrijving Examen Taken (BET) i.p.v. model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voor intern gebru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Zelf verantwoordelijk voor aanbrengen meerwaarde en kwalite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erken met deskundige en bekwam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zetten tot zelfontwikkeling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( BET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professionalis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oslaten externe certific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udgettair verantwoord ( € en ur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uitstral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- /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tonen bekwaamheid en aanzetten tot l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lan, do, check, 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o.b.v. Indicatoren BET </a:t>
            </a:r>
            <a:r>
              <a:rPr b="0" lang="nl-NL" sz="1000" spc="-1" strike="noStrike">
                <a:solidFill>
                  <a:srgbClr val="003366"/>
                </a:solidFill>
                <a:latin typeface="Tahoma"/>
              </a:rPr>
              <a:t>(examineringmbo.nl)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ter beoordeling 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twikkeldoelen individueel en i.o. met team / examenburea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 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84360" y="260280"/>
          <a:ext cx="7772400" cy="59342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plicht per 3 j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orbeelden ter aanvu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de indicatoren 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xcel)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luidfragment (b.v. CG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afgenomen Proeven (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boe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ueel CV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pportage </a:t>
                      </a:r>
                      <a:r>
                        <a:rPr b="0" lang="nl-NL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a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xamencommis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ntwikkeldoelen en acties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flectie op artikel of bijeenkom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ontwikkeling(STARR)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edback aan / van coll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deo fragment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oordeling van kandidaat 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elname bewijs expertise dag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zorgen onderdeel expertise d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wijs van deelname intervi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werking van gedrags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scholingsbehoef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en -evaluatie op Pro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slag kennisto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functioner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beoordel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orbeelden afgenomen Proev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Bevoegd raken, bekwaam blij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dagen basistraining + 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ilmpje van jezelf (intro, beoordeling, rapportag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75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en CGI door 2 collega (senior) assessoren </a:t>
            </a:r>
            <a:r>
              <a:rPr b="1" lang="nl-NL" sz="1100" spc="-1" strike="noStrike">
                <a:solidFill>
                  <a:srgbClr val="003366"/>
                </a:solidFill>
                <a:latin typeface="Tahoma"/>
              </a:rPr>
              <a:t>( zelf zoeken!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Nordwin College + Gecertificeerd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oldoende Proeven ( 9 stuks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+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pertise bijeenkomsten ( minimaal 2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“voldoende” ( 1 x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Invest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92360" y="1773360"/>
          <a:ext cx="5753160" cy="914400"/>
        </p:xfrm>
        <a:graphic>
          <a:graphicData uri="http://schemas.openxmlformats.org/drawingml/2006/table">
            <a:tbl>
              <a:tblPr/>
              <a:tblGrid>
                <a:gridCol w="4676760"/>
                <a:gridCol w="1076400"/>
              </a:tblGrid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voegd rak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ren per ja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elname basis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menstellen portfol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flectie (eind)gesprek met collega’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"/>
          <p:cNvSpPr/>
          <p:nvPr/>
        </p:nvSpPr>
        <p:spPr>
          <a:xfrm>
            <a:off x="1620720" y="479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467000" y="3181320"/>
          <a:ext cx="6210000" cy="1714680"/>
        </p:xfrm>
        <a:graphic>
          <a:graphicData uri="http://schemas.openxmlformats.org/drawingml/2006/table">
            <a:tbl>
              <a:tblPr/>
              <a:tblGrid>
                <a:gridCol w="4572000"/>
                <a:gridCol w="523800"/>
                <a:gridCol w="523800"/>
                <a:gridCol w="590400"/>
              </a:tblGrid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kwaam blijven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enbesteding per 3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stellen leerdoel + reflectie ( 3 leerdoele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erken feedback van collega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sie / teambijeenkomst op “beoordelen”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jwonen expertise momenten ( verplicht 2 x per drie ja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V, overzicht Proeven, overige bewijsstuk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loaden bewijsmateria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al per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Hans Thalen</cp:lastModifiedBy>
  <cp:lastPrinted>2015-05-28T08:16:17Z</cp:lastPrinted>
  <dcterms:modified xsi:type="dcterms:W3CDTF">2016-02-18T08:30:54Z</dcterms:modified>
  <cp:revision>373</cp:revision>
  <dc:subject/>
  <dc:title>Verbindend Leren</dc:title>
</cp:coreProperties>
</file>