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474F-2021-4819-A5C5-8064B40D211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F936-F988-4F37-96ED-8191CB0DC2F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5549-B090-48ED-92F8-B6884C74A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56F4-2BAB-493B-986E-80131283A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E9691-5D25-42FD-B212-FAD7C7424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4362-613F-48DD-BF1A-4779BEB9B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DF21-CB56-44CC-B085-35A548366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84FC-13AB-4C6C-8E4F-4C6FFDFB1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7C52-7DED-44A2-BC26-4E6A9F0E3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AE27-6776-48DA-AC63-5279F9965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7B7D-1B55-42B8-8718-78B68D10B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F049-E5FC-4AB0-85F9-40DFC376B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E1F7-FE5B-4735-80E3-AD94EEFDA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B0F1-EB19-4B37-876A-41397C487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ijken naar jezelf: het programma in grote lij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op competenties; het verschil met vroe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eisen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eld van de assessor ; 6 competen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RR als reflectie- (en beoordelingsinstru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ventarisatie + en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MART maken van 2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ijken naar jezelf;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scriteria aanscherpen: concreet maken!!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bserveren d.m.v. WACK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efenen met STAR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lecht nieuws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eve van bekwaamhe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en deel : invulling o.b.v. vragen gro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portfolio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op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al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2-11-12T17:00:27Z</dcterms:modified>
  <cp:revision>314</cp:revision>
  <dc:subject/>
  <dc:title>Verbindend Leren</dc:title>
</cp:coreProperties>
</file>