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6437-180F-41D2-819A-17EF4470351E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42700-637C-48B6-AE51-FC90D3F66FA8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997F3-BBFA-4A62-8339-FACB57BA0A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C19DD-9AD9-4A64-83BB-2120DF4BB9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64726-84DA-4BB6-96ED-B8C46458C91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965A5-B474-45CD-809C-C7360DF2C9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5E2A6-C445-4F85-9B44-1C7EF8E8B2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436B3-7DB0-4050-9626-53749F1F62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8DCEB6-AC7F-46F0-8CC2-494AE4FE11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01D374-134F-4014-AD58-FDE51B5D8C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CC709-5255-4B5B-AA2C-43FAB9B3BE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3E2EC-F8A5-498A-A1A1-9AD632198A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3C1D3-E524-4854-8CFA-0F6AD87D0A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7DCA2-6B6E-4263-A438-EF57912D47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xamineringmbo.nl/thema-s-examinering/examentaken" TargetMode="Externa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Assessoren beleid</a:t>
            </a:r>
            <a:br>
              <a:rPr sz="3200"/>
            </a:br>
            <a:r>
              <a:rPr b="1" lang="nl-NL" sz="1200" spc="-1" strike="noStrike">
                <a:solidFill>
                  <a:srgbClr val="003366"/>
                </a:solidFill>
                <a:latin typeface="Tahoma"/>
              </a:rPr>
              <a:t>hernieuwd beleid per 2015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Assessor MBO Nordwin College</a:t>
            </a:r>
            <a:br>
              <a:rPr sz="3600"/>
            </a:br>
            <a:r>
              <a:rPr b="1" lang="nl-NL" sz="1200" spc="-1" strike="noStrike">
                <a:solidFill>
                  <a:srgbClr val="003366"/>
                </a:solidFill>
                <a:latin typeface="Tahoma"/>
              </a:rPr>
              <a:t>(voorbeeld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Naam: Rinze Fokkem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Geboortedatum: 12-06-196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3366"/>
                </a:solidFill>
                <a:latin typeface="Tahoma"/>
              </a:rPr>
              <a:t>Geldig tot: 31-12-20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Font typeface="Tahoma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Afbeelding 5" descr=""/>
          <p:cNvPicPr/>
          <p:nvPr/>
        </p:nvPicPr>
        <p:blipFill>
          <a:blip r:embed="rId1"/>
          <a:stretch/>
        </p:blipFill>
        <p:spPr>
          <a:xfrm>
            <a:off x="971640" y="2133720"/>
            <a:ext cx="18367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Kwaliteitscontrol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(Interne) EVC assessor beoordeelt portfol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EVC assessor bouwt tegelijkertijd aan eigen expertise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Bewijs materiaal voor eigen portfolio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33 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ing opnemen als bewijsmateria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4" name="Afbeelding 3" descr=""/>
          <p:cNvPicPr/>
          <p:nvPr/>
        </p:nvPicPr>
        <p:blipFill>
          <a:blip r:embed="rId1"/>
          <a:stretch/>
        </p:blipFill>
        <p:spPr>
          <a:xfrm>
            <a:off x="2195640" y="3645000"/>
            <a:ext cx="1215720" cy="1512720"/>
          </a:xfrm>
          <a:prstGeom prst="rect">
            <a:avLst/>
          </a:prstGeom>
          <a:ln w="0">
            <a:noFill/>
          </a:ln>
        </p:spPr>
      </p:pic>
      <p:pic>
        <p:nvPicPr>
          <p:cNvPr id="115" name="Afbeelding 4" descr=""/>
          <p:cNvPicPr/>
          <p:nvPr/>
        </p:nvPicPr>
        <p:blipFill>
          <a:blip r:embed="rId2"/>
          <a:stretch/>
        </p:blipFill>
        <p:spPr>
          <a:xfrm>
            <a:off x="7020000" y="2265480"/>
            <a:ext cx="87624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Kosten EVC assessor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7" name="Tijdelijke aanduiding voor inhoud 10" descr=""/>
          <p:cNvPicPr/>
          <p:nvPr/>
        </p:nvPicPr>
        <p:blipFill>
          <a:blip r:embed="rId1"/>
          <a:stretch/>
        </p:blipFill>
        <p:spPr>
          <a:xfrm>
            <a:off x="1285920" y="3009960"/>
            <a:ext cx="6572160" cy="2057400"/>
          </a:xfrm>
          <a:prstGeom prst="rect">
            <a:avLst/>
          </a:prstGeom>
          <a:ln w="0">
            <a:noFill/>
          </a:ln>
        </p:spPr>
      </p:pic>
      <p:sp>
        <p:nvSpPr>
          <p:cNvPr id="118" name="Tekstvak 1"/>
          <p:cNvSpPr/>
          <p:nvPr/>
        </p:nvSpPr>
        <p:spPr>
          <a:xfrm>
            <a:off x="6948360" y="2701800"/>
            <a:ext cx="13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Tahoma"/>
              </a:rPr>
              <a:t>Intern tarie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Bevoegd, Niet </a:t>
            </a:r>
            <a:r>
              <a:rPr b="1" lang="nl-NL" sz="1800" spc="-1" strike="noStrike">
                <a:solidFill>
                  <a:srgbClr val="003366"/>
                </a:solidFill>
                <a:latin typeface="Tahoma"/>
              </a:rPr>
              <a:t>(aantoonbaar) </a:t>
            </a: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voldoende aantal Proev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bevat onvoldoende bewij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voldoende expertise momen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Vermelding </a:t>
            </a: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onvoldoende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tatus op : “assessor in opleiding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(Waarderend) audit of coach 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aanvullen (binnen 1 jr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2 x onvoldoende = bespreken functioneren als ass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Rollen en verantwoordelijkheden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1341360"/>
            <a:ext cx="777240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ssessor: zelf verantwoordelijk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wijs BET indicatoren en leerdoe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1 x per 3 jaar laten toets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VC ass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Toetst 33% per ja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Rapporteert Voldoende / Onvoldoend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Teamlei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unctioneringsgesprek en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Passend aantal 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competente assesso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dragen 33 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nemen expertisemomenten in scholingskalend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terne coa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geleiden in ontwikkeltra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14360"/>
            <a:ext cx="77724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Trajec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126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melden voor train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ssessor in oplei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voeg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Gecertificeerd Nordwin assessor (pasj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lke drie jaar aanton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.b.v. eigen verantwoordelijkheid en PO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Niet </a:t>
            </a:r>
            <a:r>
              <a:rPr b="0" lang="nl-NL" sz="1400" spc="-1" strike="noStrike" u="sng">
                <a:solidFill>
                  <a:srgbClr val="003366"/>
                </a:solidFill>
                <a:uFillTx/>
                <a:latin typeface="Tahoma"/>
              </a:rPr>
              <a:t>(aantoonbaar) </a:t>
            </a: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vul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34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it gesprek </a:t>
            </a: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( geen pasje meer en </a:t>
            </a:r>
            <a:r>
              <a:rPr b="0" lang="nl-NL" sz="1400" spc="-1" strike="noStrike" u="sng">
                <a:solidFill>
                  <a:srgbClr val="003366"/>
                </a:solidFill>
                <a:uFillTx/>
                <a:latin typeface="Tahoma"/>
              </a:rPr>
              <a:t>Taak</a:t>
            </a:r>
            <a:r>
              <a:rPr b="0" lang="nl-NL" sz="1400" spc="-1" strike="noStrike">
                <a:solidFill>
                  <a:srgbClr val="003366"/>
                </a:solidFill>
                <a:latin typeface="Tahoma"/>
              </a:rPr>
              <a:t> verwijderen uit Eduarte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Assessoren belei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Hernieuw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z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voegd en 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waliteitscontro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Uren en kost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Rollen en verantwoordelijkhed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Traje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1" name="Afbeelding 3" descr=""/>
          <p:cNvPicPr/>
          <p:nvPr/>
        </p:nvPicPr>
        <p:blipFill>
          <a:blip r:embed="rId1"/>
          <a:stretch/>
        </p:blipFill>
        <p:spPr>
          <a:xfrm>
            <a:off x="4930920" y="1981080"/>
            <a:ext cx="352260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o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 u="sng">
                <a:solidFill>
                  <a:srgbClr val="003366"/>
                </a:solidFill>
                <a:uFillTx/>
                <a:latin typeface="Tahoma"/>
              </a:rPr>
              <a:t>Recht doen aan studenten en bedrijfslev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e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derbouw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orgen deskundigheid en bekwaamheid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waliteit aantonen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Afbeelding 1" descr=""/>
          <p:cNvPicPr/>
          <p:nvPr/>
        </p:nvPicPr>
        <p:blipFill>
          <a:blip r:embed="rId1"/>
          <a:stretch/>
        </p:blipFill>
        <p:spPr>
          <a:xfrm>
            <a:off x="2268360" y="4221000"/>
            <a:ext cx="129564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Nieuw t.o.v. ou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Geen externe certificering me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Geen kennistoets me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langrijke rol P.O.P. (i.o.m. team, uit evaluaties, ontwikkeling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orlopend aantonen ( portfolio in N@tschoo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Herkenbaarheid ( “Groene dilemma’s” i.p.v. algeme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schrijving Examen Taken (BET) i.p.v. model Prov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derdeel functionerings- en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asje voor intern gebrui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Zelf verantwoordelijk voor aanbrengen meerwaarde en kwalite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Opze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Werken met deskundige en bekwame assesso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zetten tot zelfontwikkeling </a:t>
            </a:r>
            <a:r>
              <a:rPr b="0" lang="nl-NL" sz="2000" spc="-1" strike="noStrike" u="sng">
                <a:solidFill>
                  <a:srgbClr val="ccccff"/>
                </a:solidFill>
                <a:uFillTx/>
                <a:latin typeface="Tahoma"/>
                <a:hlinkClick r:id="rId1"/>
              </a:rPr>
              <a:t>( BET 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derdeel professionalis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Doorlopend aanton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Loslaten externe certificer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udgettair verantwoord ( € en ure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waliteit uitstralen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N@tsch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unctionerings- /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Portfolio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Aantonen bekwaamheid en aanzetten tot ler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lan, do, check, ac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24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wijs o.b.v. Indicatoren BET </a:t>
            </a:r>
            <a:r>
              <a:rPr b="0" lang="nl-NL" sz="1000" spc="-1" strike="noStrike">
                <a:solidFill>
                  <a:srgbClr val="003366"/>
                </a:solidFill>
                <a:latin typeface="Tahoma"/>
              </a:rPr>
              <a:t>(examineringmbo.nl)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lke drie jaar ter beoordeling EVC ass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ntwikkeldoelen individueel en i.o. met team / examenbureau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 N@tsch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1" name=""/>
          <p:cNvGraphicFramePr/>
          <p:nvPr/>
        </p:nvGraphicFramePr>
        <p:xfrm>
          <a:off x="684360" y="260280"/>
          <a:ext cx="7772400" cy="593424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erplicht per 3 ja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Voorbeelden ter aanvulli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elfreflectie op de indicatoren </a:t>
                      </a: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excel) 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Geluidfragment (b.v. CGI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40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erzicht afgenomen Proeven (9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gboek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ctueel CV 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apportage </a:t>
                      </a:r>
                      <a:r>
                        <a:rPr b="0" lang="nl-NL" sz="16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aan</a:t>
                      </a: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examencommiss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ntwikkeldoelen en acties 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flectie op artikel of bijeenkom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578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elfreflectie op ontwikkeling(STARR) (3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eedback aan / van colleg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ideo fragment 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oordeling van kandidaat 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elname bewijs expertise dag 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zorgen onderdeel expertise da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4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ewijs van deelname intervis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39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itwerking van gedragsindic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4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verzicht scholingsbehoef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09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Zelfreflectie en -evaluatie op Proe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itslag kennistoe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4056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slag functioneringsgespr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  <a:tr h="33948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rslag beoordelingsgespre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6ef"/>
                    </a:solidFill>
                  </a:tcPr>
                </a:tc>
              </a:tr>
              <a:tr h="3355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oorbeelden afgenomen Proev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ecd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Bevoegd raken, bekwaam blijv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voeg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2 dagen basistraining + Assessor in Opleid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ilmpje van jezelf (intro, beoordeling, rapportag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275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en CGI door 2 collega (senior) assessoren </a:t>
            </a:r>
            <a:r>
              <a:rPr b="1" lang="nl-NL" sz="1100" spc="-1" strike="noStrike">
                <a:solidFill>
                  <a:srgbClr val="003366"/>
                </a:solidFill>
                <a:latin typeface="Tahoma"/>
              </a:rPr>
              <a:t>( zelf zoeken!)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asje Nordwin College + Gecertificeerd Assess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kwa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Voldoende Proeven ( 9 stuks per 3 ja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ortfolio + functionerings- en beoordelings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pertise bijeenkomsten ( minimaal 2 per 3 ja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ing “voldoende” ( 1 x per 3 ja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Invester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692360" y="1773360"/>
          <a:ext cx="5753160" cy="914400"/>
        </p:xfrm>
        <a:graphic>
          <a:graphicData uri="http://schemas.openxmlformats.org/drawingml/2006/table">
            <a:tbl>
              <a:tblPr/>
              <a:tblGrid>
                <a:gridCol w="4676760"/>
                <a:gridCol w="1076400"/>
              </a:tblGrid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evoegd rake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uren per ja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Deelname basis train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amenstellen portfoli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eflectie (eind)gesprek met collega’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88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Rectangle 1"/>
          <p:cNvSpPr/>
          <p:nvPr/>
        </p:nvSpPr>
        <p:spPr>
          <a:xfrm>
            <a:off x="1620720" y="479736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1467000" y="3181320"/>
          <a:ext cx="6210000" cy="1714680"/>
        </p:xfrm>
        <a:graphic>
          <a:graphicData uri="http://schemas.openxmlformats.org/drawingml/2006/table">
            <a:tbl>
              <a:tblPr/>
              <a:tblGrid>
                <a:gridCol w="4572000"/>
                <a:gridCol w="523800"/>
                <a:gridCol w="523800"/>
                <a:gridCol w="590400"/>
              </a:tblGrid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ekwaam blijven: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renbesteding per 3 ja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4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ar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ar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ar 3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stellen leerdoel + reflectie ( 3 leerdoelen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erwerken feedback van collega ( opti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tervisie / teambijeenkomst op “beoordelen” ( opti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jwonen expertise momenten ( verplicht 2 x per drie jaar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V, overzicht Proeven, overige bewijsstukke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4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ploaden bewijsmateriaal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 </a:t>
                      </a: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al per jaa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nl-NL" sz="11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b" marL="9360" marR="9360">
                    <a:lnL w="2880">
                      <a:solidFill>
                        <a:srgbClr val="000000"/>
                      </a:solidFill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Hans Thalen</cp:lastModifiedBy>
  <cp:lastPrinted>2015-05-28T08:16:17Z</cp:lastPrinted>
  <dcterms:modified xsi:type="dcterms:W3CDTF">2016-02-18T08:30:54Z</dcterms:modified>
  <cp:revision>373</cp:revision>
  <dc:subject/>
  <dc:title>Verbindend Leren</dc:title>
</cp:coreProperties>
</file>