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903072-8793-4C30-838E-9AE455830A53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68446-58E6-4E0E-AB24-E2CF1260C53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1484D-10AD-4FF9-A32A-AC14AF28E9E6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3553C-5480-4014-9120-4DAD34EDAFF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4DDA2-167F-48B7-858E-B8422F416C9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008D-4D3E-48D1-873C-E4B2519CEBB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CE6D-FC57-43B2-8EBE-B7424EFFD847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4249D-87A8-4AE3-A54D-8C35E00F7304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8D750-E3AC-4AD2-A6E7-EAC4F2DB417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4D699-20C9-4D74-8DA7-DBCFC6306E41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9A88C-3B5F-401E-AC98-979B03896FF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170A8-D483-4DCB-9815-3B6D0B9506BD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818C-19A7-4C63-9A82-3DFF5FD6F39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E3B1-85C6-4B26-8361-E0A0F2793B7A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A2F6C-FE66-45FE-AD66-97E68A06C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C8F08-0159-4A9E-9D2F-E2E486F7F7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FE00A-E372-4473-82F5-6E3635F4A8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77253-0455-4123-9F60-683444E6E4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7AD3A-936A-4A22-9C7F-DBEA6EB2E1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EBBB7-6572-469A-BF30-ECF0D17E95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FA1BF9-FCB1-4658-BFC0-AABD0D9E40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D2B12-E64F-4204-B528-15FDBC16A5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A8DB6-3EB4-499B-B8B9-D9DF6A2E20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8D953-0AE2-4E01-949E-6325B8B43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C057-83C0-42A4-9AD9-FE79805CC0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A72DC-0C50-4482-AFD7-E1656F681F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3357360"/>
            <a:ext cx="698328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Schets van de ontwikkel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800"/>
            <a:ext cx="5357880" cy="123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Examinering: een punt van aandacht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Ontwikkeling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Procesarchitectuur Examinering (P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9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90480" y="213372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Diplomer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826920" y="2205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685800" y="2498760"/>
            <a:ext cx="7772400" cy="3079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Vragen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ster Kortrij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.Kortrijk@nordwincollege.n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766520"/>
            <a:ext cx="77724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. Constatering van de 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Scheiding formatief en summatie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voering PvB’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Functioneren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. Nieuwe wetgeving/ onderzoekska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spectie van het Onder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1" descr=""/>
          <p:cNvPicPr/>
          <p:nvPr/>
        </p:nvPicPr>
        <p:blipFill>
          <a:blip r:embed="rId1"/>
          <a:stretch/>
        </p:blipFill>
        <p:spPr>
          <a:xfrm>
            <a:off x="5580000" y="3357720"/>
            <a:ext cx="3319560" cy="210168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415280" cy="9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Examinering: een punt van aandacht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. 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trouwen in de waarde van mbo-diploma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re verbetering van de examenkwaliteit, samenwerking met het bedrijfsleve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oe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1: Exameninstrumenten op or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2: Examenprocessen ‘in control’, duidelijke positi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70c0"/>
                </a:solidFill>
                <a:latin typeface="Tahoma"/>
              </a:rPr>
              <a:t>Lijn 3: Professionaliteit op orde: de betrokkenen bij de examinering zijn deskundi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0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85800" y="148428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Centrale examencommissie MBO &amp; locati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ie zitten hier in?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Wat zijn hun taken en bevoegdheden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Voorstel van wet: taken en bevoegdhede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verduidelijkt en nadere eisen gesteld aan de examencommiss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Tahoma"/>
              </a:rPr>
              <a:t>Opmerkingen inspectie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zicht op de kwaliteit van examiner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Taken niet duidelijk genoeg beleg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51"/>
              </a:spcBef>
              <a:buClr>
                <a:srgbClr val="00b05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b050"/>
                </a:solidFill>
                <a:latin typeface="Tahoma"/>
              </a:rPr>
              <a:t>Onvoldoende onafhankelijk gepositioneer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agenda mbo 2015-2020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Rechthoek 1"/>
          <p:cNvSpPr/>
          <p:nvPr/>
        </p:nvSpPr>
        <p:spPr>
          <a:xfrm>
            <a:off x="1187280" y="1701720"/>
            <a:ext cx="662472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push dir="u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9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87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Ontwikkelingen Examencommissie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479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 examencommissies Nordwin Colle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: Professionele en goed gepositioneerde examencommiss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Uitgangspunt: taken en bevoegdheden zo veel mogelijk op de loc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Verdeling van taken en bevoegdhed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b05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b050"/>
                </a:solidFill>
                <a:latin typeface="Tahoma"/>
              </a:rPr>
              <a:t>Nieuwe samenstelling examencommissies, benoemd door het CvB (voorzitter, secretaris, 2 mbo docenten, extern li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Beschrijving Examen Taken (BET's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9" name="Afbeelding 3" descr=""/>
          <p:cNvPicPr/>
          <p:nvPr/>
        </p:nvPicPr>
        <p:blipFill>
          <a:blip r:embed="rId2"/>
          <a:stretch/>
        </p:blipFill>
        <p:spPr>
          <a:xfrm>
            <a:off x="5638680" y="4925880"/>
            <a:ext cx="2571840" cy="182880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rocesarchitectuur Examinering </a:t>
            </a:r>
            <a:br>
              <a:rPr sz="3600"/>
            </a:b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685800" y="1720800"/>
            <a:ext cx="7772400" cy="307836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Kaders 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85800" y="242100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Construeren en vaststell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5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685800" y="234936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Leren (bespreken examenp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677880" y="2276640"/>
            <a:ext cx="7772400" cy="2266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Kortrijk, Ester</cp:lastModifiedBy>
  <cp:lastPrinted>2016-02-25T08:08:12Z</cp:lastPrinted>
  <dcterms:modified xsi:type="dcterms:W3CDTF">2016-02-25T08:58:23Z</dcterms:modified>
  <cp:revision>369</cp:revision>
  <dc:subject/>
  <dc:title>Verbindend Lere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haredWithUsers">
    <vt:lpwstr/>
  </property>
</Properties>
</file>